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271000" cy="701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14320" y="6613560"/>
            <a:ext cx="1230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fld id="{7CF9F5FA-3F04-422B-AA2D-79E04E45B937}" type="slidenum">
              <a:rPr b="0" i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921360" y="6629400"/>
            <a:ext cx="15238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2000"/>
              </a:lnSpc>
            </a:pPr>
            <a:fld id="{B5A4EFA4-B1ED-4751-AABA-8A87BC85B92A}" type="datetime"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7/30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14360" y="441360"/>
            <a:ext cx="1282680" cy="368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4920" y="0"/>
            <a:ext cx="9201240" cy="69325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6000" y="1206360"/>
            <a:ext cx="88390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11000"/>
              </a:lnSpc>
              <a:spcBef>
                <a:spcPts val="527"/>
              </a:spcBef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4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ir Pollution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4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otor Vehicle Emi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8320" y="503280"/>
            <a:ext cx="2556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749160" y="1676520"/>
            <a:ext cx="185580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xid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troge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NO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720960" y="876240"/>
            <a:ext cx="46022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trogen dioxide is the prominent one (it's the yellow-brown color in smo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x results from high temperature combustion processes, e.g. cars and ut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affect the respiratory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play a major role in atmos- pheric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all levels unchanged but transportation sources are clea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749160" y="1676520"/>
            <a:ext cx="960480" cy="145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d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P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20960" y="873000"/>
            <a:ext cx="46022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ng known as one of the worst toxics in commo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tted from gasoline additives, battery factories and non-ferrous sme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ffects various organs and can cause sterility and neurological impairment, e.g. retardation and behavior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fants and children especially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trol of mobile sources has been exceptionally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49160" y="1676520"/>
            <a:ext cx="22874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ticulat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P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720960" y="657360"/>
            <a:ext cx="44640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M10 is a general term for tiny airborne particles (under ten microns), e.g., dust, soot, smo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imary sources are fuel-burning plants and other industrial/ commerci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me are formed in the 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irritate the respiratory system and may also carry metals, sulfates, nitrat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me overall decreases seen but trends may be masked by meteorological chan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49160" y="1676520"/>
            <a:ext cx="165096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lfu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oxid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S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797280" y="496800"/>
            <a:ext cx="4395960" cy="605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term is used for a number of compounds containing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imarily caused by burning of coal, oil and various industri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can affect the respirato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react in the atmosphere to form acids, sulfates and sulf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bstantial reductions due to controls at the sources and through use of low sulfur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749160" y="1676520"/>
            <a:ext cx="1704960" cy="358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ten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557680" y="5413320"/>
            <a:ext cx="3557520" cy="1019160"/>
          </a:xfrm>
          <a:prstGeom prst="rect">
            <a:avLst/>
          </a:prstGeom>
          <a:noFill/>
          <a:ln w="12600">
            <a:solidFill>
              <a:srgbClr val="00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all, 54 million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ns from mobil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1990 (43% of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36720" y="595440"/>
            <a:ext cx="5905800" cy="4954680"/>
            <a:chOff x="2736720" y="595440"/>
            <a:chExt cx="5905800" cy="4954680"/>
          </a:xfrm>
        </p:grpSpPr>
        <p:sp>
          <p:nvSpPr>
            <p:cNvPr id="624" name=""/>
            <p:cNvSpPr/>
            <p:nvPr/>
          </p:nvSpPr>
          <p:spPr>
            <a:xfrm>
              <a:off x="3676680" y="1312920"/>
              <a:ext cx="4864320" cy="3759480"/>
            </a:xfrm>
            <a:custGeom>
              <a:avLst/>
              <a:gdLst/>
              <a:ahLst/>
              <a:rect l="0" t="0" r="r" b="b"/>
              <a:pathLst>
                <a:path w="13512" h="10443">
                  <a:moveTo>
                    <a:pt x="1935" y="351"/>
                  </a:moveTo>
                  <a:lnTo>
                    <a:pt x="1794" y="386"/>
                  </a:lnTo>
                  <a:lnTo>
                    <a:pt x="1583" y="457"/>
                  </a:lnTo>
                  <a:lnTo>
                    <a:pt x="1407" y="527"/>
                  </a:lnTo>
                  <a:lnTo>
                    <a:pt x="1231" y="632"/>
                  </a:lnTo>
                  <a:lnTo>
                    <a:pt x="1196" y="668"/>
                  </a:lnTo>
                  <a:lnTo>
                    <a:pt x="1125" y="738"/>
                  </a:lnTo>
                  <a:lnTo>
                    <a:pt x="1055" y="808"/>
                  </a:lnTo>
                  <a:lnTo>
                    <a:pt x="985" y="914"/>
                  </a:lnTo>
                  <a:lnTo>
                    <a:pt x="914" y="1019"/>
                  </a:lnTo>
                  <a:lnTo>
                    <a:pt x="914" y="1054"/>
                  </a:lnTo>
                  <a:lnTo>
                    <a:pt x="914" y="1089"/>
                  </a:lnTo>
                  <a:lnTo>
                    <a:pt x="879" y="1160"/>
                  </a:lnTo>
                  <a:lnTo>
                    <a:pt x="879" y="1230"/>
                  </a:lnTo>
                  <a:lnTo>
                    <a:pt x="879" y="1371"/>
                  </a:lnTo>
                  <a:lnTo>
                    <a:pt x="879" y="1406"/>
                  </a:lnTo>
                  <a:lnTo>
                    <a:pt x="879" y="1476"/>
                  </a:lnTo>
                  <a:lnTo>
                    <a:pt x="844" y="1582"/>
                  </a:lnTo>
                  <a:lnTo>
                    <a:pt x="774" y="1687"/>
                  </a:lnTo>
                  <a:lnTo>
                    <a:pt x="668" y="1757"/>
                  </a:lnTo>
                  <a:lnTo>
                    <a:pt x="633" y="1793"/>
                  </a:lnTo>
                  <a:lnTo>
                    <a:pt x="598" y="1828"/>
                  </a:lnTo>
                  <a:lnTo>
                    <a:pt x="492" y="1933"/>
                  </a:lnTo>
                  <a:lnTo>
                    <a:pt x="422" y="2039"/>
                  </a:lnTo>
                  <a:lnTo>
                    <a:pt x="387" y="2144"/>
                  </a:lnTo>
                  <a:lnTo>
                    <a:pt x="387" y="2215"/>
                  </a:lnTo>
                  <a:lnTo>
                    <a:pt x="387" y="2285"/>
                  </a:lnTo>
                  <a:lnTo>
                    <a:pt x="422" y="2390"/>
                  </a:lnTo>
                  <a:lnTo>
                    <a:pt x="457" y="2496"/>
                  </a:lnTo>
                  <a:lnTo>
                    <a:pt x="492" y="2601"/>
                  </a:lnTo>
                  <a:lnTo>
                    <a:pt x="527" y="2672"/>
                  </a:lnTo>
                  <a:lnTo>
                    <a:pt x="562" y="2777"/>
                  </a:lnTo>
                  <a:lnTo>
                    <a:pt x="562" y="2812"/>
                  </a:lnTo>
                  <a:lnTo>
                    <a:pt x="562" y="2847"/>
                  </a:lnTo>
                  <a:lnTo>
                    <a:pt x="527" y="2953"/>
                  </a:lnTo>
                  <a:lnTo>
                    <a:pt x="492" y="2988"/>
                  </a:lnTo>
                  <a:lnTo>
                    <a:pt x="457" y="3058"/>
                  </a:lnTo>
                  <a:lnTo>
                    <a:pt x="422" y="3093"/>
                  </a:lnTo>
                  <a:lnTo>
                    <a:pt x="387" y="3129"/>
                  </a:lnTo>
                  <a:lnTo>
                    <a:pt x="316" y="3199"/>
                  </a:lnTo>
                  <a:lnTo>
                    <a:pt x="211" y="3304"/>
                  </a:lnTo>
                  <a:lnTo>
                    <a:pt x="105" y="3445"/>
                  </a:lnTo>
                  <a:lnTo>
                    <a:pt x="70" y="3586"/>
                  </a:lnTo>
                  <a:lnTo>
                    <a:pt x="35" y="3691"/>
                  </a:lnTo>
                  <a:lnTo>
                    <a:pt x="35" y="3726"/>
                  </a:lnTo>
                  <a:lnTo>
                    <a:pt x="0" y="3832"/>
                  </a:lnTo>
                  <a:lnTo>
                    <a:pt x="0" y="3902"/>
                  </a:lnTo>
                  <a:lnTo>
                    <a:pt x="0" y="3937"/>
                  </a:lnTo>
                  <a:lnTo>
                    <a:pt x="35" y="4043"/>
                  </a:lnTo>
                  <a:lnTo>
                    <a:pt x="70" y="4078"/>
                  </a:lnTo>
                  <a:lnTo>
                    <a:pt x="105" y="4148"/>
                  </a:lnTo>
                  <a:lnTo>
                    <a:pt x="140" y="4183"/>
                  </a:lnTo>
                  <a:lnTo>
                    <a:pt x="175" y="4219"/>
                  </a:lnTo>
                  <a:lnTo>
                    <a:pt x="211" y="4254"/>
                  </a:lnTo>
                  <a:lnTo>
                    <a:pt x="246" y="4289"/>
                  </a:lnTo>
                  <a:lnTo>
                    <a:pt x="281" y="4359"/>
                  </a:lnTo>
                  <a:lnTo>
                    <a:pt x="281" y="4394"/>
                  </a:lnTo>
                  <a:lnTo>
                    <a:pt x="281" y="4430"/>
                  </a:lnTo>
                  <a:lnTo>
                    <a:pt x="281" y="4535"/>
                  </a:lnTo>
                  <a:lnTo>
                    <a:pt x="281" y="4570"/>
                  </a:lnTo>
                  <a:lnTo>
                    <a:pt x="246" y="4640"/>
                  </a:lnTo>
                  <a:lnTo>
                    <a:pt x="211" y="4711"/>
                  </a:lnTo>
                  <a:lnTo>
                    <a:pt x="175" y="4781"/>
                  </a:lnTo>
                  <a:lnTo>
                    <a:pt x="105" y="4922"/>
                  </a:lnTo>
                  <a:lnTo>
                    <a:pt x="70" y="5062"/>
                  </a:lnTo>
                  <a:lnTo>
                    <a:pt x="70" y="5203"/>
                  </a:lnTo>
                  <a:lnTo>
                    <a:pt x="70" y="5274"/>
                  </a:lnTo>
                  <a:lnTo>
                    <a:pt x="105" y="5345"/>
                  </a:lnTo>
                  <a:lnTo>
                    <a:pt x="140" y="5485"/>
                  </a:lnTo>
                  <a:lnTo>
                    <a:pt x="175" y="5591"/>
                  </a:lnTo>
                  <a:lnTo>
                    <a:pt x="211" y="5661"/>
                  </a:lnTo>
                  <a:lnTo>
                    <a:pt x="246" y="5731"/>
                  </a:lnTo>
                  <a:lnTo>
                    <a:pt x="316" y="5802"/>
                  </a:lnTo>
                  <a:lnTo>
                    <a:pt x="422" y="5942"/>
                  </a:lnTo>
                  <a:lnTo>
                    <a:pt x="492" y="5978"/>
                  </a:lnTo>
                  <a:lnTo>
                    <a:pt x="527" y="6013"/>
                  </a:lnTo>
                  <a:lnTo>
                    <a:pt x="562" y="6013"/>
                  </a:lnTo>
                  <a:lnTo>
                    <a:pt x="633" y="6048"/>
                  </a:lnTo>
                  <a:lnTo>
                    <a:pt x="598" y="6048"/>
                  </a:lnTo>
                  <a:lnTo>
                    <a:pt x="527" y="6083"/>
                  </a:lnTo>
                  <a:lnTo>
                    <a:pt x="492" y="6153"/>
                  </a:lnTo>
                  <a:lnTo>
                    <a:pt x="457" y="6224"/>
                  </a:lnTo>
                  <a:lnTo>
                    <a:pt x="422" y="6259"/>
                  </a:lnTo>
                  <a:lnTo>
                    <a:pt x="422" y="6294"/>
                  </a:lnTo>
                  <a:lnTo>
                    <a:pt x="387" y="6364"/>
                  </a:lnTo>
                  <a:lnTo>
                    <a:pt x="351" y="6435"/>
                  </a:lnTo>
                  <a:lnTo>
                    <a:pt x="281" y="6610"/>
                  </a:lnTo>
                  <a:lnTo>
                    <a:pt x="281" y="6751"/>
                  </a:lnTo>
                  <a:lnTo>
                    <a:pt x="281" y="6962"/>
                  </a:lnTo>
                  <a:lnTo>
                    <a:pt x="316" y="7103"/>
                  </a:lnTo>
                  <a:lnTo>
                    <a:pt x="351" y="7243"/>
                  </a:lnTo>
                  <a:lnTo>
                    <a:pt x="387" y="7419"/>
                  </a:lnTo>
                  <a:lnTo>
                    <a:pt x="457" y="7630"/>
                  </a:lnTo>
                  <a:lnTo>
                    <a:pt x="562" y="7806"/>
                  </a:lnTo>
                  <a:lnTo>
                    <a:pt x="633" y="7911"/>
                  </a:lnTo>
                  <a:lnTo>
                    <a:pt x="703" y="8017"/>
                  </a:lnTo>
                  <a:lnTo>
                    <a:pt x="809" y="8157"/>
                  </a:lnTo>
                  <a:lnTo>
                    <a:pt x="914" y="8298"/>
                  </a:lnTo>
                  <a:lnTo>
                    <a:pt x="1055" y="8439"/>
                  </a:lnTo>
                  <a:lnTo>
                    <a:pt x="1125" y="8474"/>
                  </a:lnTo>
                  <a:lnTo>
                    <a:pt x="1161" y="8509"/>
                  </a:lnTo>
                  <a:lnTo>
                    <a:pt x="1196" y="8544"/>
                  </a:lnTo>
                  <a:lnTo>
                    <a:pt x="1266" y="8579"/>
                  </a:lnTo>
                  <a:lnTo>
                    <a:pt x="1301" y="8614"/>
                  </a:lnTo>
                  <a:lnTo>
                    <a:pt x="1337" y="8650"/>
                  </a:lnTo>
                  <a:lnTo>
                    <a:pt x="1372" y="8685"/>
                  </a:lnTo>
                  <a:lnTo>
                    <a:pt x="1372" y="8720"/>
                  </a:lnTo>
                  <a:lnTo>
                    <a:pt x="1337" y="8755"/>
                  </a:lnTo>
                  <a:lnTo>
                    <a:pt x="1337" y="8825"/>
                  </a:lnTo>
                  <a:lnTo>
                    <a:pt x="1337" y="8931"/>
                  </a:lnTo>
                  <a:lnTo>
                    <a:pt x="1337" y="8966"/>
                  </a:lnTo>
                  <a:lnTo>
                    <a:pt x="1337" y="9036"/>
                  </a:lnTo>
                  <a:lnTo>
                    <a:pt x="1372" y="9142"/>
                  </a:lnTo>
                  <a:lnTo>
                    <a:pt x="1407" y="9247"/>
                  </a:lnTo>
                  <a:lnTo>
                    <a:pt x="1512" y="9388"/>
                  </a:lnTo>
                  <a:lnTo>
                    <a:pt x="1548" y="9458"/>
                  </a:lnTo>
                  <a:lnTo>
                    <a:pt x="1583" y="9493"/>
                  </a:lnTo>
                  <a:lnTo>
                    <a:pt x="1618" y="9529"/>
                  </a:lnTo>
                  <a:lnTo>
                    <a:pt x="1724" y="9634"/>
                  </a:lnTo>
                  <a:lnTo>
                    <a:pt x="1794" y="9704"/>
                  </a:lnTo>
                  <a:lnTo>
                    <a:pt x="1864" y="9740"/>
                  </a:lnTo>
                  <a:lnTo>
                    <a:pt x="1970" y="9810"/>
                  </a:lnTo>
                  <a:lnTo>
                    <a:pt x="2111" y="9880"/>
                  </a:lnTo>
                  <a:lnTo>
                    <a:pt x="2216" y="9915"/>
                  </a:lnTo>
                  <a:lnTo>
                    <a:pt x="2287" y="9950"/>
                  </a:lnTo>
                  <a:lnTo>
                    <a:pt x="2392" y="9986"/>
                  </a:lnTo>
                  <a:lnTo>
                    <a:pt x="2638" y="10056"/>
                  </a:lnTo>
                  <a:lnTo>
                    <a:pt x="2920" y="10126"/>
                  </a:lnTo>
                  <a:lnTo>
                    <a:pt x="3131" y="10161"/>
                  </a:lnTo>
                  <a:lnTo>
                    <a:pt x="3201" y="10161"/>
                  </a:lnTo>
                  <a:lnTo>
                    <a:pt x="3307" y="10161"/>
                  </a:lnTo>
                  <a:lnTo>
                    <a:pt x="3483" y="10197"/>
                  </a:lnTo>
                  <a:lnTo>
                    <a:pt x="3659" y="10232"/>
                  </a:lnTo>
                  <a:lnTo>
                    <a:pt x="3870" y="10302"/>
                  </a:lnTo>
                  <a:lnTo>
                    <a:pt x="3940" y="10337"/>
                  </a:lnTo>
                  <a:lnTo>
                    <a:pt x="4046" y="10372"/>
                  </a:lnTo>
                  <a:lnTo>
                    <a:pt x="4187" y="10408"/>
                  </a:lnTo>
                  <a:lnTo>
                    <a:pt x="4363" y="10443"/>
                  </a:lnTo>
                  <a:lnTo>
                    <a:pt x="4538" y="10443"/>
                  </a:lnTo>
                  <a:lnTo>
                    <a:pt x="4609" y="10443"/>
                  </a:lnTo>
                  <a:lnTo>
                    <a:pt x="4644" y="10443"/>
                  </a:lnTo>
                  <a:lnTo>
                    <a:pt x="4785" y="10372"/>
                  </a:lnTo>
                  <a:lnTo>
                    <a:pt x="4890" y="10302"/>
                  </a:lnTo>
                  <a:lnTo>
                    <a:pt x="4961" y="10232"/>
                  </a:lnTo>
                  <a:lnTo>
                    <a:pt x="4996" y="10161"/>
                  </a:lnTo>
                  <a:lnTo>
                    <a:pt x="5031" y="10126"/>
                  </a:lnTo>
                  <a:lnTo>
                    <a:pt x="5031" y="10091"/>
                  </a:lnTo>
                  <a:lnTo>
                    <a:pt x="5101" y="10056"/>
                  </a:lnTo>
                  <a:lnTo>
                    <a:pt x="5172" y="10021"/>
                  </a:lnTo>
                  <a:lnTo>
                    <a:pt x="5242" y="9986"/>
                  </a:lnTo>
                  <a:lnTo>
                    <a:pt x="5383" y="9950"/>
                  </a:lnTo>
                  <a:lnTo>
                    <a:pt x="5453" y="9950"/>
                  </a:lnTo>
                  <a:lnTo>
                    <a:pt x="5629" y="9915"/>
                  </a:lnTo>
                  <a:lnTo>
                    <a:pt x="5664" y="9915"/>
                  </a:lnTo>
                  <a:lnTo>
                    <a:pt x="5770" y="9915"/>
                  </a:lnTo>
                  <a:lnTo>
                    <a:pt x="6087" y="9880"/>
                  </a:lnTo>
                  <a:lnTo>
                    <a:pt x="6368" y="9880"/>
                  </a:lnTo>
                  <a:lnTo>
                    <a:pt x="6685" y="9915"/>
                  </a:lnTo>
                  <a:lnTo>
                    <a:pt x="6827" y="9915"/>
                  </a:lnTo>
                  <a:lnTo>
                    <a:pt x="6967" y="9915"/>
                  </a:lnTo>
                  <a:lnTo>
                    <a:pt x="7319" y="9950"/>
                  </a:lnTo>
                  <a:lnTo>
                    <a:pt x="7636" y="9950"/>
                  </a:lnTo>
                  <a:lnTo>
                    <a:pt x="8058" y="9986"/>
                  </a:lnTo>
                  <a:lnTo>
                    <a:pt x="8269" y="9986"/>
                  </a:lnTo>
                  <a:lnTo>
                    <a:pt x="8480" y="9986"/>
                  </a:lnTo>
                  <a:lnTo>
                    <a:pt x="8832" y="9986"/>
                  </a:lnTo>
                  <a:lnTo>
                    <a:pt x="9254" y="9950"/>
                  </a:lnTo>
                  <a:lnTo>
                    <a:pt x="9606" y="9950"/>
                  </a:lnTo>
                  <a:lnTo>
                    <a:pt x="9782" y="9915"/>
                  </a:lnTo>
                  <a:lnTo>
                    <a:pt x="9853" y="9915"/>
                  </a:lnTo>
                  <a:lnTo>
                    <a:pt x="10064" y="9880"/>
                  </a:lnTo>
                  <a:lnTo>
                    <a:pt x="10204" y="9880"/>
                  </a:lnTo>
                  <a:lnTo>
                    <a:pt x="10345" y="9915"/>
                  </a:lnTo>
                  <a:lnTo>
                    <a:pt x="10451" y="9915"/>
                  </a:lnTo>
                  <a:lnTo>
                    <a:pt x="10556" y="9950"/>
                  </a:lnTo>
                  <a:lnTo>
                    <a:pt x="10627" y="9950"/>
                  </a:lnTo>
                  <a:lnTo>
                    <a:pt x="10732" y="9986"/>
                  </a:lnTo>
                  <a:lnTo>
                    <a:pt x="10767" y="10021"/>
                  </a:lnTo>
                  <a:lnTo>
                    <a:pt x="10803" y="10056"/>
                  </a:lnTo>
                  <a:lnTo>
                    <a:pt x="10873" y="10091"/>
                  </a:lnTo>
                  <a:lnTo>
                    <a:pt x="10908" y="10091"/>
                  </a:lnTo>
                  <a:lnTo>
                    <a:pt x="11014" y="10126"/>
                  </a:lnTo>
                  <a:lnTo>
                    <a:pt x="11049" y="10126"/>
                  </a:lnTo>
                  <a:lnTo>
                    <a:pt x="11084" y="10126"/>
                  </a:lnTo>
                  <a:lnTo>
                    <a:pt x="11154" y="10091"/>
                  </a:lnTo>
                  <a:lnTo>
                    <a:pt x="11190" y="10056"/>
                  </a:lnTo>
                  <a:lnTo>
                    <a:pt x="11225" y="10021"/>
                  </a:lnTo>
                  <a:lnTo>
                    <a:pt x="11295" y="9986"/>
                  </a:lnTo>
                  <a:lnTo>
                    <a:pt x="11401" y="9950"/>
                  </a:lnTo>
                  <a:lnTo>
                    <a:pt x="11541" y="9950"/>
                  </a:lnTo>
                  <a:lnTo>
                    <a:pt x="11647" y="9950"/>
                  </a:lnTo>
                  <a:lnTo>
                    <a:pt x="11823" y="9950"/>
                  </a:lnTo>
                  <a:lnTo>
                    <a:pt x="12175" y="9986"/>
                  </a:lnTo>
                  <a:lnTo>
                    <a:pt x="12316" y="9986"/>
                  </a:lnTo>
                  <a:lnTo>
                    <a:pt x="12386" y="9986"/>
                  </a:lnTo>
                  <a:lnTo>
                    <a:pt x="12527" y="9986"/>
                  </a:lnTo>
                  <a:lnTo>
                    <a:pt x="12667" y="9950"/>
                  </a:lnTo>
                  <a:lnTo>
                    <a:pt x="12843" y="9880"/>
                  </a:lnTo>
                  <a:lnTo>
                    <a:pt x="12914" y="9845"/>
                  </a:lnTo>
                  <a:lnTo>
                    <a:pt x="12984" y="9810"/>
                  </a:lnTo>
                  <a:lnTo>
                    <a:pt x="13125" y="9669"/>
                  </a:lnTo>
                  <a:lnTo>
                    <a:pt x="13160" y="9599"/>
                  </a:lnTo>
                  <a:lnTo>
                    <a:pt x="13230" y="9423"/>
                  </a:lnTo>
                  <a:lnTo>
                    <a:pt x="13230" y="9388"/>
                  </a:lnTo>
                  <a:lnTo>
                    <a:pt x="13230" y="9353"/>
                  </a:lnTo>
                  <a:lnTo>
                    <a:pt x="13230" y="9177"/>
                  </a:lnTo>
                  <a:lnTo>
                    <a:pt x="13230" y="9107"/>
                  </a:lnTo>
                  <a:lnTo>
                    <a:pt x="13195" y="8966"/>
                  </a:lnTo>
                  <a:lnTo>
                    <a:pt x="13160" y="8896"/>
                  </a:lnTo>
                  <a:lnTo>
                    <a:pt x="13125" y="8825"/>
                  </a:lnTo>
                  <a:lnTo>
                    <a:pt x="13090" y="8685"/>
                  </a:lnTo>
                  <a:lnTo>
                    <a:pt x="13090" y="8509"/>
                  </a:lnTo>
                  <a:lnTo>
                    <a:pt x="13090" y="8333"/>
                  </a:lnTo>
                  <a:lnTo>
                    <a:pt x="13125" y="8228"/>
                  </a:lnTo>
                  <a:lnTo>
                    <a:pt x="13160" y="8122"/>
                  </a:lnTo>
                  <a:lnTo>
                    <a:pt x="13195" y="7946"/>
                  </a:lnTo>
                  <a:lnTo>
                    <a:pt x="13195" y="7771"/>
                  </a:lnTo>
                  <a:lnTo>
                    <a:pt x="13195" y="7630"/>
                  </a:lnTo>
                  <a:lnTo>
                    <a:pt x="13160" y="7560"/>
                  </a:lnTo>
                  <a:lnTo>
                    <a:pt x="13160" y="7525"/>
                  </a:lnTo>
                  <a:lnTo>
                    <a:pt x="13125" y="7419"/>
                  </a:lnTo>
                  <a:lnTo>
                    <a:pt x="13125" y="7349"/>
                  </a:lnTo>
                  <a:lnTo>
                    <a:pt x="13125" y="7314"/>
                  </a:lnTo>
                  <a:lnTo>
                    <a:pt x="13160" y="7243"/>
                  </a:lnTo>
                  <a:lnTo>
                    <a:pt x="13195" y="7173"/>
                  </a:lnTo>
                  <a:lnTo>
                    <a:pt x="13230" y="7103"/>
                  </a:lnTo>
                  <a:lnTo>
                    <a:pt x="13301" y="6997"/>
                  </a:lnTo>
                  <a:lnTo>
                    <a:pt x="13336" y="6962"/>
                  </a:lnTo>
                  <a:lnTo>
                    <a:pt x="13371" y="6892"/>
                  </a:lnTo>
                  <a:lnTo>
                    <a:pt x="13406" y="6857"/>
                  </a:lnTo>
                  <a:lnTo>
                    <a:pt x="13442" y="6786"/>
                  </a:lnTo>
                  <a:lnTo>
                    <a:pt x="13477" y="6681"/>
                  </a:lnTo>
                  <a:lnTo>
                    <a:pt x="13477" y="6610"/>
                  </a:lnTo>
                  <a:lnTo>
                    <a:pt x="13477" y="6575"/>
                  </a:lnTo>
                  <a:lnTo>
                    <a:pt x="13442" y="6505"/>
                  </a:lnTo>
                  <a:lnTo>
                    <a:pt x="13406" y="6399"/>
                  </a:lnTo>
                  <a:lnTo>
                    <a:pt x="13371" y="6364"/>
                  </a:lnTo>
                  <a:lnTo>
                    <a:pt x="13336" y="6294"/>
                  </a:lnTo>
                  <a:lnTo>
                    <a:pt x="13230" y="6153"/>
                  </a:lnTo>
                  <a:lnTo>
                    <a:pt x="13195" y="6013"/>
                  </a:lnTo>
                  <a:lnTo>
                    <a:pt x="13195" y="5872"/>
                  </a:lnTo>
                  <a:lnTo>
                    <a:pt x="13195" y="5802"/>
                  </a:lnTo>
                  <a:lnTo>
                    <a:pt x="13195" y="5731"/>
                  </a:lnTo>
                  <a:lnTo>
                    <a:pt x="13230" y="5591"/>
                  </a:lnTo>
                  <a:lnTo>
                    <a:pt x="13266" y="5450"/>
                  </a:lnTo>
                  <a:lnTo>
                    <a:pt x="13336" y="5310"/>
                  </a:lnTo>
                  <a:lnTo>
                    <a:pt x="13371" y="5239"/>
                  </a:lnTo>
                  <a:lnTo>
                    <a:pt x="13406" y="5168"/>
                  </a:lnTo>
                  <a:lnTo>
                    <a:pt x="13477" y="4992"/>
                  </a:lnTo>
                  <a:lnTo>
                    <a:pt x="13512" y="4816"/>
                  </a:lnTo>
                  <a:lnTo>
                    <a:pt x="13512" y="4640"/>
                  </a:lnTo>
                  <a:lnTo>
                    <a:pt x="13512" y="4535"/>
                  </a:lnTo>
                  <a:lnTo>
                    <a:pt x="13512" y="4430"/>
                  </a:lnTo>
                  <a:lnTo>
                    <a:pt x="13477" y="4219"/>
                  </a:lnTo>
                  <a:lnTo>
                    <a:pt x="13442" y="4043"/>
                  </a:lnTo>
                  <a:lnTo>
                    <a:pt x="13371" y="3902"/>
                  </a:lnTo>
                  <a:lnTo>
                    <a:pt x="13336" y="3832"/>
                  </a:lnTo>
                  <a:lnTo>
                    <a:pt x="13301" y="3762"/>
                  </a:lnTo>
                  <a:lnTo>
                    <a:pt x="13230" y="3656"/>
                  </a:lnTo>
                  <a:lnTo>
                    <a:pt x="13160" y="3551"/>
                  </a:lnTo>
                  <a:lnTo>
                    <a:pt x="13054" y="3410"/>
                  </a:lnTo>
                  <a:lnTo>
                    <a:pt x="13019" y="3375"/>
                  </a:lnTo>
                  <a:lnTo>
                    <a:pt x="12984" y="3340"/>
                  </a:lnTo>
                  <a:lnTo>
                    <a:pt x="12949" y="3304"/>
                  </a:lnTo>
                  <a:lnTo>
                    <a:pt x="12914" y="3234"/>
                  </a:lnTo>
                  <a:lnTo>
                    <a:pt x="12914" y="3164"/>
                  </a:lnTo>
                  <a:lnTo>
                    <a:pt x="12914" y="3058"/>
                  </a:lnTo>
                  <a:lnTo>
                    <a:pt x="12914" y="3023"/>
                  </a:lnTo>
                  <a:lnTo>
                    <a:pt x="12949" y="2953"/>
                  </a:lnTo>
                  <a:lnTo>
                    <a:pt x="12984" y="2918"/>
                  </a:lnTo>
                  <a:lnTo>
                    <a:pt x="13019" y="2847"/>
                  </a:lnTo>
                  <a:lnTo>
                    <a:pt x="13090" y="2672"/>
                  </a:lnTo>
                  <a:lnTo>
                    <a:pt x="13160" y="2461"/>
                  </a:lnTo>
                  <a:lnTo>
                    <a:pt x="13230" y="2215"/>
                  </a:lnTo>
                  <a:lnTo>
                    <a:pt x="13230" y="2109"/>
                  </a:lnTo>
                  <a:lnTo>
                    <a:pt x="13230" y="2074"/>
                  </a:lnTo>
                  <a:lnTo>
                    <a:pt x="13230" y="1933"/>
                  </a:lnTo>
                  <a:lnTo>
                    <a:pt x="13230" y="1863"/>
                  </a:lnTo>
                  <a:lnTo>
                    <a:pt x="13195" y="1722"/>
                  </a:lnTo>
                  <a:lnTo>
                    <a:pt x="13160" y="1652"/>
                  </a:lnTo>
                  <a:lnTo>
                    <a:pt x="13125" y="1546"/>
                  </a:lnTo>
                  <a:lnTo>
                    <a:pt x="13090" y="1546"/>
                  </a:lnTo>
                  <a:lnTo>
                    <a:pt x="13019" y="1476"/>
                  </a:lnTo>
                  <a:lnTo>
                    <a:pt x="12984" y="1441"/>
                  </a:lnTo>
                  <a:lnTo>
                    <a:pt x="12914" y="1406"/>
                  </a:lnTo>
                  <a:lnTo>
                    <a:pt x="12773" y="1336"/>
                  </a:lnTo>
                  <a:lnTo>
                    <a:pt x="12632" y="1300"/>
                  </a:lnTo>
                  <a:lnTo>
                    <a:pt x="12456" y="1265"/>
                  </a:lnTo>
                  <a:lnTo>
                    <a:pt x="12386" y="1265"/>
                  </a:lnTo>
                  <a:lnTo>
                    <a:pt x="12316" y="1265"/>
                  </a:lnTo>
                  <a:lnTo>
                    <a:pt x="12140" y="1230"/>
                  </a:lnTo>
                  <a:lnTo>
                    <a:pt x="11999" y="1160"/>
                  </a:lnTo>
                  <a:lnTo>
                    <a:pt x="11893" y="1054"/>
                  </a:lnTo>
                  <a:lnTo>
                    <a:pt x="11823" y="984"/>
                  </a:lnTo>
                  <a:lnTo>
                    <a:pt x="11788" y="914"/>
                  </a:lnTo>
                  <a:lnTo>
                    <a:pt x="11647" y="773"/>
                  </a:lnTo>
                  <a:lnTo>
                    <a:pt x="11577" y="703"/>
                  </a:lnTo>
                  <a:lnTo>
                    <a:pt x="11436" y="632"/>
                  </a:lnTo>
                  <a:lnTo>
                    <a:pt x="11366" y="597"/>
                  </a:lnTo>
                  <a:lnTo>
                    <a:pt x="11295" y="562"/>
                  </a:lnTo>
                  <a:lnTo>
                    <a:pt x="11225" y="527"/>
                  </a:lnTo>
                  <a:lnTo>
                    <a:pt x="11084" y="457"/>
                  </a:lnTo>
                  <a:lnTo>
                    <a:pt x="11049" y="421"/>
                  </a:lnTo>
                  <a:lnTo>
                    <a:pt x="11014" y="386"/>
                  </a:lnTo>
                  <a:lnTo>
                    <a:pt x="10943" y="351"/>
                  </a:lnTo>
                  <a:lnTo>
                    <a:pt x="10908" y="351"/>
                  </a:lnTo>
                  <a:lnTo>
                    <a:pt x="10803" y="316"/>
                  </a:lnTo>
                  <a:lnTo>
                    <a:pt x="10732" y="316"/>
                  </a:lnTo>
                  <a:lnTo>
                    <a:pt x="10627" y="316"/>
                  </a:lnTo>
                  <a:lnTo>
                    <a:pt x="10521" y="316"/>
                  </a:lnTo>
                  <a:lnTo>
                    <a:pt x="10380" y="316"/>
                  </a:lnTo>
                  <a:lnTo>
                    <a:pt x="10310" y="316"/>
                  </a:lnTo>
                  <a:lnTo>
                    <a:pt x="10169" y="316"/>
                  </a:lnTo>
                  <a:lnTo>
                    <a:pt x="9923" y="316"/>
                  </a:lnTo>
                  <a:lnTo>
                    <a:pt x="9677" y="351"/>
                  </a:lnTo>
                  <a:lnTo>
                    <a:pt x="9501" y="386"/>
                  </a:lnTo>
                  <a:lnTo>
                    <a:pt x="9395" y="421"/>
                  </a:lnTo>
                  <a:lnTo>
                    <a:pt x="9290" y="457"/>
                  </a:lnTo>
                  <a:lnTo>
                    <a:pt x="9149" y="457"/>
                  </a:lnTo>
                  <a:lnTo>
                    <a:pt x="8973" y="421"/>
                  </a:lnTo>
                  <a:lnTo>
                    <a:pt x="8762" y="351"/>
                  </a:lnTo>
                  <a:lnTo>
                    <a:pt x="8621" y="281"/>
                  </a:lnTo>
                  <a:lnTo>
                    <a:pt x="8551" y="246"/>
                  </a:lnTo>
                  <a:lnTo>
                    <a:pt x="8445" y="210"/>
                  </a:lnTo>
                  <a:lnTo>
                    <a:pt x="8304" y="175"/>
                  </a:lnTo>
                  <a:lnTo>
                    <a:pt x="8199" y="140"/>
                  </a:lnTo>
                  <a:lnTo>
                    <a:pt x="8093" y="140"/>
                  </a:lnTo>
                  <a:lnTo>
                    <a:pt x="8023" y="140"/>
                  </a:lnTo>
                  <a:lnTo>
                    <a:pt x="7917" y="140"/>
                  </a:lnTo>
                  <a:lnTo>
                    <a:pt x="7777" y="175"/>
                  </a:lnTo>
                  <a:lnTo>
                    <a:pt x="7741" y="175"/>
                  </a:lnTo>
                  <a:lnTo>
                    <a:pt x="7636" y="210"/>
                  </a:lnTo>
                  <a:lnTo>
                    <a:pt x="7425" y="246"/>
                  </a:lnTo>
                  <a:lnTo>
                    <a:pt x="7284" y="281"/>
                  </a:lnTo>
                  <a:lnTo>
                    <a:pt x="7073" y="351"/>
                  </a:lnTo>
                  <a:lnTo>
                    <a:pt x="7002" y="386"/>
                  </a:lnTo>
                  <a:lnTo>
                    <a:pt x="6932" y="421"/>
                  </a:lnTo>
                  <a:lnTo>
                    <a:pt x="6897" y="421"/>
                  </a:lnTo>
                  <a:lnTo>
                    <a:pt x="6755" y="457"/>
                  </a:lnTo>
                  <a:lnTo>
                    <a:pt x="6685" y="457"/>
                  </a:lnTo>
                  <a:lnTo>
                    <a:pt x="6650" y="457"/>
                  </a:lnTo>
                  <a:lnTo>
                    <a:pt x="6509" y="421"/>
                  </a:lnTo>
                  <a:lnTo>
                    <a:pt x="6474" y="421"/>
                  </a:lnTo>
                  <a:lnTo>
                    <a:pt x="6403" y="386"/>
                  </a:lnTo>
                  <a:lnTo>
                    <a:pt x="6333" y="351"/>
                  </a:lnTo>
                  <a:lnTo>
                    <a:pt x="6263" y="316"/>
                  </a:lnTo>
                  <a:lnTo>
                    <a:pt x="6087" y="246"/>
                  </a:lnTo>
                  <a:lnTo>
                    <a:pt x="5911" y="210"/>
                  </a:lnTo>
                  <a:lnTo>
                    <a:pt x="5664" y="175"/>
                  </a:lnTo>
                  <a:lnTo>
                    <a:pt x="5559" y="175"/>
                  </a:lnTo>
                  <a:lnTo>
                    <a:pt x="5453" y="175"/>
                  </a:lnTo>
                  <a:lnTo>
                    <a:pt x="5207" y="175"/>
                  </a:lnTo>
                  <a:lnTo>
                    <a:pt x="4996" y="210"/>
                  </a:lnTo>
                  <a:lnTo>
                    <a:pt x="4785" y="246"/>
                  </a:lnTo>
                  <a:lnTo>
                    <a:pt x="4679" y="281"/>
                  </a:lnTo>
                  <a:lnTo>
                    <a:pt x="4574" y="316"/>
                  </a:lnTo>
                  <a:lnTo>
                    <a:pt x="4398" y="316"/>
                  </a:lnTo>
                  <a:lnTo>
                    <a:pt x="4187" y="316"/>
                  </a:lnTo>
                  <a:lnTo>
                    <a:pt x="3976" y="246"/>
                  </a:lnTo>
                  <a:lnTo>
                    <a:pt x="3905" y="210"/>
                  </a:lnTo>
                  <a:lnTo>
                    <a:pt x="3835" y="175"/>
                  </a:lnTo>
                  <a:lnTo>
                    <a:pt x="3624" y="105"/>
                  </a:lnTo>
                  <a:lnTo>
                    <a:pt x="3342" y="35"/>
                  </a:lnTo>
                  <a:lnTo>
                    <a:pt x="3061" y="0"/>
                  </a:lnTo>
                  <a:lnTo>
                    <a:pt x="2920" y="0"/>
                  </a:lnTo>
                  <a:lnTo>
                    <a:pt x="2850" y="0"/>
                  </a:lnTo>
                  <a:lnTo>
                    <a:pt x="2674" y="0"/>
                  </a:lnTo>
                  <a:lnTo>
                    <a:pt x="2533" y="0"/>
                  </a:lnTo>
                  <a:lnTo>
                    <a:pt x="2357" y="35"/>
                  </a:lnTo>
                  <a:lnTo>
                    <a:pt x="2216" y="70"/>
                  </a:lnTo>
                  <a:lnTo>
                    <a:pt x="2040" y="140"/>
                  </a:lnTo>
                  <a:lnTo>
                    <a:pt x="1900" y="210"/>
                  </a:lnTo>
                  <a:lnTo>
                    <a:pt x="1759" y="316"/>
                  </a:lnTo>
                  <a:lnTo>
                    <a:pt x="1724" y="351"/>
                  </a:lnTo>
                  <a:lnTo>
                    <a:pt x="1935" y="351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51120" y="1287360"/>
              <a:ext cx="4928040" cy="3810240"/>
            </a:xfrm>
            <a:custGeom>
              <a:avLst/>
              <a:gdLst/>
              <a:ahLst/>
              <a:rect l="0" t="0" r="r" b="b"/>
              <a:pathLst>
                <a:path fill="none" w="13689" h="10584">
                  <a:moveTo>
                    <a:pt x="2010" y="423"/>
                  </a:moveTo>
                  <a:lnTo>
                    <a:pt x="1516" y="529"/>
                  </a:lnTo>
                  <a:lnTo>
                    <a:pt x="1023" y="952"/>
                  </a:lnTo>
                  <a:lnTo>
                    <a:pt x="917" y="1270"/>
                  </a:lnTo>
                  <a:lnTo>
                    <a:pt x="952" y="1693"/>
                  </a:lnTo>
                  <a:lnTo>
                    <a:pt x="458" y="2046"/>
                  </a:lnTo>
                  <a:lnTo>
                    <a:pt x="458" y="2504"/>
                  </a:lnTo>
                  <a:lnTo>
                    <a:pt x="705" y="2963"/>
                  </a:lnTo>
                  <a:lnTo>
                    <a:pt x="176" y="3421"/>
                  </a:lnTo>
                  <a:lnTo>
                    <a:pt x="0" y="4092"/>
                  </a:lnTo>
                  <a:lnTo>
                    <a:pt x="458" y="4480"/>
                  </a:lnTo>
                  <a:lnTo>
                    <a:pt x="70" y="5080"/>
                  </a:lnTo>
                  <a:lnTo>
                    <a:pt x="211" y="5645"/>
                  </a:lnTo>
                  <a:lnTo>
                    <a:pt x="423" y="5962"/>
                  </a:lnTo>
                  <a:lnTo>
                    <a:pt x="705" y="6139"/>
                  </a:lnTo>
                  <a:lnTo>
                    <a:pt x="599" y="6139"/>
                  </a:lnTo>
                  <a:lnTo>
                    <a:pt x="282" y="6739"/>
                  </a:lnTo>
                  <a:lnTo>
                    <a:pt x="458" y="7656"/>
                  </a:lnTo>
                  <a:lnTo>
                    <a:pt x="917" y="8361"/>
                  </a:lnTo>
                  <a:lnTo>
                    <a:pt x="1481" y="8785"/>
                  </a:lnTo>
                  <a:lnTo>
                    <a:pt x="1375" y="8855"/>
                  </a:lnTo>
                  <a:lnTo>
                    <a:pt x="1411" y="9279"/>
                  </a:lnTo>
                  <a:lnTo>
                    <a:pt x="1799" y="9843"/>
                  </a:lnTo>
                  <a:lnTo>
                    <a:pt x="2892" y="10231"/>
                  </a:lnTo>
                  <a:lnTo>
                    <a:pt x="3634" y="10266"/>
                  </a:lnTo>
                  <a:lnTo>
                    <a:pt x="4410" y="10584"/>
                  </a:lnTo>
                  <a:lnTo>
                    <a:pt x="4939" y="10478"/>
                  </a:lnTo>
                  <a:lnTo>
                    <a:pt x="5222" y="10055"/>
                  </a:lnTo>
                  <a:lnTo>
                    <a:pt x="6280" y="9949"/>
                  </a:lnTo>
                  <a:lnTo>
                    <a:pt x="7515" y="10055"/>
                  </a:lnTo>
                  <a:lnTo>
                    <a:pt x="9173" y="10090"/>
                  </a:lnTo>
                  <a:lnTo>
                    <a:pt x="10585" y="9949"/>
                  </a:lnTo>
                  <a:lnTo>
                    <a:pt x="11149" y="10302"/>
                  </a:lnTo>
                  <a:lnTo>
                    <a:pt x="11396" y="10019"/>
                  </a:lnTo>
                  <a:lnTo>
                    <a:pt x="12102" y="10055"/>
                  </a:lnTo>
                  <a:lnTo>
                    <a:pt x="12702" y="10125"/>
                  </a:lnTo>
                  <a:lnTo>
                    <a:pt x="13301" y="9737"/>
                  </a:lnTo>
                  <a:lnTo>
                    <a:pt x="13372" y="9243"/>
                  </a:lnTo>
                  <a:lnTo>
                    <a:pt x="13125" y="8714"/>
                  </a:lnTo>
                  <a:lnTo>
                    <a:pt x="13337" y="7938"/>
                  </a:lnTo>
                  <a:lnTo>
                    <a:pt x="13160" y="7338"/>
                  </a:lnTo>
                  <a:lnTo>
                    <a:pt x="13689" y="6739"/>
                  </a:lnTo>
                  <a:lnTo>
                    <a:pt x="13266" y="6174"/>
                  </a:lnTo>
                  <a:lnTo>
                    <a:pt x="13337" y="5610"/>
                  </a:lnTo>
                  <a:lnTo>
                    <a:pt x="13619" y="5044"/>
                  </a:lnTo>
                  <a:lnTo>
                    <a:pt x="13583" y="4162"/>
                  </a:lnTo>
                  <a:lnTo>
                    <a:pt x="13301" y="3633"/>
                  </a:lnTo>
                  <a:lnTo>
                    <a:pt x="12913" y="3280"/>
                  </a:lnTo>
                  <a:lnTo>
                    <a:pt x="13266" y="2681"/>
                  </a:lnTo>
                  <a:lnTo>
                    <a:pt x="13372" y="1693"/>
                  </a:lnTo>
                  <a:lnTo>
                    <a:pt x="12807" y="1340"/>
                  </a:lnTo>
                  <a:lnTo>
                    <a:pt x="12137" y="1340"/>
                  </a:lnTo>
                  <a:lnTo>
                    <a:pt x="11714" y="776"/>
                  </a:lnTo>
                  <a:lnTo>
                    <a:pt x="11220" y="564"/>
                  </a:lnTo>
                  <a:lnTo>
                    <a:pt x="10973" y="352"/>
                  </a:lnTo>
                  <a:lnTo>
                    <a:pt x="9808" y="388"/>
                  </a:lnTo>
                  <a:lnTo>
                    <a:pt x="9173" y="564"/>
                  </a:lnTo>
                  <a:lnTo>
                    <a:pt x="8256" y="141"/>
                  </a:lnTo>
                  <a:lnTo>
                    <a:pt x="7409" y="317"/>
                  </a:lnTo>
                  <a:lnTo>
                    <a:pt x="6739" y="599"/>
                  </a:lnTo>
                  <a:lnTo>
                    <a:pt x="6104" y="246"/>
                  </a:lnTo>
                  <a:lnTo>
                    <a:pt x="5186" y="211"/>
                  </a:lnTo>
                  <a:lnTo>
                    <a:pt x="4340" y="458"/>
                  </a:lnTo>
                  <a:lnTo>
                    <a:pt x="3634" y="105"/>
                  </a:lnTo>
                  <a:lnTo>
                    <a:pt x="2328" y="0"/>
                  </a:lnTo>
                  <a:lnTo>
                    <a:pt x="1799" y="42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76680" y="1312920"/>
              <a:ext cx="4877280" cy="3772080"/>
            </a:xfrm>
            <a:custGeom>
              <a:avLst/>
              <a:gdLst/>
              <a:ahLst/>
              <a:rect l="0" t="0" r="r" b="b"/>
              <a:pathLst>
                <a:path fill="none" w="13548" h="10478">
                  <a:moveTo>
                    <a:pt x="1940" y="352"/>
                  </a:moveTo>
                  <a:lnTo>
                    <a:pt x="1799" y="388"/>
                  </a:lnTo>
                  <a:lnTo>
                    <a:pt x="1587" y="458"/>
                  </a:lnTo>
                  <a:lnTo>
                    <a:pt x="1411" y="529"/>
                  </a:lnTo>
                  <a:lnTo>
                    <a:pt x="1234" y="635"/>
                  </a:lnTo>
                  <a:lnTo>
                    <a:pt x="1199" y="670"/>
                  </a:lnTo>
                  <a:lnTo>
                    <a:pt x="1128" y="740"/>
                  </a:lnTo>
                  <a:lnTo>
                    <a:pt x="1058" y="811"/>
                  </a:lnTo>
                  <a:lnTo>
                    <a:pt x="987" y="917"/>
                  </a:lnTo>
                  <a:lnTo>
                    <a:pt x="917" y="1023"/>
                  </a:lnTo>
                  <a:lnTo>
                    <a:pt x="917" y="1058"/>
                  </a:lnTo>
                  <a:lnTo>
                    <a:pt x="917" y="1093"/>
                  </a:lnTo>
                  <a:lnTo>
                    <a:pt x="881" y="1164"/>
                  </a:lnTo>
                  <a:lnTo>
                    <a:pt x="881" y="1234"/>
                  </a:lnTo>
                  <a:lnTo>
                    <a:pt x="881" y="1375"/>
                  </a:lnTo>
                  <a:lnTo>
                    <a:pt x="881" y="1411"/>
                  </a:lnTo>
                  <a:lnTo>
                    <a:pt x="881" y="1481"/>
                  </a:lnTo>
                  <a:lnTo>
                    <a:pt x="846" y="1587"/>
                  </a:lnTo>
                  <a:lnTo>
                    <a:pt x="776" y="1693"/>
                  </a:lnTo>
                  <a:lnTo>
                    <a:pt x="670" y="1763"/>
                  </a:lnTo>
                  <a:lnTo>
                    <a:pt x="635" y="1799"/>
                  </a:lnTo>
                  <a:lnTo>
                    <a:pt x="599" y="1834"/>
                  </a:lnTo>
                  <a:lnTo>
                    <a:pt x="493" y="1940"/>
                  </a:lnTo>
                  <a:lnTo>
                    <a:pt x="423" y="2046"/>
                  </a:lnTo>
                  <a:lnTo>
                    <a:pt x="388" y="2151"/>
                  </a:lnTo>
                  <a:lnTo>
                    <a:pt x="388" y="2222"/>
                  </a:lnTo>
                  <a:lnTo>
                    <a:pt x="388" y="2293"/>
                  </a:lnTo>
                  <a:lnTo>
                    <a:pt x="423" y="2398"/>
                  </a:lnTo>
                  <a:lnTo>
                    <a:pt x="458" y="2504"/>
                  </a:lnTo>
                  <a:lnTo>
                    <a:pt x="493" y="2610"/>
                  </a:lnTo>
                  <a:lnTo>
                    <a:pt x="529" y="2681"/>
                  </a:lnTo>
                  <a:lnTo>
                    <a:pt x="564" y="2786"/>
                  </a:lnTo>
                  <a:lnTo>
                    <a:pt x="564" y="2822"/>
                  </a:lnTo>
                  <a:lnTo>
                    <a:pt x="564" y="2857"/>
                  </a:lnTo>
                  <a:lnTo>
                    <a:pt x="529" y="2963"/>
                  </a:lnTo>
                  <a:lnTo>
                    <a:pt x="493" y="2998"/>
                  </a:lnTo>
                  <a:lnTo>
                    <a:pt x="458" y="3069"/>
                  </a:lnTo>
                  <a:lnTo>
                    <a:pt x="423" y="3104"/>
                  </a:lnTo>
                  <a:lnTo>
                    <a:pt x="388" y="3139"/>
                  </a:lnTo>
                  <a:lnTo>
                    <a:pt x="317" y="3210"/>
                  </a:lnTo>
                  <a:lnTo>
                    <a:pt x="211" y="3316"/>
                  </a:lnTo>
                  <a:lnTo>
                    <a:pt x="105" y="3457"/>
                  </a:lnTo>
                  <a:lnTo>
                    <a:pt x="70" y="3598"/>
                  </a:lnTo>
                  <a:lnTo>
                    <a:pt x="35" y="3704"/>
                  </a:lnTo>
                  <a:lnTo>
                    <a:pt x="35" y="3739"/>
                  </a:lnTo>
                  <a:lnTo>
                    <a:pt x="0" y="3845"/>
                  </a:lnTo>
                  <a:lnTo>
                    <a:pt x="0" y="3915"/>
                  </a:lnTo>
                  <a:lnTo>
                    <a:pt x="0" y="3951"/>
                  </a:lnTo>
                  <a:lnTo>
                    <a:pt x="35" y="4056"/>
                  </a:lnTo>
                  <a:lnTo>
                    <a:pt x="70" y="4092"/>
                  </a:lnTo>
                  <a:lnTo>
                    <a:pt x="105" y="4162"/>
                  </a:lnTo>
                  <a:lnTo>
                    <a:pt x="141" y="4198"/>
                  </a:lnTo>
                  <a:lnTo>
                    <a:pt x="176" y="4233"/>
                  </a:lnTo>
                  <a:lnTo>
                    <a:pt x="211" y="4268"/>
                  </a:lnTo>
                  <a:lnTo>
                    <a:pt x="246" y="4303"/>
                  </a:lnTo>
                  <a:lnTo>
                    <a:pt x="282" y="4374"/>
                  </a:lnTo>
                  <a:lnTo>
                    <a:pt x="282" y="4409"/>
                  </a:lnTo>
                  <a:lnTo>
                    <a:pt x="282" y="4445"/>
                  </a:lnTo>
                  <a:lnTo>
                    <a:pt x="282" y="4550"/>
                  </a:lnTo>
                  <a:lnTo>
                    <a:pt x="282" y="4586"/>
                  </a:lnTo>
                  <a:lnTo>
                    <a:pt x="246" y="4656"/>
                  </a:lnTo>
                  <a:lnTo>
                    <a:pt x="211" y="4727"/>
                  </a:lnTo>
                  <a:lnTo>
                    <a:pt x="176" y="4797"/>
                  </a:lnTo>
                  <a:lnTo>
                    <a:pt x="105" y="4938"/>
                  </a:lnTo>
                  <a:lnTo>
                    <a:pt x="70" y="5080"/>
                  </a:lnTo>
                  <a:lnTo>
                    <a:pt x="70" y="5221"/>
                  </a:lnTo>
                  <a:lnTo>
                    <a:pt x="70" y="5292"/>
                  </a:lnTo>
                  <a:lnTo>
                    <a:pt x="105" y="5363"/>
                  </a:lnTo>
                  <a:lnTo>
                    <a:pt x="141" y="5504"/>
                  </a:lnTo>
                  <a:lnTo>
                    <a:pt x="176" y="5610"/>
                  </a:lnTo>
                  <a:lnTo>
                    <a:pt x="211" y="5680"/>
                  </a:lnTo>
                  <a:lnTo>
                    <a:pt x="246" y="5751"/>
                  </a:lnTo>
                  <a:lnTo>
                    <a:pt x="317" y="5821"/>
                  </a:lnTo>
                  <a:lnTo>
                    <a:pt x="423" y="5962"/>
                  </a:lnTo>
                  <a:lnTo>
                    <a:pt x="493" y="5998"/>
                  </a:lnTo>
                  <a:lnTo>
                    <a:pt x="529" y="6033"/>
                  </a:lnTo>
                  <a:lnTo>
                    <a:pt x="564" y="6033"/>
                  </a:lnTo>
                  <a:lnTo>
                    <a:pt x="635" y="6068"/>
                  </a:lnTo>
                  <a:lnTo>
                    <a:pt x="599" y="6068"/>
                  </a:lnTo>
                  <a:lnTo>
                    <a:pt x="529" y="6104"/>
                  </a:lnTo>
                  <a:lnTo>
                    <a:pt x="493" y="6174"/>
                  </a:lnTo>
                  <a:lnTo>
                    <a:pt x="458" y="6245"/>
                  </a:lnTo>
                  <a:lnTo>
                    <a:pt x="423" y="6280"/>
                  </a:lnTo>
                  <a:lnTo>
                    <a:pt x="423" y="6315"/>
                  </a:lnTo>
                  <a:lnTo>
                    <a:pt x="388" y="6386"/>
                  </a:lnTo>
                  <a:lnTo>
                    <a:pt x="352" y="6456"/>
                  </a:lnTo>
                  <a:lnTo>
                    <a:pt x="282" y="6633"/>
                  </a:lnTo>
                  <a:lnTo>
                    <a:pt x="282" y="6774"/>
                  </a:lnTo>
                  <a:lnTo>
                    <a:pt x="282" y="6986"/>
                  </a:lnTo>
                  <a:lnTo>
                    <a:pt x="317" y="7127"/>
                  </a:lnTo>
                  <a:lnTo>
                    <a:pt x="352" y="7268"/>
                  </a:lnTo>
                  <a:lnTo>
                    <a:pt x="388" y="7444"/>
                  </a:lnTo>
                  <a:lnTo>
                    <a:pt x="458" y="7656"/>
                  </a:lnTo>
                  <a:lnTo>
                    <a:pt x="564" y="7832"/>
                  </a:lnTo>
                  <a:lnTo>
                    <a:pt x="635" y="7938"/>
                  </a:lnTo>
                  <a:lnTo>
                    <a:pt x="705" y="8044"/>
                  </a:lnTo>
                  <a:lnTo>
                    <a:pt x="811" y="8185"/>
                  </a:lnTo>
                  <a:lnTo>
                    <a:pt x="917" y="8326"/>
                  </a:lnTo>
                  <a:lnTo>
                    <a:pt x="1058" y="8467"/>
                  </a:lnTo>
                  <a:lnTo>
                    <a:pt x="1128" y="8502"/>
                  </a:lnTo>
                  <a:lnTo>
                    <a:pt x="1164" y="8538"/>
                  </a:lnTo>
                  <a:lnTo>
                    <a:pt x="1199" y="8573"/>
                  </a:lnTo>
                  <a:lnTo>
                    <a:pt x="1270" y="8608"/>
                  </a:lnTo>
                  <a:lnTo>
                    <a:pt x="1305" y="8644"/>
                  </a:lnTo>
                  <a:lnTo>
                    <a:pt x="1340" y="8679"/>
                  </a:lnTo>
                  <a:lnTo>
                    <a:pt x="1375" y="8714"/>
                  </a:lnTo>
                  <a:lnTo>
                    <a:pt x="1375" y="8749"/>
                  </a:lnTo>
                  <a:lnTo>
                    <a:pt x="1340" y="8785"/>
                  </a:lnTo>
                  <a:lnTo>
                    <a:pt x="1340" y="8855"/>
                  </a:lnTo>
                  <a:lnTo>
                    <a:pt x="1340" y="8961"/>
                  </a:lnTo>
                  <a:lnTo>
                    <a:pt x="1340" y="8996"/>
                  </a:lnTo>
                  <a:lnTo>
                    <a:pt x="1340" y="9067"/>
                  </a:lnTo>
                  <a:lnTo>
                    <a:pt x="1375" y="9173"/>
                  </a:lnTo>
                  <a:lnTo>
                    <a:pt x="1411" y="9279"/>
                  </a:lnTo>
                  <a:lnTo>
                    <a:pt x="1516" y="9420"/>
                  </a:lnTo>
                  <a:lnTo>
                    <a:pt x="1552" y="9490"/>
                  </a:lnTo>
                  <a:lnTo>
                    <a:pt x="1587" y="9526"/>
                  </a:lnTo>
                  <a:lnTo>
                    <a:pt x="1622" y="9561"/>
                  </a:lnTo>
                  <a:lnTo>
                    <a:pt x="1728" y="9667"/>
                  </a:lnTo>
                  <a:lnTo>
                    <a:pt x="1799" y="9737"/>
                  </a:lnTo>
                  <a:lnTo>
                    <a:pt x="1869" y="9772"/>
                  </a:lnTo>
                  <a:lnTo>
                    <a:pt x="1975" y="9843"/>
                  </a:lnTo>
                  <a:lnTo>
                    <a:pt x="2116" y="9914"/>
                  </a:lnTo>
                  <a:lnTo>
                    <a:pt x="2222" y="9949"/>
                  </a:lnTo>
                  <a:lnTo>
                    <a:pt x="2293" y="9984"/>
                  </a:lnTo>
                  <a:lnTo>
                    <a:pt x="2398" y="10019"/>
                  </a:lnTo>
                  <a:lnTo>
                    <a:pt x="2645" y="10090"/>
                  </a:lnTo>
                  <a:lnTo>
                    <a:pt x="2928" y="10161"/>
                  </a:lnTo>
                  <a:lnTo>
                    <a:pt x="3139" y="10196"/>
                  </a:lnTo>
                  <a:lnTo>
                    <a:pt x="3210" y="10196"/>
                  </a:lnTo>
                  <a:lnTo>
                    <a:pt x="3316" y="10196"/>
                  </a:lnTo>
                  <a:lnTo>
                    <a:pt x="3493" y="10231"/>
                  </a:lnTo>
                  <a:lnTo>
                    <a:pt x="3669" y="10266"/>
                  </a:lnTo>
                  <a:lnTo>
                    <a:pt x="3881" y="10337"/>
                  </a:lnTo>
                  <a:lnTo>
                    <a:pt x="3952" y="10372"/>
                  </a:lnTo>
                  <a:lnTo>
                    <a:pt x="4057" y="10407"/>
                  </a:lnTo>
                  <a:lnTo>
                    <a:pt x="4199" y="10443"/>
                  </a:lnTo>
                  <a:lnTo>
                    <a:pt x="4375" y="10478"/>
                  </a:lnTo>
                  <a:lnTo>
                    <a:pt x="4551" y="10478"/>
                  </a:lnTo>
                  <a:lnTo>
                    <a:pt x="4622" y="10478"/>
                  </a:lnTo>
                  <a:lnTo>
                    <a:pt x="4657" y="10478"/>
                  </a:lnTo>
                  <a:lnTo>
                    <a:pt x="4798" y="10407"/>
                  </a:lnTo>
                  <a:lnTo>
                    <a:pt x="4904" y="10337"/>
                  </a:lnTo>
                  <a:lnTo>
                    <a:pt x="4975" y="10266"/>
                  </a:lnTo>
                  <a:lnTo>
                    <a:pt x="5010" y="10196"/>
                  </a:lnTo>
                  <a:lnTo>
                    <a:pt x="5045" y="10161"/>
                  </a:lnTo>
                  <a:lnTo>
                    <a:pt x="5045" y="10125"/>
                  </a:lnTo>
                  <a:lnTo>
                    <a:pt x="5116" y="10090"/>
                  </a:lnTo>
                  <a:lnTo>
                    <a:pt x="5186" y="10055"/>
                  </a:lnTo>
                  <a:lnTo>
                    <a:pt x="5257" y="10019"/>
                  </a:lnTo>
                  <a:lnTo>
                    <a:pt x="5398" y="9984"/>
                  </a:lnTo>
                  <a:lnTo>
                    <a:pt x="5469" y="9984"/>
                  </a:lnTo>
                  <a:lnTo>
                    <a:pt x="5645" y="9949"/>
                  </a:lnTo>
                  <a:lnTo>
                    <a:pt x="5680" y="9949"/>
                  </a:lnTo>
                  <a:lnTo>
                    <a:pt x="5786" y="9949"/>
                  </a:lnTo>
                  <a:lnTo>
                    <a:pt x="6104" y="9914"/>
                  </a:lnTo>
                  <a:lnTo>
                    <a:pt x="6386" y="9914"/>
                  </a:lnTo>
                  <a:lnTo>
                    <a:pt x="6703" y="9949"/>
                  </a:lnTo>
                  <a:lnTo>
                    <a:pt x="6844" y="9949"/>
                  </a:lnTo>
                  <a:lnTo>
                    <a:pt x="6986" y="9949"/>
                  </a:lnTo>
                  <a:lnTo>
                    <a:pt x="7338" y="9984"/>
                  </a:lnTo>
                  <a:lnTo>
                    <a:pt x="7656" y="9984"/>
                  </a:lnTo>
                  <a:lnTo>
                    <a:pt x="8079" y="10019"/>
                  </a:lnTo>
                  <a:lnTo>
                    <a:pt x="8291" y="10019"/>
                  </a:lnTo>
                  <a:lnTo>
                    <a:pt x="8502" y="10019"/>
                  </a:lnTo>
                  <a:lnTo>
                    <a:pt x="8855" y="10019"/>
                  </a:lnTo>
                  <a:lnTo>
                    <a:pt x="9279" y="9984"/>
                  </a:lnTo>
                  <a:lnTo>
                    <a:pt x="9631" y="9984"/>
                  </a:lnTo>
                  <a:lnTo>
                    <a:pt x="9808" y="9949"/>
                  </a:lnTo>
                  <a:lnTo>
                    <a:pt x="9878" y="9949"/>
                  </a:lnTo>
                  <a:lnTo>
                    <a:pt x="10090" y="9914"/>
                  </a:lnTo>
                  <a:lnTo>
                    <a:pt x="10232" y="9914"/>
                  </a:lnTo>
                  <a:lnTo>
                    <a:pt x="10373" y="9949"/>
                  </a:lnTo>
                  <a:lnTo>
                    <a:pt x="10479" y="9949"/>
                  </a:lnTo>
                  <a:lnTo>
                    <a:pt x="10585" y="9984"/>
                  </a:lnTo>
                  <a:lnTo>
                    <a:pt x="10655" y="9984"/>
                  </a:lnTo>
                  <a:lnTo>
                    <a:pt x="10761" y="10019"/>
                  </a:lnTo>
                  <a:lnTo>
                    <a:pt x="10797" y="10055"/>
                  </a:lnTo>
                  <a:lnTo>
                    <a:pt x="10832" y="10090"/>
                  </a:lnTo>
                  <a:lnTo>
                    <a:pt x="10902" y="10125"/>
                  </a:lnTo>
                  <a:lnTo>
                    <a:pt x="10938" y="10125"/>
                  </a:lnTo>
                  <a:lnTo>
                    <a:pt x="11043" y="10161"/>
                  </a:lnTo>
                  <a:lnTo>
                    <a:pt x="11079" y="10161"/>
                  </a:lnTo>
                  <a:lnTo>
                    <a:pt x="11114" y="10161"/>
                  </a:lnTo>
                  <a:lnTo>
                    <a:pt x="11185" y="10125"/>
                  </a:lnTo>
                  <a:lnTo>
                    <a:pt x="11220" y="10090"/>
                  </a:lnTo>
                  <a:lnTo>
                    <a:pt x="11255" y="10055"/>
                  </a:lnTo>
                  <a:lnTo>
                    <a:pt x="11326" y="10019"/>
                  </a:lnTo>
                  <a:lnTo>
                    <a:pt x="11432" y="9984"/>
                  </a:lnTo>
                  <a:lnTo>
                    <a:pt x="11573" y="9984"/>
                  </a:lnTo>
                  <a:lnTo>
                    <a:pt x="11678" y="9984"/>
                  </a:lnTo>
                  <a:lnTo>
                    <a:pt x="11855" y="9984"/>
                  </a:lnTo>
                  <a:lnTo>
                    <a:pt x="12208" y="10019"/>
                  </a:lnTo>
                  <a:lnTo>
                    <a:pt x="12349" y="10019"/>
                  </a:lnTo>
                  <a:lnTo>
                    <a:pt x="12419" y="10019"/>
                  </a:lnTo>
                  <a:lnTo>
                    <a:pt x="12560" y="10019"/>
                  </a:lnTo>
                  <a:lnTo>
                    <a:pt x="12702" y="9984"/>
                  </a:lnTo>
                  <a:lnTo>
                    <a:pt x="12878" y="9914"/>
                  </a:lnTo>
                  <a:lnTo>
                    <a:pt x="12948" y="9878"/>
                  </a:lnTo>
                  <a:lnTo>
                    <a:pt x="13019" y="9843"/>
                  </a:lnTo>
                  <a:lnTo>
                    <a:pt x="13160" y="9702"/>
                  </a:lnTo>
                  <a:lnTo>
                    <a:pt x="13195" y="9631"/>
                  </a:lnTo>
                  <a:lnTo>
                    <a:pt x="13266" y="9455"/>
                  </a:lnTo>
                  <a:lnTo>
                    <a:pt x="13266" y="9420"/>
                  </a:lnTo>
                  <a:lnTo>
                    <a:pt x="13266" y="9384"/>
                  </a:lnTo>
                  <a:lnTo>
                    <a:pt x="13266" y="9208"/>
                  </a:lnTo>
                  <a:lnTo>
                    <a:pt x="13266" y="9137"/>
                  </a:lnTo>
                  <a:lnTo>
                    <a:pt x="13231" y="8996"/>
                  </a:lnTo>
                  <a:lnTo>
                    <a:pt x="13195" y="8926"/>
                  </a:lnTo>
                  <a:lnTo>
                    <a:pt x="13160" y="8855"/>
                  </a:lnTo>
                  <a:lnTo>
                    <a:pt x="13125" y="8714"/>
                  </a:lnTo>
                  <a:lnTo>
                    <a:pt x="13125" y="8538"/>
                  </a:lnTo>
                  <a:lnTo>
                    <a:pt x="13125" y="8361"/>
                  </a:lnTo>
                  <a:lnTo>
                    <a:pt x="13160" y="8256"/>
                  </a:lnTo>
                  <a:lnTo>
                    <a:pt x="13195" y="8150"/>
                  </a:lnTo>
                  <a:lnTo>
                    <a:pt x="13231" y="7973"/>
                  </a:lnTo>
                  <a:lnTo>
                    <a:pt x="13231" y="7797"/>
                  </a:lnTo>
                  <a:lnTo>
                    <a:pt x="13231" y="7656"/>
                  </a:lnTo>
                  <a:lnTo>
                    <a:pt x="13195" y="7585"/>
                  </a:lnTo>
                  <a:lnTo>
                    <a:pt x="13195" y="7550"/>
                  </a:lnTo>
                  <a:lnTo>
                    <a:pt x="13160" y="7444"/>
                  </a:lnTo>
                  <a:lnTo>
                    <a:pt x="13160" y="7374"/>
                  </a:lnTo>
                  <a:lnTo>
                    <a:pt x="13160" y="7338"/>
                  </a:lnTo>
                  <a:lnTo>
                    <a:pt x="13195" y="7268"/>
                  </a:lnTo>
                  <a:lnTo>
                    <a:pt x="13231" y="7197"/>
                  </a:lnTo>
                  <a:lnTo>
                    <a:pt x="13266" y="7127"/>
                  </a:lnTo>
                  <a:lnTo>
                    <a:pt x="13337" y="7021"/>
                  </a:lnTo>
                  <a:lnTo>
                    <a:pt x="13372" y="6986"/>
                  </a:lnTo>
                  <a:lnTo>
                    <a:pt x="13407" y="6915"/>
                  </a:lnTo>
                  <a:lnTo>
                    <a:pt x="13442" y="6880"/>
                  </a:lnTo>
                  <a:lnTo>
                    <a:pt x="13478" y="6809"/>
                  </a:lnTo>
                  <a:lnTo>
                    <a:pt x="13513" y="6703"/>
                  </a:lnTo>
                  <a:lnTo>
                    <a:pt x="13513" y="6633"/>
                  </a:lnTo>
                  <a:lnTo>
                    <a:pt x="13513" y="6597"/>
                  </a:lnTo>
                  <a:lnTo>
                    <a:pt x="13478" y="6527"/>
                  </a:lnTo>
                  <a:lnTo>
                    <a:pt x="13442" y="6421"/>
                  </a:lnTo>
                  <a:lnTo>
                    <a:pt x="13407" y="6386"/>
                  </a:lnTo>
                  <a:lnTo>
                    <a:pt x="13372" y="6315"/>
                  </a:lnTo>
                  <a:lnTo>
                    <a:pt x="13266" y="6174"/>
                  </a:lnTo>
                  <a:lnTo>
                    <a:pt x="13231" y="6033"/>
                  </a:lnTo>
                  <a:lnTo>
                    <a:pt x="13231" y="5892"/>
                  </a:lnTo>
                  <a:lnTo>
                    <a:pt x="13231" y="5821"/>
                  </a:lnTo>
                  <a:lnTo>
                    <a:pt x="13231" y="5751"/>
                  </a:lnTo>
                  <a:lnTo>
                    <a:pt x="13266" y="5610"/>
                  </a:lnTo>
                  <a:lnTo>
                    <a:pt x="13301" y="5469"/>
                  </a:lnTo>
                  <a:lnTo>
                    <a:pt x="13372" y="5327"/>
                  </a:lnTo>
                  <a:lnTo>
                    <a:pt x="13407" y="5257"/>
                  </a:lnTo>
                  <a:lnTo>
                    <a:pt x="13442" y="5185"/>
                  </a:lnTo>
                  <a:lnTo>
                    <a:pt x="13513" y="5009"/>
                  </a:lnTo>
                  <a:lnTo>
                    <a:pt x="13548" y="4833"/>
                  </a:lnTo>
                  <a:lnTo>
                    <a:pt x="13548" y="4656"/>
                  </a:lnTo>
                  <a:lnTo>
                    <a:pt x="13548" y="4550"/>
                  </a:lnTo>
                  <a:lnTo>
                    <a:pt x="13548" y="4445"/>
                  </a:lnTo>
                  <a:lnTo>
                    <a:pt x="13513" y="4233"/>
                  </a:lnTo>
                  <a:lnTo>
                    <a:pt x="13478" y="4056"/>
                  </a:lnTo>
                  <a:lnTo>
                    <a:pt x="13407" y="3915"/>
                  </a:lnTo>
                  <a:lnTo>
                    <a:pt x="13372" y="3845"/>
                  </a:lnTo>
                  <a:lnTo>
                    <a:pt x="13337" y="3774"/>
                  </a:lnTo>
                  <a:lnTo>
                    <a:pt x="13266" y="3668"/>
                  </a:lnTo>
                  <a:lnTo>
                    <a:pt x="13195" y="3563"/>
                  </a:lnTo>
                  <a:lnTo>
                    <a:pt x="13090" y="3421"/>
                  </a:lnTo>
                  <a:lnTo>
                    <a:pt x="13054" y="3386"/>
                  </a:lnTo>
                  <a:lnTo>
                    <a:pt x="13019" y="3351"/>
                  </a:lnTo>
                  <a:lnTo>
                    <a:pt x="12984" y="3316"/>
                  </a:lnTo>
                  <a:lnTo>
                    <a:pt x="12948" y="3245"/>
                  </a:lnTo>
                  <a:lnTo>
                    <a:pt x="12948" y="3175"/>
                  </a:lnTo>
                  <a:lnTo>
                    <a:pt x="12948" y="3069"/>
                  </a:lnTo>
                  <a:lnTo>
                    <a:pt x="12948" y="3033"/>
                  </a:lnTo>
                  <a:lnTo>
                    <a:pt x="12984" y="2963"/>
                  </a:lnTo>
                  <a:lnTo>
                    <a:pt x="13019" y="2928"/>
                  </a:lnTo>
                  <a:lnTo>
                    <a:pt x="13054" y="2857"/>
                  </a:lnTo>
                  <a:lnTo>
                    <a:pt x="13125" y="2681"/>
                  </a:lnTo>
                  <a:lnTo>
                    <a:pt x="13195" y="2469"/>
                  </a:lnTo>
                  <a:lnTo>
                    <a:pt x="13266" y="2222"/>
                  </a:lnTo>
                  <a:lnTo>
                    <a:pt x="13266" y="2116"/>
                  </a:lnTo>
                  <a:lnTo>
                    <a:pt x="13266" y="2081"/>
                  </a:lnTo>
                  <a:lnTo>
                    <a:pt x="13266" y="1940"/>
                  </a:lnTo>
                  <a:lnTo>
                    <a:pt x="13266" y="1869"/>
                  </a:lnTo>
                  <a:lnTo>
                    <a:pt x="13231" y="1728"/>
                  </a:lnTo>
                  <a:lnTo>
                    <a:pt x="13195" y="1658"/>
                  </a:lnTo>
                  <a:lnTo>
                    <a:pt x="13160" y="1552"/>
                  </a:lnTo>
                  <a:lnTo>
                    <a:pt x="13125" y="1552"/>
                  </a:lnTo>
                  <a:lnTo>
                    <a:pt x="13054" y="1481"/>
                  </a:lnTo>
                  <a:lnTo>
                    <a:pt x="13019" y="1446"/>
                  </a:lnTo>
                  <a:lnTo>
                    <a:pt x="12948" y="1411"/>
                  </a:lnTo>
                  <a:lnTo>
                    <a:pt x="12807" y="1340"/>
                  </a:lnTo>
                  <a:lnTo>
                    <a:pt x="12666" y="1305"/>
                  </a:lnTo>
                  <a:lnTo>
                    <a:pt x="12490" y="1270"/>
                  </a:lnTo>
                  <a:lnTo>
                    <a:pt x="12419" y="1270"/>
                  </a:lnTo>
                  <a:lnTo>
                    <a:pt x="12349" y="1270"/>
                  </a:lnTo>
                  <a:lnTo>
                    <a:pt x="12172" y="1234"/>
                  </a:lnTo>
                  <a:lnTo>
                    <a:pt x="12031" y="1164"/>
                  </a:lnTo>
                  <a:lnTo>
                    <a:pt x="11925" y="1058"/>
                  </a:lnTo>
                  <a:lnTo>
                    <a:pt x="11855" y="987"/>
                  </a:lnTo>
                  <a:lnTo>
                    <a:pt x="11820" y="917"/>
                  </a:lnTo>
                  <a:lnTo>
                    <a:pt x="11678" y="776"/>
                  </a:lnTo>
                  <a:lnTo>
                    <a:pt x="11608" y="705"/>
                  </a:lnTo>
                  <a:lnTo>
                    <a:pt x="11467" y="635"/>
                  </a:lnTo>
                  <a:lnTo>
                    <a:pt x="11396" y="599"/>
                  </a:lnTo>
                  <a:lnTo>
                    <a:pt x="11326" y="564"/>
                  </a:lnTo>
                  <a:lnTo>
                    <a:pt x="11255" y="529"/>
                  </a:lnTo>
                  <a:lnTo>
                    <a:pt x="11114" y="458"/>
                  </a:lnTo>
                  <a:lnTo>
                    <a:pt x="11079" y="423"/>
                  </a:lnTo>
                  <a:lnTo>
                    <a:pt x="11043" y="388"/>
                  </a:lnTo>
                  <a:lnTo>
                    <a:pt x="10973" y="352"/>
                  </a:lnTo>
                  <a:lnTo>
                    <a:pt x="10938" y="352"/>
                  </a:lnTo>
                  <a:lnTo>
                    <a:pt x="10832" y="317"/>
                  </a:lnTo>
                  <a:lnTo>
                    <a:pt x="10761" y="317"/>
                  </a:lnTo>
                  <a:lnTo>
                    <a:pt x="10655" y="317"/>
                  </a:lnTo>
                  <a:lnTo>
                    <a:pt x="10550" y="317"/>
                  </a:lnTo>
                  <a:lnTo>
                    <a:pt x="10408" y="317"/>
                  </a:lnTo>
                  <a:lnTo>
                    <a:pt x="10338" y="317"/>
                  </a:lnTo>
                  <a:lnTo>
                    <a:pt x="10197" y="317"/>
                  </a:lnTo>
                  <a:lnTo>
                    <a:pt x="9949" y="317"/>
                  </a:lnTo>
                  <a:lnTo>
                    <a:pt x="9702" y="352"/>
                  </a:lnTo>
                  <a:lnTo>
                    <a:pt x="9526" y="388"/>
                  </a:lnTo>
                  <a:lnTo>
                    <a:pt x="9420" y="423"/>
                  </a:lnTo>
                  <a:lnTo>
                    <a:pt x="9314" y="458"/>
                  </a:lnTo>
                  <a:lnTo>
                    <a:pt x="9173" y="458"/>
                  </a:lnTo>
                  <a:lnTo>
                    <a:pt x="8996" y="423"/>
                  </a:lnTo>
                  <a:lnTo>
                    <a:pt x="8785" y="352"/>
                  </a:lnTo>
                  <a:lnTo>
                    <a:pt x="8644" y="282"/>
                  </a:lnTo>
                  <a:lnTo>
                    <a:pt x="8573" y="246"/>
                  </a:lnTo>
                  <a:lnTo>
                    <a:pt x="8467" y="211"/>
                  </a:lnTo>
                  <a:lnTo>
                    <a:pt x="8326" y="176"/>
                  </a:lnTo>
                  <a:lnTo>
                    <a:pt x="8220" y="141"/>
                  </a:lnTo>
                  <a:lnTo>
                    <a:pt x="8114" y="141"/>
                  </a:lnTo>
                  <a:lnTo>
                    <a:pt x="8044" y="141"/>
                  </a:lnTo>
                  <a:lnTo>
                    <a:pt x="7938" y="141"/>
                  </a:lnTo>
                  <a:lnTo>
                    <a:pt x="7797" y="176"/>
                  </a:lnTo>
                  <a:lnTo>
                    <a:pt x="7762" y="176"/>
                  </a:lnTo>
                  <a:lnTo>
                    <a:pt x="7656" y="211"/>
                  </a:lnTo>
                  <a:lnTo>
                    <a:pt x="7444" y="246"/>
                  </a:lnTo>
                  <a:lnTo>
                    <a:pt x="7303" y="282"/>
                  </a:lnTo>
                  <a:lnTo>
                    <a:pt x="7091" y="352"/>
                  </a:lnTo>
                  <a:lnTo>
                    <a:pt x="7021" y="388"/>
                  </a:lnTo>
                  <a:lnTo>
                    <a:pt x="6950" y="423"/>
                  </a:lnTo>
                  <a:lnTo>
                    <a:pt x="6915" y="423"/>
                  </a:lnTo>
                  <a:lnTo>
                    <a:pt x="6774" y="458"/>
                  </a:lnTo>
                  <a:lnTo>
                    <a:pt x="6703" y="458"/>
                  </a:lnTo>
                  <a:lnTo>
                    <a:pt x="6668" y="458"/>
                  </a:lnTo>
                  <a:lnTo>
                    <a:pt x="6527" y="423"/>
                  </a:lnTo>
                  <a:lnTo>
                    <a:pt x="6492" y="423"/>
                  </a:lnTo>
                  <a:lnTo>
                    <a:pt x="6421" y="388"/>
                  </a:lnTo>
                  <a:lnTo>
                    <a:pt x="6351" y="352"/>
                  </a:lnTo>
                  <a:lnTo>
                    <a:pt x="6280" y="317"/>
                  </a:lnTo>
                  <a:lnTo>
                    <a:pt x="6104" y="246"/>
                  </a:lnTo>
                  <a:lnTo>
                    <a:pt x="5927" y="211"/>
                  </a:lnTo>
                  <a:lnTo>
                    <a:pt x="5680" y="176"/>
                  </a:lnTo>
                  <a:lnTo>
                    <a:pt x="5574" y="176"/>
                  </a:lnTo>
                  <a:lnTo>
                    <a:pt x="5469" y="176"/>
                  </a:lnTo>
                  <a:lnTo>
                    <a:pt x="5222" y="176"/>
                  </a:lnTo>
                  <a:lnTo>
                    <a:pt x="5010" y="211"/>
                  </a:lnTo>
                  <a:lnTo>
                    <a:pt x="4798" y="246"/>
                  </a:lnTo>
                  <a:lnTo>
                    <a:pt x="4692" y="282"/>
                  </a:lnTo>
                  <a:lnTo>
                    <a:pt x="4587" y="317"/>
                  </a:lnTo>
                  <a:lnTo>
                    <a:pt x="4410" y="317"/>
                  </a:lnTo>
                  <a:lnTo>
                    <a:pt x="4199" y="317"/>
                  </a:lnTo>
                  <a:lnTo>
                    <a:pt x="3987" y="246"/>
                  </a:lnTo>
                  <a:lnTo>
                    <a:pt x="3916" y="211"/>
                  </a:lnTo>
                  <a:lnTo>
                    <a:pt x="3846" y="176"/>
                  </a:lnTo>
                  <a:lnTo>
                    <a:pt x="3634" y="105"/>
                  </a:lnTo>
                  <a:lnTo>
                    <a:pt x="3351" y="35"/>
                  </a:lnTo>
                  <a:lnTo>
                    <a:pt x="3069" y="0"/>
                  </a:lnTo>
                  <a:lnTo>
                    <a:pt x="2928" y="0"/>
                  </a:lnTo>
                  <a:lnTo>
                    <a:pt x="2857" y="0"/>
                  </a:lnTo>
                  <a:lnTo>
                    <a:pt x="2681" y="0"/>
                  </a:lnTo>
                  <a:lnTo>
                    <a:pt x="2540" y="0"/>
                  </a:lnTo>
                  <a:lnTo>
                    <a:pt x="2363" y="35"/>
                  </a:lnTo>
                  <a:lnTo>
                    <a:pt x="2222" y="70"/>
                  </a:lnTo>
                  <a:lnTo>
                    <a:pt x="2046" y="141"/>
                  </a:lnTo>
                  <a:lnTo>
                    <a:pt x="1905" y="211"/>
                  </a:lnTo>
                  <a:lnTo>
                    <a:pt x="1763" y="317"/>
                  </a:lnTo>
                  <a:lnTo>
                    <a:pt x="1728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98840" y="3255840"/>
              <a:ext cx="51436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85120" y="1312920"/>
              <a:ext cx="114480" cy="194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01880" y="3713040"/>
              <a:ext cx="49402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27440" y="4170240"/>
              <a:ext cx="49150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72040" y="4627440"/>
              <a:ext cx="44578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3240" y="4856040"/>
              <a:ext cx="42292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857760" y="874800"/>
              <a:ext cx="243684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6730920" y="595440"/>
              <a:ext cx="167472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6729480" y="912960"/>
              <a:ext cx="138744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117960" y="2004840"/>
              <a:ext cx="64152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736720" y="3351240"/>
              <a:ext cx="10144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2970360" y="3821040"/>
              <a:ext cx="8110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3316320" y="4265640"/>
              <a:ext cx="6238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745080" y="4325760"/>
              <a:ext cx="31104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4456080" y="5129280"/>
              <a:ext cx="89532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13520" y="3370320"/>
              <a:ext cx="1144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13520" y="3827520"/>
              <a:ext cx="1144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99120" y="4284720"/>
              <a:ext cx="1144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56240" y="4741920"/>
              <a:ext cx="1144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64280" y="4970520"/>
              <a:ext cx="1144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3313080" y="4659480"/>
              <a:ext cx="64152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3757680" y="4719600"/>
              <a:ext cx="43812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49160" y="1676520"/>
            <a:ext cx="177336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720960" y="771480"/>
            <a:ext cx="487692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hlorofluorocarb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b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o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d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ill others which are yet to be fully characte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49160" y="1676520"/>
            <a:ext cx="195588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lob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720960" y="628560"/>
            <a:ext cx="487692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ertain gases in the troposphere absorb some of the infrared radiation reflected from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Dioxide is the major one (5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s include methane (18%) and CFCs (14%).  CFCs also are responsible for destroying the stratospheric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United States produces over 20% of the world's "greenhouse"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9160" y="4138560"/>
            <a:ext cx="1523880" cy="14986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5008680" y="2776680"/>
            <a:ext cx="255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49160" y="1676520"/>
            <a:ext cx="156528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ft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370320" y="888840"/>
            <a:ext cx="5156280" cy="52322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1716120" y="5797440"/>
            <a:ext cx="23796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1000"/>
              </a:lnSpc>
              <a:spcBef>
                <a:spcPts val="1080"/>
              </a:spcBef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Figures are in millions of metric ton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749160" y="1676520"/>
            <a:ext cx="1857240" cy="21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urces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Las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63880" y="1319040"/>
            <a:ext cx="461880" cy="523800"/>
          </a:xfrm>
          <a:prstGeom prst="rect">
            <a:avLst/>
          </a:prstGeom>
          <a:solidFill>
            <a:srgbClr val="676767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27920" y="1319040"/>
            <a:ext cx="463680" cy="1311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34200" y="1319040"/>
            <a:ext cx="461880" cy="17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21640" y="1319040"/>
            <a:ext cx="463680" cy="4371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51320" y="1319040"/>
            <a:ext cx="463680" cy="436680"/>
          </a:xfrm>
          <a:prstGeom prst="rect">
            <a:avLst/>
          </a:prstGeom>
          <a:solidFill>
            <a:srgbClr val="676767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57600" y="1319040"/>
            <a:ext cx="463680" cy="1574640"/>
          </a:xfrm>
          <a:prstGeom prst="rect">
            <a:avLst/>
          </a:prstGeom>
          <a:solidFill>
            <a:srgbClr val="676767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724200" y="195588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417920" y="300528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265720" y="1870200"/>
            <a:ext cx="5796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658280" y="589104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270480" y="1693800"/>
            <a:ext cx="5796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964200" y="283068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720960" y="685800"/>
            <a:ext cx="533232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6000"/>
              </a:lnSpc>
              <a:spcBef>
                <a:spcPts val="1392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Cs   CO    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492360" y="4267080"/>
            <a:ext cx="3616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105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cent reductions shown are based on estimates of tons/year from mobile sources over the 1981 - 1990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749160" y="1676520"/>
            <a:ext cx="2003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ffected b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0520" y="1346040"/>
            <a:ext cx="461880" cy="35863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94240" y="3708360"/>
            <a:ext cx="463680" cy="12240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89400" y="4319640"/>
            <a:ext cx="463680" cy="6127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70480" y="3795840"/>
            <a:ext cx="461880" cy="1136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64200" y="4844880"/>
            <a:ext cx="463680" cy="87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658280" y="4670280"/>
            <a:ext cx="463680" cy="262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6200" y="949320"/>
            <a:ext cx="3729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14760" y="3309840"/>
            <a:ext cx="3729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5346720" y="3922560"/>
            <a:ext cx="2509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289560" y="3398760"/>
            <a:ext cx="3729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045200" y="4448160"/>
            <a:ext cx="2509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7818480" y="4273560"/>
            <a:ext cx="2509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492360" y="5122800"/>
            <a:ext cx="52578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6000"/>
              </a:lnSpc>
              <a:spcBef>
                <a:spcPts val="1392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zone   CO    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416400" y="5715000"/>
            <a:ext cx="533412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spcBef>
                <a:spcPts val="984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llions of people living in counties with air quality that exceeds each NAAQS (1990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153040" y="1165320"/>
            <a:ext cx="3368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spcBef>
                <a:spcPts val="984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 74 mill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people are subjected to high levels of at least one of these pollu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49160" y="167652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20960" y="955800"/>
            <a:ext cx="46022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749160" y="1676520"/>
            <a:ext cx="1668600" cy="38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 Wan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49800" y="105552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249800" y="2717640"/>
            <a:ext cx="4089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262400" y="2911320"/>
            <a:ext cx="446256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720960" y="1216080"/>
            <a:ext cx="44928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635360" y="2455920"/>
            <a:ext cx="615960" cy="87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251320" y="2281320"/>
            <a:ext cx="773280" cy="17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6024600" y="1319040"/>
            <a:ext cx="2082600" cy="962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262400" y="826920"/>
            <a:ext cx="28414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rillions of kw-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249800" y="429264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9800" y="5954760"/>
            <a:ext cx="4167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262400" y="6148440"/>
            <a:ext cx="446256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457440" y="4451400"/>
            <a:ext cx="68112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635360" y="5429160"/>
            <a:ext cx="615960" cy="87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251320" y="5254560"/>
            <a:ext cx="695520" cy="17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5946840" y="4379760"/>
            <a:ext cx="2160360" cy="874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17920" y="4033800"/>
            <a:ext cx="28400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way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749160" y="1676520"/>
            <a:ext cx="196056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ive 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F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325760" y="90972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325760" y="2571840"/>
            <a:ext cx="4091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327560" y="2752560"/>
            <a:ext cx="448632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711600" y="1057320"/>
            <a:ext cx="471600" cy="17096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713120" y="2311560"/>
            <a:ext cx="615960" cy="85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329080" y="2048040"/>
            <a:ext cx="773280" cy="263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102360" y="1085760"/>
            <a:ext cx="2082960" cy="962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478400" y="669960"/>
            <a:ext cx="2867040" cy="723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 Trav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r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25760" y="414648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25760" y="5808600"/>
            <a:ext cx="4168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327560" y="5989680"/>
            <a:ext cx="448632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479760" y="4292640"/>
            <a:ext cx="703440" cy="17096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713120" y="5457960"/>
            <a:ext cx="615960" cy="87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329080" y="5283360"/>
            <a:ext cx="695520" cy="17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024600" y="4408560"/>
            <a:ext cx="2160720" cy="874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417920" y="3713040"/>
            <a:ext cx="28400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el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illions of gall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749160" y="1676520"/>
            <a:ext cx="212724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us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theoret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3949560" y="853920"/>
            <a:ext cx="49528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655560" y="1860480"/>
            <a:ext cx="256716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us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act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3728880" y="1920960"/>
            <a:ext cx="5067360" cy="14605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5349960" y="681120"/>
            <a:ext cx="15159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day's 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7583400" y="681120"/>
            <a:ext cx="132228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al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9040" y="4438800"/>
            <a:ext cx="25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646440" y="4486320"/>
            <a:ext cx="21463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tr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ter (s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Di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llu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192720" y="3819600"/>
            <a:ext cx="2747880" cy="23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lluta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burned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Mon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xides of Nitr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elements or comp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388200" y="1143000"/>
            <a:ext cx="1255680" cy="876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8107200" y="1143000"/>
            <a:ext cx="109800" cy="876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63880" y="3330720"/>
            <a:ext cx="0" cy="874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749160" y="1676520"/>
            <a:ext cx="22096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522600" y="3043080"/>
            <a:ext cx="5067360" cy="14605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6804000" y="1663560"/>
            <a:ext cx="1193760" cy="7239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3"/>
          <a:stretch/>
        </p:blipFill>
        <p:spPr>
          <a:xfrm>
            <a:off x="7815240" y="4584600"/>
            <a:ext cx="546120" cy="8254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4"/>
          <a:stretch/>
        </p:blipFill>
        <p:spPr>
          <a:xfrm>
            <a:off x="3983040" y="2714760"/>
            <a:ext cx="482760" cy="5461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4483080" y="609480"/>
            <a:ext cx="4627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porativ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iurnal, running losses, hot soa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578640" y="5533920"/>
            <a:ext cx="253224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rankcase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ue to "blowby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882880" y="1828800"/>
            <a:ext cx="3063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ueling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isplaced vap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273400" y="4724280"/>
            <a:ext cx="388152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scellaneous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ue to other evaporation  and wear of brakes, tir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749160" y="1676520"/>
            <a:ext cx="185724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 a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Sourc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Air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3522600" y="2781360"/>
            <a:ext cx="5067360" cy="14605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 txBox="1"/>
          <p:nvPr/>
        </p:nvSpPr>
        <p:spPr>
          <a:xfrm>
            <a:off x="6550200" y="923760"/>
            <a:ext cx="17812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p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27400" y="923760"/>
            <a:ext cx="1452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u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478320" y="5484960"/>
            <a:ext cx="1549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694560" y="5310360"/>
            <a:ext cx="161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rank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s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3933720" y="4410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3855960" y="20494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7020000" y="20494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5"/>
          <a:stretch/>
        </p:blipFill>
        <p:spPr>
          <a:xfrm>
            <a:off x="6981840" y="446256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25480" y="1676520"/>
            <a:ext cx="23623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3589200" y="4486320"/>
            <a:ext cx="5181480" cy="20574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3119400" y="1073160"/>
            <a:ext cx="2349360" cy="26287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5575320" y="685800"/>
            <a:ext cx="3632040" cy="31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the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incomplete combu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"wall quench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high pressure and te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"Blowby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Due to evaporation of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"breath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hot engine and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isplacement of vap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749160" y="1676520"/>
            <a:ext cx="14400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ec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-Fue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3359160" y="1212840"/>
            <a:ext cx="541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49160" y="1676520"/>
            <a:ext cx="210996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arly Days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35360" y="3508200"/>
            <a:ext cx="63360" cy="6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9440" y="3683160"/>
            <a:ext cx="63360" cy="6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944960" y="3859200"/>
            <a:ext cx="63360" cy="6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99040" y="4032360"/>
            <a:ext cx="63360" cy="6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7480" y="4114800"/>
            <a:ext cx="1244520" cy="23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3941640"/>
            <a:ext cx="1467000" cy="279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73840" y="5513400"/>
            <a:ext cx="375120" cy="392400"/>
          </a:xfrm>
          <a:custGeom>
            <a:avLst/>
            <a:gdLst/>
            <a:ahLst/>
            <a:rect l="0" t="0" r="r" b="b"/>
            <a:pathLst>
              <a:path fill="none" w="1042" h="1090">
                <a:moveTo>
                  <a:pt x="0" y="330"/>
                </a:moveTo>
                <a:lnTo>
                  <a:pt x="145" y="427"/>
                </a:lnTo>
                <a:lnTo>
                  <a:pt x="287" y="569"/>
                </a:lnTo>
                <a:lnTo>
                  <a:pt x="380" y="710"/>
                </a:lnTo>
                <a:lnTo>
                  <a:pt x="380" y="852"/>
                </a:lnTo>
                <a:lnTo>
                  <a:pt x="477" y="997"/>
                </a:lnTo>
                <a:lnTo>
                  <a:pt x="618" y="1090"/>
                </a:lnTo>
                <a:lnTo>
                  <a:pt x="666" y="949"/>
                </a:lnTo>
                <a:lnTo>
                  <a:pt x="569" y="807"/>
                </a:lnTo>
                <a:lnTo>
                  <a:pt x="428" y="662"/>
                </a:lnTo>
                <a:lnTo>
                  <a:pt x="380" y="520"/>
                </a:lnTo>
                <a:lnTo>
                  <a:pt x="331" y="379"/>
                </a:lnTo>
                <a:lnTo>
                  <a:pt x="287" y="238"/>
                </a:lnTo>
                <a:lnTo>
                  <a:pt x="145" y="330"/>
                </a:lnTo>
                <a:lnTo>
                  <a:pt x="145" y="189"/>
                </a:lnTo>
                <a:lnTo>
                  <a:pt x="97" y="330"/>
                </a:lnTo>
                <a:lnTo>
                  <a:pt x="238" y="238"/>
                </a:lnTo>
                <a:lnTo>
                  <a:pt x="380" y="141"/>
                </a:lnTo>
                <a:lnTo>
                  <a:pt x="521" y="0"/>
                </a:lnTo>
                <a:lnTo>
                  <a:pt x="569" y="141"/>
                </a:lnTo>
                <a:lnTo>
                  <a:pt x="666" y="282"/>
                </a:lnTo>
                <a:lnTo>
                  <a:pt x="808" y="379"/>
                </a:lnTo>
                <a:lnTo>
                  <a:pt x="901" y="520"/>
                </a:lnTo>
                <a:lnTo>
                  <a:pt x="1042" y="662"/>
                </a:lnTo>
                <a:lnTo>
                  <a:pt x="901" y="618"/>
                </a:lnTo>
                <a:lnTo>
                  <a:pt x="759" y="471"/>
                </a:lnTo>
                <a:lnTo>
                  <a:pt x="618" y="330"/>
                </a:lnTo>
                <a:lnTo>
                  <a:pt x="710" y="471"/>
                </a:lnTo>
                <a:lnTo>
                  <a:pt x="808" y="618"/>
                </a:lnTo>
                <a:lnTo>
                  <a:pt x="710" y="471"/>
                </a:lnTo>
                <a:lnTo>
                  <a:pt x="618" y="330"/>
                </a:lnTo>
                <a:lnTo>
                  <a:pt x="477" y="238"/>
                </a:lnTo>
                <a:lnTo>
                  <a:pt x="428" y="379"/>
                </a:lnTo>
                <a:lnTo>
                  <a:pt x="477" y="520"/>
                </a:lnTo>
                <a:lnTo>
                  <a:pt x="569" y="662"/>
                </a:lnTo>
                <a:lnTo>
                  <a:pt x="618" y="807"/>
                </a:lnTo>
                <a:lnTo>
                  <a:pt x="759" y="710"/>
                </a:lnTo>
                <a:lnTo>
                  <a:pt x="710" y="569"/>
                </a:lnTo>
                <a:lnTo>
                  <a:pt x="618" y="427"/>
                </a:lnTo>
                <a:lnTo>
                  <a:pt x="666" y="569"/>
                </a:lnTo>
                <a:lnTo>
                  <a:pt x="710" y="710"/>
                </a:lnTo>
                <a:lnTo>
                  <a:pt x="853" y="710"/>
                </a:lnTo>
                <a:lnTo>
                  <a:pt x="808" y="852"/>
                </a:lnTo>
                <a:lnTo>
                  <a:pt x="808" y="710"/>
                </a:lnTo>
                <a:lnTo>
                  <a:pt x="950" y="618"/>
                </a:lnTo>
                <a:lnTo>
                  <a:pt x="853" y="569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7480" y="5564160"/>
            <a:ext cx="154440" cy="144720"/>
          </a:xfrm>
          <a:custGeom>
            <a:avLst/>
            <a:gdLst/>
            <a:ahLst/>
            <a:rect l="0" t="0" r="r" b="b"/>
            <a:pathLst>
              <a:path fill="none" w="429" h="402">
                <a:moveTo>
                  <a:pt x="0" y="402"/>
                </a:moveTo>
                <a:lnTo>
                  <a:pt x="48" y="287"/>
                </a:lnTo>
                <a:lnTo>
                  <a:pt x="190" y="189"/>
                </a:lnTo>
                <a:lnTo>
                  <a:pt x="332" y="141"/>
                </a:lnTo>
                <a:lnTo>
                  <a:pt x="429" y="0"/>
                </a:lnTo>
                <a:lnTo>
                  <a:pt x="287" y="0"/>
                </a:lnTo>
                <a:lnTo>
                  <a:pt x="190" y="141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84760" y="5581800"/>
            <a:ext cx="255960" cy="187560"/>
          </a:xfrm>
          <a:custGeom>
            <a:avLst/>
            <a:gdLst/>
            <a:ahLst/>
            <a:rect l="0" t="0" r="r" b="b"/>
            <a:pathLst>
              <a:path fill="none" w="711" h="521">
                <a:moveTo>
                  <a:pt x="141" y="92"/>
                </a:moveTo>
                <a:lnTo>
                  <a:pt x="0" y="189"/>
                </a:lnTo>
                <a:lnTo>
                  <a:pt x="141" y="189"/>
                </a:lnTo>
                <a:lnTo>
                  <a:pt x="283" y="189"/>
                </a:lnTo>
                <a:lnTo>
                  <a:pt x="428" y="141"/>
                </a:lnTo>
                <a:lnTo>
                  <a:pt x="570" y="92"/>
                </a:lnTo>
                <a:lnTo>
                  <a:pt x="428" y="189"/>
                </a:lnTo>
                <a:lnTo>
                  <a:pt x="283" y="238"/>
                </a:lnTo>
                <a:lnTo>
                  <a:pt x="239" y="380"/>
                </a:lnTo>
                <a:lnTo>
                  <a:pt x="92" y="331"/>
                </a:lnTo>
                <a:lnTo>
                  <a:pt x="92" y="472"/>
                </a:lnTo>
                <a:lnTo>
                  <a:pt x="239" y="521"/>
                </a:lnTo>
                <a:lnTo>
                  <a:pt x="380" y="428"/>
                </a:lnTo>
                <a:lnTo>
                  <a:pt x="521" y="331"/>
                </a:lnTo>
                <a:lnTo>
                  <a:pt x="614" y="189"/>
                </a:lnTo>
                <a:lnTo>
                  <a:pt x="711" y="48"/>
                </a:lnTo>
                <a:lnTo>
                  <a:pt x="570" y="0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64080" y="5427720"/>
            <a:ext cx="322560" cy="154440"/>
          </a:xfrm>
          <a:custGeom>
            <a:avLst/>
            <a:gdLst/>
            <a:ahLst/>
            <a:rect l="0" t="0" r="r" b="b"/>
            <a:pathLst>
              <a:path fill="none" w="896" h="429">
                <a:moveTo>
                  <a:pt x="141" y="142"/>
                </a:moveTo>
                <a:lnTo>
                  <a:pt x="0" y="287"/>
                </a:lnTo>
                <a:lnTo>
                  <a:pt x="44" y="429"/>
                </a:lnTo>
                <a:lnTo>
                  <a:pt x="189" y="429"/>
                </a:lnTo>
                <a:lnTo>
                  <a:pt x="330" y="429"/>
                </a:lnTo>
                <a:lnTo>
                  <a:pt x="472" y="429"/>
                </a:lnTo>
                <a:lnTo>
                  <a:pt x="521" y="287"/>
                </a:lnTo>
                <a:lnTo>
                  <a:pt x="374" y="239"/>
                </a:lnTo>
                <a:lnTo>
                  <a:pt x="521" y="190"/>
                </a:lnTo>
                <a:lnTo>
                  <a:pt x="374" y="97"/>
                </a:lnTo>
                <a:lnTo>
                  <a:pt x="233" y="190"/>
                </a:lnTo>
                <a:lnTo>
                  <a:pt x="423" y="239"/>
                </a:lnTo>
                <a:lnTo>
                  <a:pt x="423" y="97"/>
                </a:lnTo>
                <a:lnTo>
                  <a:pt x="282" y="48"/>
                </a:lnTo>
                <a:lnTo>
                  <a:pt x="189" y="190"/>
                </a:lnTo>
                <a:lnTo>
                  <a:pt x="330" y="287"/>
                </a:lnTo>
                <a:lnTo>
                  <a:pt x="423" y="142"/>
                </a:lnTo>
                <a:lnTo>
                  <a:pt x="282" y="97"/>
                </a:lnTo>
                <a:lnTo>
                  <a:pt x="189" y="239"/>
                </a:lnTo>
                <a:lnTo>
                  <a:pt x="330" y="332"/>
                </a:lnTo>
                <a:lnTo>
                  <a:pt x="472" y="332"/>
                </a:lnTo>
                <a:lnTo>
                  <a:pt x="472" y="190"/>
                </a:lnTo>
                <a:lnTo>
                  <a:pt x="330" y="142"/>
                </a:lnTo>
                <a:lnTo>
                  <a:pt x="189" y="239"/>
                </a:lnTo>
                <a:lnTo>
                  <a:pt x="233" y="381"/>
                </a:lnTo>
                <a:lnTo>
                  <a:pt x="423" y="429"/>
                </a:lnTo>
                <a:lnTo>
                  <a:pt x="565" y="332"/>
                </a:lnTo>
                <a:lnTo>
                  <a:pt x="706" y="239"/>
                </a:lnTo>
                <a:lnTo>
                  <a:pt x="852" y="190"/>
                </a:lnTo>
                <a:lnTo>
                  <a:pt x="896" y="48"/>
                </a:lnTo>
                <a:lnTo>
                  <a:pt x="755" y="0"/>
                </a:lnTo>
                <a:lnTo>
                  <a:pt x="613" y="0"/>
                </a:lnTo>
                <a:lnTo>
                  <a:pt x="472" y="48"/>
                </a:lnTo>
                <a:lnTo>
                  <a:pt x="613" y="142"/>
                </a:lnTo>
                <a:lnTo>
                  <a:pt x="803" y="142"/>
                </a:lnTo>
                <a:lnTo>
                  <a:pt x="662" y="97"/>
                </a:lnTo>
                <a:lnTo>
                  <a:pt x="521" y="239"/>
                </a:lnTo>
                <a:lnTo>
                  <a:pt x="423" y="381"/>
                </a:lnTo>
                <a:lnTo>
                  <a:pt x="374" y="332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5320" y="1790640"/>
            <a:ext cx="2494440" cy="1008360"/>
          </a:xfrm>
          <a:custGeom>
            <a:avLst/>
            <a:gdLst/>
            <a:ahLst/>
            <a:rect l="0" t="0" r="r" b="b"/>
            <a:pathLst>
              <a:path fill="none" w="6929" h="2801">
                <a:moveTo>
                  <a:pt x="0" y="2774"/>
                </a:moveTo>
                <a:lnTo>
                  <a:pt x="167" y="2730"/>
                </a:lnTo>
                <a:lnTo>
                  <a:pt x="308" y="2660"/>
                </a:lnTo>
                <a:lnTo>
                  <a:pt x="449" y="2585"/>
                </a:lnTo>
                <a:lnTo>
                  <a:pt x="617" y="2492"/>
                </a:lnTo>
                <a:lnTo>
                  <a:pt x="732" y="2395"/>
                </a:lnTo>
                <a:lnTo>
                  <a:pt x="851" y="2351"/>
                </a:lnTo>
                <a:lnTo>
                  <a:pt x="992" y="2302"/>
                </a:lnTo>
                <a:lnTo>
                  <a:pt x="1111" y="2232"/>
                </a:lnTo>
                <a:lnTo>
                  <a:pt x="1252" y="2113"/>
                </a:lnTo>
                <a:lnTo>
                  <a:pt x="1393" y="2042"/>
                </a:lnTo>
                <a:lnTo>
                  <a:pt x="1538" y="1897"/>
                </a:lnTo>
                <a:lnTo>
                  <a:pt x="1631" y="1782"/>
                </a:lnTo>
                <a:lnTo>
                  <a:pt x="1728" y="1663"/>
                </a:lnTo>
                <a:lnTo>
                  <a:pt x="1870" y="1544"/>
                </a:lnTo>
                <a:lnTo>
                  <a:pt x="1989" y="1447"/>
                </a:lnTo>
                <a:lnTo>
                  <a:pt x="2104" y="1375"/>
                </a:lnTo>
                <a:lnTo>
                  <a:pt x="2223" y="1305"/>
                </a:lnTo>
                <a:lnTo>
                  <a:pt x="2342" y="1208"/>
                </a:lnTo>
                <a:lnTo>
                  <a:pt x="2461" y="1137"/>
                </a:lnTo>
                <a:lnTo>
                  <a:pt x="2580" y="1067"/>
                </a:lnTo>
                <a:lnTo>
                  <a:pt x="2721" y="974"/>
                </a:lnTo>
                <a:lnTo>
                  <a:pt x="2840" y="877"/>
                </a:lnTo>
                <a:lnTo>
                  <a:pt x="2981" y="736"/>
                </a:lnTo>
                <a:lnTo>
                  <a:pt x="3101" y="595"/>
                </a:lnTo>
                <a:lnTo>
                  <a:pt x="3215" y="449"/>
                </a:lnTo>
                <a:lnTo>
                  <a:pt x="3334" y="330"/>
                </a:lnTo>
                <a:lnTo>
                  <a:pt x="3453" y="216"/>
                </a:lnTo>
                <a:lnTo>
                  <a:pt x="3550" y="97"/>
                </a:lnTo>
                <a:lnTo>
                  <a:pt x="3665" y="0"/>
                </a:lnTo>
                <a:lnTo>
                  <a:pt x="3736" y="119"/>
                </a:lnTo>
                <a:lnTo>
                  <a:pt x="3784" y="238"/>
                </a:lnTo>
                <a:lnTo>
                  <a:pt x="3903" y="216"/>
                </a:lnTo>
                <a:lnTo>
                  <a:pt x="4022" y="141"/>
                </a:lnTo>
                <a:lnTo>
                  <a:pt x="4141" y="260"/>
                </a:lnTo>
                <a:lnTo>
                  <a:pt x="4256" y="189"/>
                </a:lnTo>
                <a:lnTo>
                  <a:pt x="4326" y="70"/>
                </a:lnTo>
                <a:lnTo>
                  <a:pt x="4423" y="189"/>
                </a:lnTo>
                <a:lnTo>
                  <a:pt x="4543" y="141"/>
                </a:lnTo>
                <a:lnTo>
                  <a:pt x="4662" y="216"/>
                </a:lnTo>
                <a:lnTo>
                  <a:pt x="4776" y="119"/>
                </a:lnTo>
                <a:lnTo>
                  <a:pt x="4847" y="238"/>
                </a:lnTo>
                <a:lnTo>
                  <a:pt x="4922" y="119"/>
                </a:lnTo>
                <a:lnTo>
                  <a:pt x="5036" y="216"/>
                </a:lnTo>
                <a:lnTo>
                  <a:pt x="5133" y="330"/>
                </a:lnTo>
                <a:lnTo>
                  <a:pt x="5182" y="449"/>
                </a:lnTo>
                <a:lnTo>
                  <a:pt x="5227" y="568"/>
                </a:lnTo>
                <a:lnTo>
                  <a:pt x="5276" y="687"/>
                </a:lnTo>
                <a:lnTo>
                  <a:pt x="5324" y="806"/>
                </a:lnTo>
                <a:lnTo>
                  <a:pt x="5368" y="926"/>
                </a:lnTo>
                <a:lnTo>
                  <a:pt x="5417" y="1067"/>
                </a:lnTo>
                <a:lnTo>
                  <a:pt x="5465" y="1208"/>
                </a:lnTo>
                <a:lnTo>
                  <a:pt x="5514" y="1327"/>
                </a:lnTo>
                <a:lnTo>
                  <a:pt x="5558" y="1447"/>
                </a:lnTo>
                <a:lnTo>
                  <a:pt x="5628" y="1566"/>
                </a:lnTo>
                <a:lnTo>
                  <a:pt x="5703" y="1685"/>
                </a:lnTo>
                <a:lnTo>
                  <a:pt x="5747" y="1804"/>
                </a:lnTo>
                <a:lnTo>
                  <a:pt x="5818" y="1923"/>
                </a:lnTo>
                <a:lnTo>
                  <a:pt x="5888" y="2042"/>
                </a:lnTo>
                <a:lnTo>
                  <a:pt x="5985" y="2161"/>
                </a:lnTo>
                <a:lnTo>
                  <a:pt x="6105" y="2276"/>
                </a:lnTo>
                <a:lnTo>
                  <a:pt x="6224" y="2395"/>
                </a:lnTo>
                <a:lnTo>
                  <a:pt x="6338" y="2492"/>
                </a:lnTo>
                <a:lnTo>
                  <a:pt x="6457" y="2563"/>
                </a:lnTo>
                <a:lnTo>
                  <a:pt x="6576" y="2660"/>
                </a:lnTo>
                <a:lnTo>
                  <a:pt x="6695" y="2730"/>
                </a:lnTo>
                <a:lnTo>
                  <a:pt x="6815" y="2774"/>
                </a:lnTo>
                <a:lnTo>
                  <a:pt x="6929" y="2801"/>
                </a:lnTo>
                <a:lnTo>
                  <a:pt x="6907" y="28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97560" y="1560600"/>
            <a:ext cx="35280" cy="205200"/>
          </a:xfrm>
          <a:custGeom>
            <a:avLst/>
            <a:gdLst/>
            <a:ahLst/>
            <a:rect l="0" t="0" r="r" b="b"/>
            <a:pathLst>
              <a:path fill="none" w="98" h="570">
                <a:moveTo>
                  <a:pt x="48" y="0"/>
                </a:moveTo>
                <a:lnTo>
                  <a:pt x="26" y="119"/>
                </a:lnTo>
                <a:lnTo>
                  <a:pt x="0" y="261"/>
                </a:lnTo>
                <a:lnTo>
                  <a:pt x="0" y="380"/>
                </a:lnTo>
                <a:lnTo>
                  <a:pt x="48" y="500"/>
                </a:lnTo>
                <a:lnTo>
                  <a:pt x="98" y="570"/>
                </a:lnTo>
                <a:lnTo>
                  <a:pt x="98" y="54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832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8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6080" y="1560600"/>
            <a:ext cx="41760" cy="222480"/>
          </a:xfrm>
          <a:custGeom>
            <a:avLst/>
            <a:gdLst/>
            <a:ahLst/>
            <a:rect l="0" t="0" r="r" b="b"/>
            <a:pathLst>
              <a:path fill="none" w="116" h="618">
                <a:moveTo>
                  <a:pt x="116" y="0"/>
                </a:moveTo>
                <a:lnTo>
                  <a:pt x="45" y="119"/>
                </a:lnTo>
                <a:lnTo>
                  <a:pt x="116" y="238"/>
                </a:lnTo>
                <a:lnTo>
                  <a:pt x="0" y="331"/>
                </a:lnTo>
                <a:lnTo>
                  <a:pt x="45" y="450"/>
                </a:lnTo>
                <a:lnTo>
                  <a:pt x="94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0240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3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836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8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5468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8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05280" y="2763720"/>
            <a:ext cx="1491120" cy="111600"/>
          </a:xfrm>
          <a:custGeom>
            <a:avLst/>
            <a:gdLst/>
            <a:ahLst/>
            <a:rect l="0" t="0" r="r" b="b"/>
            <a:pathLst>
              <a:path fill="none" w="4142" h="310">
                <a:moveTo>
                  <a:pt x="0" y="70"/>
                </a:moveTo>
                <a:lnTo>
                  <a:pt x="141" y="168"/>
                </a:lnTo>
                <a:lnTo>
                  <a:pt x="260" y="168"/>
                </a:lnTo>
                <a:lnTo>
                  <a:pt x="449" y="146"/>
                </a:lnTo>
                <a:lnTo>
                  <a:pt x="780" y="98"/>
                </a:lnTo>
                <a:lnTo>
                  <a:pt x="996" y="98"/>
                </a:lnTo>
                <a:lnTo>
                  <a:pt x="1112" y="98"/>
                </a:lnTo>
                <a:lnTo>
                  <a:pt x="1398" y="48"/>
                </a:lnTo>
                <a:lnTo>
                  <a:pt x="1610" y="48"/>
                </a:lnTo>
                <a:lnTo>
                  <a:pt x="1941" y="0"/>
                </a:lnTo>
                <a:lnTo>
                  <a:pt x="2060" y="0"/>
                </a:lnTo>
                <a:lnTo>
                  <a:pt x="2223" y="0"/>
                </a:lnTo>
                <a:lnTo>
                  <a:pt x="2391" y="0"/>
                </a:lnTo>
                <a:lnTo>
                  <a:pt x="2510" y="26"/>
                </a:lnTo>
                <a:lnTo>
                  <a:pt x="2629" y="70"/>
                </a:lnTo>
                <a:lnTo>
                  <a:pt x="2743" y="120"/>
                </a:lnTo>
                <a:lnTo>
                  <a:pt x="2862" y="240"/>
                </a:lnTo>
                <a:lnTo>
                  <a:pt x="2981" y="262"/>
                </a:lnTo>
                <a:lnTo>
                  <a:pt x="3101" y="262"/>
                </a:lnTo>
                <a:lnTo>
                  <a:pt x="3243" y="262"/>
                </a:lnTo>
                <a:lnTo>
                  <a:pt x="3432" y="262"/>
                </a:lnTo>
                <a:lnTo>
                  <a:pt x="3595" y="240"/>
                </a:lnTo>
                <a:lnTo>
                  <a:pt x="3763" y="240"/>
                </a:lnTo>
                <a:lnTo>
                  <a:pt x="3904" y="240"/>
                </a:lnTo>
                <a:lnTo>
                  <a:pt x="4023" y="262"/>
                </a:lnTo>
                <a:lnTo>
                  <a:pt x="4142" y="31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21200" y="2798640"/>
            <a:ext cx="2068920" cy="144720"/>
          </a:xfrm>
          <a:custGeom>
            <a:avLst/>
            <a:gdLst/>
            <a:ahLst/>
            <a:rect l="0" t="0" r="r" b="b"/>
            <a:pathLst>
              <a:path fill="none" w="5747" h="402">
                <a:moveTo>
                  <a:pt x="0" y="402"/>
                </a:moveTo>
                <a:lnTo>
                  <a:pt x="590" y="309"/>
                </a:lnTo>
                <a:lnTo>
                  <a:pt x="1018" y="261"/>
                </a:lnTo>
                <a:lnTo>
                  <a:pt x="1681" y="212"/>
                </a:lnTo>
                <a:lnTo>
                  <a:pt x="2060" y="212"/>
                </a:lnTo>
                <a:lnTo>
                  <a:pt x="2391" y="189"/>
                </a:lnTo>
                <a:lnTo>
                  <a:pt x="2695" y="212"/>
                </a:lnTo>
                <a:lnTo>
                  <a:pt x="2933" y="239"/>
                </a:lnTo>
                <a:lnTo>
                  <a:pt x="3145" y="261"/>
                </a:lnTo>
                <a:lnTo>
                  <a:pt x="3356" y="283"/>
                </a:lnTo>
                <a:lnTo>
                  <a:pt x="3572" y="261"/>
                </a:lnTo>
                <a:lnTo>
                  <a:pt x="3806" y="212"/>
                </a:lnTo>
                <a:lnTo>
                  <a:pt x="4066" y="141"/>
                </a:lnTo>
                <a:lnTo>
                  <a:pt x="4282" y="70"/>
                </a:lnTo>
                <a:lnTo>
                  <a:pt x="4495" y="22"/>
                </a:lnTo>
                <a:lnTo>
                  <a:pt x="4707" y="0"/>
                </a:lnTo>
                <a:lnTo>
                  <a:pt x="4918" y="0"/>
                </a:lnTo>
                <a:lnTo>
                  <a:pt x="5108" y="92"/>
                </a:lnTo>
                <a:lnTo>
                  <a:pt x="5324" y="163"/>
                </a:lnTo>
                <a:lnTo>
                  <a:pt x="5536" y="163"/>
                </a:lnTo>
                <a:lnTo>
                  <a:pt x="5747" y="1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5600" y="2247840"/>
            <a:ext cx="1686240" cy="2995920"/>
          </a:xfrm>
          <a:custGeom>
            <a:avLst/>
            <a:gdLst/>
            <a:ahLst/>
            <a:rect l="0" t="0" r="r" b="b"/>
            <a:pathLst>
              <a:path fill="none" w="4684" h="8322">
                <a:moveTo>
                  <a:pt x="4684" y="0"/>
                </a:moveTo>
                <a:lnTo>
                  <a:pt x="4423" y="282"/>
                </a:lnTo>
                <a:lnTo>
                  <a:pt x="3881" y="1538"/>
                </a:lnTo>
                <a:lnTo>
                  <a:pt x="2651" y="2751"/>
                </a:lnTo>
                <a:lnTo>
                  <a:pt x="2037" y="3201"/>
                </a:lnTo>
                <a:lnTo>
                  <a:pt x="1327" y="4269"/>
                </a:lnTo>
                <a:lnTo>
                  <a:pt x="877" y="5596"/>
                </a:lnTo>
                <a:lnTo>
                  <a:pt x="308" y="6805"/>
                </a:lnTo>
                <a:lnTo>
                  <a:pt x="48" y="8251"/>
                </a:lnTo>
                <a:lnTo>
                  <a:pt x="0" y="832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9640" y="3157560"/>
            <a:ext cx="784440" cy="1109880"/>
            <a:chOff x="4049640" y="3157560"/>
            <a:chExt cx="784440" cy="1109880"/>
          </a:xfrm>
        </p:grpSpPr>
        <p:sp>
          <p:nvSpPr>
            <p:cNvPr id="144" name=""/>
            <p:cNvSpPr/>
            <p:nvPr/>
          </p:nvSpPr>
          <p:spPr>
            <a:xfrm>
              <a:off x="4322880" y="3157560"/>
              <a:ext cx="154440" cy="1109880"/>
            </a:xfrm>
            <a:custGeom>
              <a:avLst/>
              <a:gdLst/>
              <a:ahLst/>
              <a:rect l="0" t="0" r="r" b="b"/>
              <a:pathLst>
                <a:path fill="none" w="429" h="3083">
                  <a:moveTo>
                    <a:pt x="332" y="44"/>
                  </a:moveTo>
                  <a:lnTo>
                    <a:pt x="332" y="189"/>
                  </a:lnTo>
                  <a:lnTo>
                    <a:pt x="332" y="330"/>
                  </a:lnTo>
                  <a:lnTo>
                    <a:pt x="283" y="520"/>
                  </a:lnTo>
                  <a:lnTo>
                    <a:pt x="283" y="661"/>
                  </a:lnTo>
                  <a:lnTo>
                    <a:pt x="283" y="851"/>
                  </a:lnTo>
                  <a:lnTo>
                    <a:pt x="283" y="1040"/>
                  </a:lnTo>
                  <a:lnTo>
                    <a:pt x="283" y="1230"/>
                  </a:lnTo>
                  <a:lnTo>
                    <a:pt x="283" y="1375"/>
                  </a:lnTo>
                  <a:lnTo>
                    <a:pt x="283" y="1566"/>
                  </a:lnTo>
                  <a:lnTo>
                    <a:pt x="283" y="1707"/>
                  </a:lnTo>
                  <a:lnTo>
                    <a:pt x="283" y="1848"/>
                  </a:lnTo>
                  <a:lnTo>
                    <a:pt x="283" y="1989"/>
                  </a:lnTo>
                  <a:lnTo>
                    <a:pt x="283" y="2135"/>
                  </a:lnTo>
                  <a:lnTo>
                    <a:pt x="239" y="2276"/>
                  </a:lnTo>
                  <a:lnTo>
                    <a:pt x="239" y="2417"/>
                  </a:lnTo>
                  <a:lnTo>
                    <a:pt x="190" y="2558"/>
                  </a:lnTo>
                  <a:lnTo>
                    <a:pt x="190" y="2704"/>
                  </a:lnTo>
                  <a:lnTo>
                    <a:pt x="190" y="2845"/>
                  </a:lnTo>
                  <a:lnTo>
                    <a:pt x="190" y="2986"/>
                  </a:lnTo>
                  <a:lnTo>
                    <a:pt x="332" y="3083"/>
                  </a:lnTo>
                  <a:lnTo>
                    <a:pt x="429" y="2937"/>
                  </a:lnTo>
                  <a:lnTo>
                    <a:pt x="381" y="2796"/>
                  </a:lnTo>
                  <a:lnTo>
                    <a:pt x="332" y="2655"/>
                  </a:lnTo>
                  <a:lnTo>
                    <a:pt x="332" y="2514"/>
                  </a:lnTo>
                  <a:lnTo>
                    <a:pt x="332" y="2369"/>
                  </a:lnTo>
                  <a:lnTo>
                    <a:pt x="332" y="2227"/>
                  </a:lnTo>
                  <a:lnTo>
                    <a:pt x="332" y="2086"/>
                  </a:lnTo>
                  <a:lnTo>
                    <a:pt x="381" y="1945"/>
                  </a:lnTo>
                  <a:lnTo>
                    <a:pt x="381" y="1800"/>
                  </a:lnTo>
                  <a:lnTo>
                    <a:pt x="429" y="1659"/>
                  </a:lnTo>
                  <a:lnTo>
                    <a:pt x="429" y="1516"/>
                  </a:lnTo>
                  <a:lnTo>
                    <a:pt x="429" y="1375"/>
                  </a:lnTo>
                  <a:lnTo>
                    <a:pt x="381" y="1230"/>
                  </a:lnTo>
                  <a:lnTo>
                    <a:pt x="381" y="1089"/>
                  </a:lnTo>
                  <a:lnTo>
                    <a:pt x="381" y="948"/>
                  </a:lnTo>
                  <a:lnTo>
                    <a:pt x="381" y="802"/>
                  </a:lnTo>
                  <a:lnTo>
                    <a:pt x="381" y="661"/>
                  </a:lnTo>
                  <a:lnTo>
                    <a:pt x="381" y="520"/>
                  </a:lnTo>
                  <a:lnTo>
                    <a:pt x="381" y="379"/>
                  </a:lnTo>
                  <a:lnTo>
                    <a:pt x="381" y="233"/>
                  </a:lnTo>
                  <a:lnTo>
                    <a:pt x="381" y="92"/>
                  </a:lnTo>
                  <a:lnTo>
                    <a:pt x="332" y="0"/>
                  </a:lnTo>
                  <a:lnTo>
                    <a:pt x="332" y="44"/>
                  </a:lnTo>
                  <a:lnTo>
                    <a:pt x="190" y="189"/>
                  </a:lnTo>
                  <a:lnTo>
                    <a:pt x="97" y="330"/>
                  </a:lnTo>
                  <a:lnTo>
                    <a:pt x="0" y="4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9400" y="3251160"/>
              <a:ext cx="152640" cy="144720"/>
            </a:xfrm>
            <a:custGeom>
              <a:avLst/>
              <a:gdLst/>
              <a:ahLst/>
              <a:rect l="0" t="0" r="r" b="b"/>
              <a:pathLst>
                <a:path fill="none" w="424" h="402">
                  <a:moveTo>
                    <a:pt x="424" y="0"/>
                  </a:moveTo>
                  <a:lnTo>
                    <a:pt x="283" y="70"/>
                  </a:lnTo>
                  <a:lnTo>
                    <a:pt x="234" y="212"/>
                  </a:lnTo>
                  <a:lnTo>
                    <a:pt x="141" y="353"/>
                  </a:lnTo>
                  <a:lnTo>
                    <a:pt x="0" y="402"/>
                  </a:lnTo>
                  <a:lnTo>
                    <a:pt x="44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72120" y="33274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5" y="141"/>
                  </a:lnTo>
                  <a:lnTo>
                    <a:pt x="283" y="189"/>
                  </a:lnTo>
                  <a:lnTo>
                    <a:pt x="142" y="287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7200" y="346392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570" y="48"/>
                  </a:moveTo>
                  <a:lnTo>
                    <a:pt x="429" y="0"/>
                  </a:lnTo>
                  <a:lnTo>
                    <a:pt x="287" y="97"/>
                  </a:lnTo>
                  <a:lnTo>
                    <a:pt x="146" y="190"/>
                  </a:lnTo>
                  <a:lnTo>
                    <a:pt x="0" y="239"/>
                  </a:lnTo>
                  <a:lnTo>
                    <a:pt x="97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03720" y="34815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1"/>
                  </a:lnTo>
                  <a:lnTo>
                    <a:pt x="521" y="189"/>
                  </a:lnTo>
                  <a:lnTo>
                    <a:pt x="380" y="287"/>
                  </a:lnTo>
                  <a:lnTo>
                    <a:pt x="238" y="331"/>
                  </a:lnTo>
                  <a:lnTo>
                    <a:pt x="92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86080" y="363528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711" y="0"/>
                  </a:moveTo>
                  <a:lnTo>
                    <a:pt x="570" y="92"/>
                  </a:lnTo>
                  <a:lnTo>
                    <a:pt x="428" y="190"/>
                  </a:lnTo>
                  <a:lnTo>
                    <a:pt x="287" y="239"/>
                  </a:lnTo>
                  <a:lnTo>
                    <a:pt x="141" y="283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0240" y="3618000"/>
              <a:ext cx="271800" cy="68760"/>
            </a:xfrm>
            <a:custGeom>
              <a:avLst/>
              <a:gdLst/>
              <a:ahLst/>
              <a:rect l="0" t="0" r="r" b="b"/>
              <a:pathLst>
                <a:path fill="none" w="755" h="191">
                  <a:moveTo>
                    <a:pt x="755" y="49"/>
                  </a:moveTo>
                  <a:lnTo>
                    <a:pt x="565" y="0"/>
                  </a:lnTo>
                  <a:lnTo>
                    <a:pt x="424" y="49"/>
                  </a:lnTo>
                  <a:lnTo>
                    <a:pt x="282" y="98"/>
                  </a:lnTo>
                  <a:lnTo>
                    <a:pt x="141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0240" y="3711600"/>
              <a:ext cx="271800" cy="78120"/>
            </a:xfrm>
            <a:custGeom>
              <a:avLst/>
              <a:gdLst/>
              <a:ahLst/>
              <a:rect l="0" t="0" r="r" b="b"/>
              <a:pathLst>
                <a:path fill="none" w="755" h="217">
                  <a:moveTo>
                    <a:pt x="755" y="0"/>
                  </a:moveTo>
                  <a:lnTo>
                    <a:pt x="613" y="70"/>
                  </a:lnTo>
                  <a:lnTo>
                    <a:pt x="472" y="120"/>
                  </a:lnTo>
                  <a:lnTo>
                    <a:pt x="330" y="168"/>
                  </a:lnTo>
                  <a:lnTo>
                    <a:pt x="185" y="217"/>
                  </a:lnTo>
                  <a:lnTo>
                    <a:pt x="44" y="217"/>
                  </a:lnTo>
                  <a:lnTo>
                    <a:pt x="0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86080" y="37893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4"/>
                  </a:lnTo>
                  <a:lnTo>
                    <a:pt x="428" y="142"/>
                  </a:lnTo>
                  <a:lnTo>
                    <a:pt x="287" y="191"/>
                  </a:lnTo>
                  <a:lnTo>
                    <a:pt x="141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8040" y="386568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901" y="0"/>
                  </a:moveTo>
                  <a:lnTo>
                    <a:pt x="760" y="71"/>
                  </a:lnTo>
                  <a:lnTo>
                    <a:pt x="569" y="120"/>
                  </a:lnTo>
                  <a:lnTo>
                    <a:pt x="428" y="169"/>
                  </a:lnTo>
                  <a:lnTo>
                    <a:pt x="287" y="169"/>
                  </a:lnTo>
                  <a:lnTo>
                    <a:pt x="145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7280" y="394164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8"/>
                  </a:lnTo>
                  <a:lnTo>
                    <a:pt x="618" y="147"/>
                  </a:lnTo>
                  <a:lnTo>
                    <a:pt x="472" y="191"/>
                  </a:lnTo>
                  <a:lnTo>
                    <a:pt x="331" y="191"/>
                  </a:lnTo>
                  <a:lnTo>
                    <a:pt x="189" y="147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9640" y="401940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1090" y="0"/>
                  </a:moveTo>
                  <a:lnTo>
                    <a:pt x="949" y="23"/>
                  </a:lnTo>
                  <a:lnTo>
                    <a:pt x="759" y="72"/>
                  </a:lnTo>
                  <a:lnTo>
                    <a:pt x="618" y="72"/>
                  </a:lnTo>
                  <a:lnTo>
                    <a:pt x="476" y="72"/>
                  </a:lnTo>
                  <a:lnTo>
                    <a:pt x="335" y="72"/>
                  </a:lnTo>
                  <a:lnTo>
                    <a:pt x="189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7280" y="409572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1042" y="0"/>
                  </a:moveTo>
                  <a:lnTo>
                    <a:pt x="901" y="0"/>
                  </a:lnTo>
                  <a:lnTo>
                    <a:pt x="759" y="50"/>
                  </a:lnTo>
                  <a:lnTo>
                    <a:pt x="618" y="50"/>
                  </a:lnTo>
                  <a:lnTo>
                    <a:pt x="472" y="0"/>
                  </a:lnTo>
                  <a:lnTo>
                    <a:pt x="331" y="50"/>
                  </a:lnTo>
                  <a:lnTo>
                    <a:pt x="189" y="50"/>
                  </a:lnTo>
                  <a:lnTo>
                    <a:pt x="48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41680" y="317340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5"/>
                  </a:lnTo>
                  <a:lnTo>
                    <a:pt x="239" y="287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41680" y="325116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0" y="0"/>
                  </a:moveTo>
                  <a:lnTo>
                    <a:pt x="142" y="70"/>
                  </a:lnTo>
                  <a:lnTo>
                    <a:pt x="190" y="212"/>
                  </a:lnTo>
                  <a:lnTo>
                    <a:pt x="283" y="353"/>
                  </a:lnTo>
                  <a:lnTo>
                    <a:pt x="429" y="402"/>
                  </a:lnTo>
                  <a:lnTo>
                    <a:pt x="381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680" y="33274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0" y="0"/>
                  </a:moveTo>
                  <a:lnTo>
                    <a:pt x="48" y="141"/>
                  </a:lnTo>
                  <a:lnTo>
                    <a:pt x="190" y="189"/>
                  </a:lnTo>
                  <a:lnTo>
                    <a:pt x="331" y="287"/>
                  </a:lnTo>
                  <a:lnTo>
                    <a:pt x="473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1680" y="346392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0" y="48"/>
                  </a:moveTo>
                  <a:lnTo>
                    <a:pt x="141" y="0"/>
                  </a:lnTo>
                  <a:lnTo>
                    <a:pt x="283" y="97"/>
                  </a:lnTo>
                  <a:lnTo>
                    <a:pt x="429" y="190"/>
                  </a:lnTo>
                  <a:lnTo>
                    <a:pt x="570" y="239"/>
                  </a:lnTo>
                  <a:lnTo>
                    <a:pt x="473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41680" y="34815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1"/>
                  </a:lnTo>
                  <a:lnTo>
                    <a:pt x="141" y="189"/>
                  </a:lnTo>
                  <a:lnTo>
                    <a:pt x="282" y="287"/>
                  </a:lnTo>
                  <a:lnTo>
                    <a:pt x="428" y="331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1680" y="363528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0" y="0"/>
                  </a:moveTo>
                  <a:lnTo>
                    <a:pt x="141" y="92"/>
                  </a:lnTo>
                  <a:lnTo>
                    <a:pt x="283" y="190"/>
                  </a:lnTo>
                  <a:lnTo>
                    <a:pt x="428" y="239"/>
                  </a:lnTo>
                  <a:lnTo>
                    <a:pt x="570" y="283"/>
                  </a:lnTo>
                  <a:lnTo>
                    <a:pt x="71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41680" y="36180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2" y="98"/>
                  </a:lnTo>
                  <a:lnTo>
                    <a:pt x="618" y="142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1680" y="3711600"/>
              <a:ext cx="273240" cy="78120"/>
            </a:xfrm>
            <a:custGeom>
              <a:avLst/>
              <a:gdLst/>
              <a:ahLst/>
              <a:rect l="0" t="0" r="r" b="b"/>
              <a:pathLst>
                <a:path fill="none" w="759" h="217">
                  <a:moveTo>
                    <a:pt x="0" y="0"/>
                  </a:moveTo>
                  <a:lnTo>
                    <a:pt x="141" y="70"/>
                  </a:lnTo>
                  <a:lnTo>
                    <a:pt x="282" y="120"/>
                  </a:lnTo>
                  <a:lnTo>
                    <a:pt x="428" y="168"/>
                  </a:lnTo>
                  <a:lnTo>
                    <a:pt x="569" y="217"/>
                  </a:lnTo>
                  <a:lnTo>
                    <a:pt x="710" y="217"/>
                  </a:lnTo>
                  <a:lnTo>
                    <a:pt x="759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41680" y="37893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4"/>
                  </a:lnTo>
                  <a:lnTo>
                    <a:pt x="283" y="142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1680" y="386568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0" y="0"/>
                  </a:moveTo>
                  <a:lnTo>
                    <a:pt x="141" y="71"/>
                  </a:lnTo>
                  <a:lnTo>
                    <a:pt x="331" y="120"/>
                  </a:lnTo>
                  <a:lnTo>
                    <a:pt x="472" y="169"/>
                  </a:lnTo>
                  <a:lnTo>
                    <a:pt x="618" y="169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41680" y="394164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3" y="98"/>
                  </a:lnTo>
                  <a:lnTo>
                    <a:pt x="428" y="147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7"/>
                  </a:lnTo>
                  <a:lnTo>
                    <a:pt x="994" y="98"/>
                  </a:lnTo>
                  <a:lnTo>
                    <a:pt x="10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1680" y="401940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3"/>
                  </a:lnTo>
                  <a:lnTo>
                    <a:pt x="330" y="72"/>
                  </a:lnTo>
                  <a:lnTo>
                    <a:pt x="471" y="72"/>
                  </a:lnTo>
                  <a:lnTo>
                    <a:pt x="618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41680" y="409572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0" y="0"/>
                  </a:moveTo>
                  <a:lnTo>
                    <a:pt x="141" y="0"/>
                  </a:lnTo>
                  <a:lnTo>
                    <a:pt x="283" y="50"/>
                  </a:lnTo>
                  <a:lnTo>
                    <a:pt x="428" y="50"/>
                  </a:lnTo>
                  <a:lnTo>
                    <a:pt x="569" y="0"/>
                  </a:lnTo>
                  <a:lnTo>
                    <a:pt x="710" y="50"/>
                  </a:lnTo>
                  <a:lnTo>
                    <a:pt x="853" y="50"/>
                  </a:lnTo>
                  <a:lnTo>
                    <a:pt x="994" y="50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65720" y="2619360"/>
            <a:ext cx="620280" cy="862200"/>
            <a:chOff x="4365720" y="2619360"/>
            <a:chExt cx="620280" cy="862200"/>
          </a:xfrm>
        </p:grpSpPr>
        <p:sp>
          <p:nvSpPr>
            <p:cNvPr id="171" name=""/>
            <p:cNvSpPr/>
            <p:nvPr/>
          </p:nvSpPr>
          <p:spPr>
            <a:xfrm>
              <a:off x="4637160" y="2619360"/>
              <a:ext cx="68760" cy="862200"/>
            </a:xfrm>
            <a:custGeom>
              <a:avLst/>
              <a:gdLst/>
              <a:ahLst/>
              <a:rect l="0" t="0" r="r" b="b"/>
              <a:pathLst>
                <a:path fill="none" w="191" h="2395">
                  <a:moveTo>
                    <a:pt x="120" y="48"/>
                  </a:moveTo>
                  <a:lnTo>
                    <a:pt x="120" y="141"/>
                  </a:lnTo>
                  <a:lnTo>
                    <a:pt x="120" y="260"/>
                  </a:lnTo>
                  <a:lnTo>
                    <a:pt x="75" y="401"/>
                  </a:lnTo>
                  <a:lnTo>
                    <a:pt x="75" y="520"/>
                  </a:lnTo>
                  <a:lnTo>
                    <a:pt x="75" y="661"/>
                  </a:lnTo>
                  <a:lnTo>
                    <a:pt x="75" y="806"/>
                  </a:lnTo>
                  <a:lnTo>
                    <a:pt x="75" y="948"/>
                  </a:lnTo>
                  <a:lnTo>
                    <a:pt x="75" y="1067"/>
                  </a:lnTo>
                  <a:lnTo>
                    <a:pt x="75" y="1209"/>
                  </a:lnTo>
                  <a:lnTo>
                    <a:pt x="75" y="1328"/>
                  </a:lnTo>
                  <a:lnTo>
                    <a:pt x="75" y="1447"/>
                  </a:lnTo>
                  <a:lnTo>
                    <a:pt x="75" y="1539"/>
                  </a:lnTo>
                  <a:lnTo>
                    <a:pt x="75" y="1659"/>
                  </a:lnTo>
                  <a:lnTo>
                    <a:pt x="26" y="1778"/>
                  </a:lnTo>
                  <a:lnTo>
                    <a:pt x="26" y="1875"/>
                  </a:lnTo>
                  <a:lnTo>
                    <a:pt x="0" y="1994"/>
                  </a:lnTo>
                  <a:lnTo>
                    <a:pt x="0" y="2108"/>
                  </a:lnTo>
                  <a:lnTo>
                    <a:pt x="0" y="2205"/>
                  </a:lnTo>
                  <a:lnTo>
                    <a:pt x="0" y="2324"/>
                  </a:lnTo>
                  <a:lnTo>
                    <a:pt x="120" y="2395"/>
                  </a:lnTo>
                  <a:lnTo>
                    <a:pt x="191" y="2276"/>
                  </a:lnTo>
                  <a:lnTo>
                    <a:pt x="147" y="2183"/>
                  </a:lnTo>
                  <a:lnTo>
                    <a:pt x="120" y="2064"/>
                  </a:lnTo>
                  <a:lnTo>
                    <a:pt x="120" y="1945"/>
                  </a:lnTo>
                  <a:lnTo>
                    <a:pt x="120" y="1848"/>
                  </a:lnTo>
                  <a:lnTo>
                    <a:pt x="120" y="1729"/>
                  </a:lnTo>
                  <a:lnTo>
                    <a:pt x="120" y="1614"/>
                  </a:lnTo>
                  <a:lnTo>
                    <a:pt x="147" y="1517"/>
                  </a:lnTo>
                  <a:lnTo>
                    <a:pt x="147" y="1398"/>
                  </a:lnTo>
                  <a:lnTo>
                    <a:pt x="191" y="1279"/>
                  </a:lnTo>
                  <a:lnTo>
                    <a:pt x="191" y="1186"/>
                  </a:lnTo>
                  <a:lnTo>
                    <a:pt x="191" y="1067"/>
                  </a:lnTo>
                  <a:lnTo>
                    <a:pt x="147" y="948"/>
                  </a:lnTo>
                  <a:lnTo>
                    <a:pt x="147" y="851"/>
                  </a:lnTo>
                  <a:lnTo>
                    <a:pt x="147" y="736"/>
                  </a:lnTo>
                  <a:lnTo>
                    <a:pt x="147" y="617"/>
                  </a:lnTo>
                  <a:lnTo>
                    <a:pt x="147" y="520"/>
                  </a:lnTo>
                  <a:lnTo>
                    <a:pt x="147" y="401"/>
                  </a:lnTo>
                  <a:lnTo>
                    <a:pt x="147" y="282"/>
                  </a:lnTo>
                  <a:lnTo>
                    <a:pt x="147" y="189"/>
                  </a:lnTo>
                  <a:lnTo>
                    <a:pt x="147" y="70"/>
                  </a:lnTo>
                  <a:lnTo>
                    <a:pt x="12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8480" y="2637000"/>
              <a:ext cx="101880" cy="101880"/>
            </a:xfrm>
            <a:custGeom>
              <a:avLst/>
              <a:gdLst/>
              <a:ahLst/>
              <a:rect l="0" t="0" r="r" b="b"/>
              <a:pathLst>
                <a:path fill="none" w="283" h="283">
                  <a:moveTo>
                    <a:pt x="283" y="0"/>
                  </a:moveTo>
                  <a:lnTo>
                    <a:pt x="164" y="92"/>
                  </a:lnTo>
                  <a:lnTo>
                    <a:pt x="92" y="212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52920" y="2695680"/>
              <a:ext cx="127440" cy="111600"/>
            </a:xfrm>
            <a:custGeom>
              <a:avLst/>
              <a:gdLst/>
              <a:ahLst/>
              <a:rect l="0" t="0" r="r" b="b"/>
              <a:pathLst>
                <a:path fill="none" w="354" h="310">
                  <a:moveTo>
                    <a:pt x="354" y="0"/>
                  </a:moveTo>
                  <a:lnTo>
                    <a:pt x="234" y="48"/>
                  </a:lnTo>
                  <a:lnTo>
                    <a:pt x="190" y="168"/>
                  </a:lnTo>
                  <a:lnTo>
                    <a:pt x="120" y="262"/>
                  </a:lnTo>
                  <a:lnTo>
                    <a:pt x="0" y="310"/>
                  </a:lnTo>
                  <a:lnTo>
                    <a:pt x="48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3560" y="2755800"/>
              <a:ext cx="136800" cy="101880"/>
            </a:xfrm>
            <a:custGeom>
              <a:avLst/>
              <a:gdLst/>
              <a:ahLst/>
              <a:rect l="0" t="0" r="r" b="b"/>
              <a:pathLst>
                <a:path fill="none" w="380" h="283">
                  <a:moveTo>
                    <a:pt x="380" y="0"/>
                  </a:moveTo>
                  <a:lnTo>
                    <a:pt x="336" y="92"/>
                  </a:lnTo>
                  <a:lnTo>
                    <a:pt x="217" y="142"/>
                  </a:lnTo>
                  <a:lnTo>
                    <a:pt x="97" y="212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10080" y="2857680"/>
              <a:ext cx="170280" cy="68760"/>
            </a:xfrm>
            <a:custGeom>
              <a:avLst/>
              <a:gdLst/>
              <a:ahLst/>
              <a:rect l="0" t="0" r="r" b="b"/>
              <a:pathLst>
                <a:path fill="none" w="473" h="191">
                  <a:moveTo>
                    <a:pt x="473" y="49"/>
                  </a:moveTo>
                  <a:lnTo>
                    <a:pt x="353" y="0"/>
                  </a:lnTo>
                  <a:lnTo>
                    <a:pt x="239" y="75"/>
                  </a:lnTo>
                  <a:lnTo>
                    <a:pt x="120" y="147"/>
                  </a:lnTo>
                  <a:lnTo>
                    <a:pt x="0" y="191"/>
                  </a:lnTo>
                  <a:lnTo>
                    <a:pt x="92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4520" y="2874960"/>
              <a:ext cx="195480" cy="103680"/>
            </a:xfrm>
            <a:custGeom>
              <a:avLst/>
              <a:gdLst/>
              <a:ahLst/>
              <a:rect l="0" t="0" r="r" b="b"/>
              <a:pathLst>
                <a:path fill="none" w="543" h="288">
                  <a:moveTo>
                    <a:pt x="543" y="0"/>
                  </a:moveTo>
                  <a:lnTo>
                    <a:pt x="543" y="98"/>
                  </a:lnTo>
                  <a:lnTo>
                    <a:pt x="424" y="142"/>
                  </a:lnTo>
                  <a:lnTo>
                    <a:pt x="309" y="218"/>
                  </a:lnTo>
                  <a:lnTo>
                    <a:pt x="189" y="240"/>
                  </a:lnTo>
                  <a:lnTo>
                    <a:pt x="70" y="288"/>
                  </a:lnTo>
                  <a:lnTo>
                    <a:pt x="0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6600" y="2994120"/>
              <a:ext cx="203400" cy="78120"/>
            </a:xfrm>
            <a:custGeom>
              <a:avLst/>
              <a:gdLst/>
              <a:ahLst/>
              <a:rect l="0" t="0" r="r" b="b"/>
              <a:pathLst>
                <a:path fill="none" w="565" h="217">
                  <a:moveTo>
                    <a:pt x="565" y="0"/>
                  </a:moveTo>
                  <a:lnTo>
                    <a:pt x="446" y="74"/>
                  </a:lnTo>
                  <a:lnTo>
                    <a:pt x="331" y="146"/>
                  </a:lnTo>
                  <a:lnTo>
                    <a:pt x="211" y="168"/>
                  </a:lnTo>
                  <a:lnTo>
                    <a:pt x="92" y="217"/>
                  </a:lnTo>
                  <a:lnTo>
                    <a:pt x="0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59320" y="2978280"/>
              <a:ext cx="221040" cy="51120"/>
            </a:xfrm>
            <a:custGeom>
              <a:avLst/>
              <a:gdLst/>
              <a:ahLst/>
              <a:rect l="0" t="0" r="r" b="b"/>
              <a:pathLst>
                <a:path fill="none" w="614" h="142">
                  <a:moveTo>
                    <a:pt x="614" y="44"/>
                  </a:moveTo>
                  <a:lnTo>
                    <a:pt x="450" y="0"/>
                  </a:lnTo>
                  <a:lnTo>
                    <a:pt x="331" y="44"/>
                  </a:lnTo>
                  <a:lnTo>
                    <a:pt x="234" y="70"/>
                  </a:lnTo>
                  <a:lnTo>
                    <a:pt x="119" y="120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59320" y="3046320"/>
              <a:ext cx="221040" cy="59040"/>
            </a:xfrm>
            <a:custGeom>
              <a:avLst/>
              <a:gdLst/>
              <a:ahLst/>
              <a:rect l="0" t="0" r="r" b="b"/>
              <a:pathLst>
                <a:path fill="none" w="614" h="164">
                  <a:moveTo>
                    <a:pt x="614" y="0"/>
                  </a:moveTo>
                  <a:lnTo>
                    <a:pt x="495" y="70"/>
                  </a:lnTo>
                  <a:lnTo>
                    <a:pt x="380" y="93"/>
                  </a:lnTo>
                  <a:lnTo>
                    <a:pt x="261" y="142"/>
                  </a:lnTo>
                  <a:lnTo>
                    <a:pt x="141" y="164"/>
                  </a:lnTo>
                  <a:lnTo>
                    <a:pt x="48" y="164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6600" y="3105000"/>
              <a:ext cx="203400" cy="60840"/>
            </a:xfrm>
            <a:custGeom>
              <a:avLst/>
              <a:gdLst/>
              <a:ahLst/>
              <a:rect l="0" t="0" r="r" b="b"/>
              <a:pathLst>
                <a:path fill="none" w="565" h="169">
                  <a:moveTo>
                    <a:pt x="565" y="0"/>
                  </a:moveTo>
                  <a:lnTo>
                    <a:pt x="446" y="49"/>
                  </a:lnTo>
                  <a:lnTo>
                    <a:pt x="331" y="120"/>
                  </a:lnTo>
                  <a:lnTo>
                    <a:pt x="211" y="169"/>
                  </a:lnTo>
                  <a:lnTo>
                    <a:pt x="92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6480" y="3165480"/>
              <a:ext cx="263880" cy="51120"/>
            </a:xfrm>
            <a:custGeom>
              <a:avLst/>
              <a:gdLst/>
              <a:ahLst/>
              <a:rect l="0" t="0" r="r" b="b"/>
              <a:pathLst>
                <a:path fill="none" w="733" h="142">
                  <a:moveTo>
                    <a:pt x="733" y="0"/>
                  </a:moveTo>
                  <a:lnTo>
                    <a:pt x="613" y="70"/>
                  </a:lnTo>
                  <a:lnTo>
                    <a:pt x="450" y="98"/>
                  </a:lnTo>
                  <a:lnTo>
                    <a:pt x="352" y="142"/>
                  </a:lnTo>
                  <a:lnTo>
                    <a:pt x="238" y="142"/>
                  </a:lnTo>
                  <a:lnTo>
                    <a:pt x="119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83000" y="3225960"/>
              <a:ext cx="297360" cy="59040"/>
            </a:xfrm>
            <a:custGeom>
              <a:avLst/>
              <a:gdLst/>
              <a:ahLst/>
              <a:rect l="0" t="0" r="r" b="b"/>
              <a:pathLst>
                <a:path fill="none" w="826" h="164">
                  <a:moveTo>
                    <a:pt x="826" y="0"/>
                  </a:moveTo>
                  <a:lnTo>
                    <a:pt x="707" y="0"/>
                  </a:lnTo>
                  <a:lnTo>
                    <a:pt x="591" y="93"/>
                  </a:lnTo>
                  <a:lnTo>
                    <a:pt x="472" y="120"/>
                  </a:lnTo>
                  <a:lnTo>
                    <a:pt x="353" y="164"/>
                  </a:lnTo>
                  <a:lnTo>
                    <a:pt x="261" y="164"/>
                  </a:lnTo>
                  <a:lnTo>
                    <a:pt x="141" y="120"/>
                  </a:lnTo>
                  <a:lnTo>
                    <a:pt x="22" y="93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5720" y="3284640"/>
              <a:ext cx="314640" cy="25920"/>
            </a:xfrm>
            <a:custGeom>
              <a:avLst/>
              <a:gdLst/>
              <a:ahLst/>
              <a:rect l="0" t="0" r="r" b="b"/>
              <a:pathLst>
                <a:path fill="none" w="874" h="72">
                  <a:moveTo>
                    <a:pt x="874" y="0"/>
                  </a:moveTo>
                  <a:lnTo>
                    <a:pt x="755" y="27"/>
                  </a:lnTo>
                  <a:lnTo>
                    <a:pt x="591" y="72"/>
                  </a:lnTo>
                  <a:lnTo>
                    <a:pt x="494" y="72"/>
                  </a:lnTo>
                  <a:lnTo>
                    <a:pt x="379" y="72"/>
                  </a:lnTo>
                  <a:lnTo>
                    <a:pt x="260" y="72"/>
                  </a:lnTo>
                  <a:lnTo>
                    <a:pt x="14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3000" y="3344760"/>
              <a:ext cx="297360" cy="18000"/>
            </a:xfrm>
            <a:custGeom>
              <a:avLst/>
              <a:gdLst/>
              <a:ahLst/>
              <a:rect l="0" t="0" r="r" b="b"/>
              <a:pathLst>
                <a:path fill="none" w="826" h="50">
                  <a:moveTo>
                    <a:pt x="826" y="0"/>
                  </a:moveTo>
                  <a:lnTo>
                    <a:pt x="707" y="0"/>
                  </a:lnTo>
                  <a:lnTo>
                    <a:pt x="591" y="50"/>
                  </a:lnTo>
                  <a:lnTo>
                    <a:pt x="472" y="50"/>
                  </a:lnTo>
                  <a:lnTo>
                    <a:pt x="353" y="0"/>
                  </a:lnTo>
                  <a:lnTo>
                    <a:pt x="261" y="50"/>
                  </a:lnTo>
                  <a:lnTo>
                    <a:pt x="141" y="50"/>
                  </a:lnTo>
                  <a:lnTo>
                    <a:pt x="22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0000" y="2637000"/>
              <a:ext cx="93960" cy="101880"/>
            </a:xfrm>
            <a:custGeom>
              <a:avLst/>
              <a:gdLst/>
              <a:ahLst/>
              <a:rect l="0" t="0" r="r" b="b"/>
              <a:pathLst>
                <a:path fill="none" w="261" h="283">
                  <a:moveTo>
                    <a:pt x="0" y="0"/>
                  </a:moveTo>
                  <a:lnTo>
                    <a:pt x="97" y="92"/>
                  </a:lnTo>
                  <a:lnTo>
                    <a:pt x="168" y="212"/>
                  </a:lnTo>
                  <a:lnTo>
                    <a:pt x="26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0000" y="2695680"/>
              <a:ext cx="119520" cy="111600"/>
            </a:xfrm>
            <a:custGeom>
              <a:avLst/>
              <a:gdLst/>
              <a:ahLst/>
              <a:rect l="0" t="0" r="r" b="b"/>
              <a:pathLst>
                <a:path fill="none" w="332" h="310">
                  <a:moveTo>
                    <a:pt x="0" y="0"/>
                  </a:moveTo>
                  <a:lnTo>
                    <a:pt x="98" y="48"/>
                  </a:lnTo>
                  <a:lnTo>
                    <a:pt x="142" y="168"/>
                  </a:lnTo>
                  <a:lnTo>
                    <a:pt x="217" y="262"/>
                  </a:lnTo>
                  <a:lnTo>
                    <a:pt x="332" y="310"/>
                  </a:lnTo>
                  <a:lnTo>
                    <a:pt x="288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0000" y="2755800"/>
              <a:ext cx="128880" cy="101880"/>
            </a:xfrm>
            <a:custGeom>
              <a:avLst/>
              <a:gdLst/>
              <a:ahLst/>
              <a:rect l="0" t="0" r="r" b="b"/>
              <a:pathLst>
                <a:path fill="none" w="358" h="283">
                  <a:moveTo>
                    <a:pt x="0" y="0"/>
                  </a:moveTo>
                  <a:lnTo>
                    <a:pt x="26" y="92"/>
                  </a:lnTo>
                  <a:lnTo>
                    <a:pt x="141" y="142"/>
                  </a:lnTo>
                  <a:lnTo>
                    <a:pt x="261" y="212"/>
                  </a:lnTo>
                  <a:lnTo>
                    <a:pt x="358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0000" y="2857680"/>
              <a:ext cx="162360" cy="68760"/>
            </a:xfrm>
            <a:custGeom>
              <a:avLst/>
              <a:gdLst/>
              <a:ahLst/>
              <a:rect l="0" t="0" r="r" b="b"/>
              <a:pathLst>
                <a:path fill="none" w="451" h="191">
                  <a:moveTo>
                    <a:pt x="0" y="49"/>
                  </a:moveTo>
                  <a:lnTo>
                    <a:pt x="97" y="0"/>
                  </a:lnTo>
                  <a:lnTo>
                    <a:pt x="217" y="75"/>
                  </a:lnTo>
                  <a:lnTo>
                    <a:pt x="331" y="147"/>
                  </a:lnTo>
                  <a:lnTo>
                    <a:pt x="451" y="191"/>
                  </a:lnTo>
                  <a:lnTo>
                    <a:pt x="359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0000" y="2874960"/>
              <a:ext cx="187560" cy="103680"/>
            </a:xfrm>
            <a:custGeom>
              <a:avLst/>
              <a:gdLst/>
              <a:ahLst/>
              <a:rect l="0" t="0" r="r" b="b"/>
              <a:pathLst>
                <a:path fill="none" w="521" h="288">
                  <a:moveTo>
                    <a:pt x="0" y="0"/>
                  </a:moveTo>
                  <a:lnTo>
                    <a:pt x="0" y="98"/>
                  </a:lnTo>
                  <a:lnTo>
                    <a:pt x="97" y="142"/>
                  </a:lnTo>
                  <a:lnTo>
                    <a:pt x="216" y="218"/>
                  </a:lnTo>
                  <a:lnTo>
                    <a:pt x="331" y="240"/>
                  </a:lnTo>
                  <a:lnTo>
                    <a:pt x="450" y="288"/>
                  </a:lnTo>
                  <a:lnTo>
                    <a:pt x="521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0000" y="2994120"/>
              <a:ext cx="197280" cy="78120"/>
            </a:xfrm>
            <a:custGeom>
              <a:avLst/>
              <a:gdLst/>
              <a:ahLst/>
              <a:rect l="0" t="0" r="r" b="b"/>
              <a:pathLst>
                <a:path fill="none" w="548" h="217">
                  <a:moveTo>
                    <a:pt x="0" y="0"/>
                  </a:moveTo>
                  <a:lnTo>
                    <a:pt x="97" y="74"/>
                  </a:lnTo>
                  <a:lnTo>
                    <a:pt x="217" y="146"/>
                  </a:lnTo>
                  <a:lnTo>
                    <a:pt x="331" y="168"/>
                  </a:lnTo>
                  <a:lnTo>
                    <a:pt x="451" y="217"/>
                  </a:lnTo>
                  <a:lnTo>
                    <a:pt x="548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0000" y="2978280"/>
              <a:ext cx="213120" cy="51120"/>
            </a:xfrm>
            <a:custGeom>
              <a:avLst/>
              <a:gdLst/>
              <a:ahLst/>
              <a:rect l="0" t="0" r="r" b="b"/>
              <a:pathLst>
                <a:path fill="none" w="592" h="142">
                  <a:moveTo>
                    <a:pt x="0" y="44"/>
                  </a:moveTo>
                  <a:lnTo>
                    <a:pt x="141" y="0"/>
                  </a:lnTo>
                  <a:lnTo>
                    <a:pt x="261" y="44"/>
                  </a:lnTo>
                  <a:lnTo>
                    <a:pt x="358" y="70"/>
                  </a:lnTo>
                  <a:lnTo>
                    <a:pt x="478" y="120"/>
                  </a:lnTo>
                  <a:lnTo>
                    <a:pt x="592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0000" y="3046320"/>
              <a:ext cx="213120" cy="59040"/>
            </a:xfrm>
            <a:custGeom>
              <a:avLst/>
              <a:gdLst/>
              <a:ahLst/>
              <a:rect l="0" t="0" r="r" b="b"/>
              <a:pathLst>
                <a:path fill="none" w="592" h="164">
                  <a:moveTo>
                    <a:pt x="0" y="0"/>
                  </a:moveTo>
                  <a:lnTo>
                    <a:pt x="97" y="70"/>
                  </a:lnTo>
                  <a:lnTo>
                    <a:pt x="217" y="93"/>
                  </a:lnTo>
                  <a:lnTo>
                    <a:pt x="331" y="142"/>
                  </a:lnTo>
                  <a:lnTo>
                    <a:pt x="451" y="164"/>
                  </a:lnTo>
                  <a:lnTo>
                    <a:pt x="548" y="164"/>
                  </a:lnTo>
                  <a:lnTo>
                    <a:pt x="592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0000" y="3105000"/>
              <a:ext cx="197280" cy="60840"/>
            </a:xfrm>
            <a:custGeom>
              <a:avLst/>
              <a:gdLst/>
              <a:ahLst/>
              <a:rect l="0" t="0" r="r" b="b"/>
              <a:pathLst>
                <a:path fill="none" w="548" h="169">
                  <a:moveTo>
                    <a:pt x="0" y="0"/>
                  </a:moveTo>
                  <a:lnTo>
                    <a:pt x="97" y="49"/>
                  </a:lnTo>
                  <a:lnTo>
                    <a:pt x="217" y="120"/>
                  </a:lnTo>
                  <a:lnTo>
                    <a:pt x="331" y="169"/>
                  </a:lnTo>
                  <a:lnTo>
                    <a:pt x="451" y="169"/>
                  </a:lnTo>
                  <a:lnTo>
                    <a:pt x="54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0000" y="3165480"/>
              <a:ext cx="255960" cy="51120"/>
            </a:xfrm>
            <a:custGeom>
              <a:avLst/>
              <a:gdLst/>
              <a:ahLst/>
              <a:rect l="0" t="0" r="r" b="b"/>
              <a:pathLst>
                <a:path fill="none" w="711" h="142">
                  <a:moveTo>
                    <a:pt x="0" y="0"/>
                  </a:moveTo>
                  <a:lnTo>
                    <a:pt x="97" y="70"/>
                  </a:lnTo>
                  <a:lnTo>
                    <a:pt x="261" y="98"/>
                  </a:lnTo>
                  <a:lnTo>
                    <a:pt x="358" y="142"/>
                  </a:lnTo>
                  <a:lnTo>
                    <a:pt x="477" y="142"/>
                  </a:lnTo>
                  <a:lnTo>
                    <a:pt x="592" y="98"/>
                  </a:lnTo>
                  <a:lnTo>
                    <a:pt x="711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0000" y="3225960"/>
              <a:ext cx="290880" cy="59040"/>
            </a:xfrm>
            <a:custGeom>
              <a:avLst/>
              <a:gdLst/>
              <a:ahLst/>
              <a:rect l="0" t="0" r="r" b="b"/>
              <a:pathLst>
                <a:path fill="none" w="808" h="164">
                  <a:moveTo>
                    <a:pt x="0" y="0"/>
                  </a:moveTo>
                  <a:lnTo>
                    <a:pt x="97" y="0"/>
                  </a:lnTo>
                  <a:lnTo>
                    <a:pt x="217" y="93"/>
                  </a:lnTo>
                  <a:lnTo>
                    <a:pt x="331" y="120"/>
                  </a:lnTo>
                  <a:lnTo>
                    <a:pt x="450" y="164"/>
                  </a:lnTo>
                  <a:lnTo>
                    <a:pt x="547" y="164"/>
                  </a:lnTo>
                  <a:lnTo>
                    <a:pt x="663" y="120"/>
                  </a:lnTo>
                  <a:lnTo>
                    <a:pt x="782" y="93"/>
                  </a:lnTo>
                  <a:lnTo>
                    <a:pt x="808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0000" y="3284640"/>
              <a:ext cx="171720" cy="25920"/>
            </a:xfrm>
            <a:custGeom>
              <a:avLst/>
              <a:gdLst/>
              <a:ahLst/>
              <a:rect l="0" t="0" r="r" b="b"/>
              <a:pathLst>
                <a:path fill="none" w="477" h="72">
                  <a:moveTo>
                    <a:pt x="0" y="0"/>
                  </a:moveTo>
                  <a:lnTo>
                    <a:pt x="97" y="27"/>
                  </a:lnTo>
                  <a:lnTo>
                    <a:pt x="261" y="72"/>
                  </a:lnTo>
                  <a:lnTo>
                    <a:pt x="358" y="72"/>
                  </a:lnTo>
                  <a:lnTo>
                    <a:pt x="47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51360" y="3309840"/>
              <a:ext cx="134640" cy="0"/>
            </a:xfrm>
            <a:custGeom>
              <a:avLst/>
              <a:gdLst/>
              <a:ahLst/>
              <a:rect l="0" t="0" r="r" b="b"/>
              <a:pathLst>
                <a:path fill="none" w="374" h="0">
                  <a:moveTo>
                    <a:pt x="0" y="0"/>
                  </a:moveTo>
                  <a:lnTo>
                    <a:pt x="114" y="0"/>
                  </a:lnTo>
                  <a:lnTo>
                    <a:pt x="233" y="0"/>
                  </a:lnTo>
                  <a:lnTo>
                    <a:pt x="33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0000" y="3344760"/>
              <a:ext cx="290880" cy="18000"/>
            </a:xfrm>
            <a:custGeom>
              <a:avLst/>
              <a:gdLst/>
              <a:ahLst/>
              <a:rect l="0" t="0" r="r" b="b"/>
              <a:pathLst>
                <a:path fill="none" w="808" h="50">
                  <a:moveTo>
                    <a:pt x="0" y="0"/>
                  </a:moveTo>
                  <a:lnTo>
                    <a:pt x="97" y="0"/>
                  </a:lnTo>
                  <a:lnTo>
                    <a:pt x="217" y="50"/>
                  </a:lnTo>
                  <a:lnTo>
                    <a:pt x="331" y="50"/>
                  </a:lnTo>
                  <a:lnTo>
                    <a:pt x="450" y="0"/>
                  </a:lnTo>
                  <a:lnTo>
                    <a:pt x="547" y="50"/>
                  </a:lnTo>
                  <a:lnTo>
                    <a:pt x="663" y="50"/>
                  </a:lnTo>
                  <a:lnTo>
                    <a:pt x="782" y="50"/>
                  </a:lnTo>
                  <a:lnTo>
                    <a:pt x="8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054760" y="2465280"/>
            <a:ext cx="544680" cy="862200"/>
            <a:chOff x="5054760" y="2465280"/>
            <a:chExt cx="544680" cy="862200"/>
          </a:xfrm>
        </p:grpSpPr>
        <p:sp>
          <p:nvSpPr>
            <p:cNvPr id="200" name=""/>
            <p:cNvSpPr/>
            <p:nvPr/>
          </p:nvSpPr>
          <p:spPr>
            <a:xfrm>
              <a:off x="5292720" y="2465280"/>
              <a:ext cx="60840" cy="862200"/>
            </a:xfrm>
            <a:custGeom>
              <a:avLst/>
              <a:gdLst/>
              <a:ahLst/>
              <a:rect l="0" t="0" r="r" b="b"/>
              <a:pathLst>
                <a:path fill="none" w="169" h="2395">
                  <a:moveTo>
                    <a:pt x="98" y="48"/>
                  </a:moveTo>
                  <a:lnTo>
                    <a:pt x="98" y="141"/>
                  </a:lnTo>
                  <a:lnTo>
                    <a:pt x="98" y="260"/>
                  </a:lnTo>
                  <a:lnTo>
                    <a:pt x="75" y="401"/>
                  </a:lnTo>
                  <a:lnTo>
                    <a:pt x="75" y="520"/>
                  </a:lnTo>
                  <a:lnTo>
                    <a:pt x="75" y="665"/>
                  </a:lnTo>
                  <a:lnTo>
                    <a:pt x="75" y="806"/>
                  </a:lnTo>
                  <a:lnTo>
                    <a:pt x="75" y="948"/>
                  </a:lnTo>
                  <a:lnTo>
                    <a:pt x="75" y="1067"/>
                  </a:lnTo>
                  <a:lnTo>
                    <a:pt x="75" y="1209"/>
                  </a:lnTo>
                  <a:lnTo>
                    <a:pt x="75" y="1328"/>
                  </a:lnTo>
                  <a:lnTo>
                    <a:pt x="75" y="1447"/>
                  </a:lnTo>
                  <a:lnTo>
                    <a:pt x="75" y="1544"/>
                  </a:lnTo>
                  <a:lnTo>
                    <a:pt x="75" y="1659"/>
                  </a:lnTo>
                  <a:lnTo>
                    <a:pt x="26" y="1778"/>
                  </a:lnTo>
                  <a:lnTo>
                    <a:pt x="26" y="1875"/>
                  </a:lnTo>
                  <a:lnTo>
                    <a:pt x="0" y="1994"/>
                  </a:lnTo>
                  <a:lnTo>
                    <a:pt x="0" y="2113"/>
                  </a:lnTo>
                  <a:lnTo>
                    <a:pt x="0" y="2205"/>
                  </a:lnTo>
                  <a:lnTo>
                    <a:pt x="0" y="2324"/>
                  </a:lnTo>
                  <a:lnTo>
                    <a:pt x="98" y="2395"/>
                  </a:lnTo>
                  <a:lnTo>
                    <a:pt x="169" y="2276"/>
                  </a:lnTo>
                  <a:lnTo>
                    <a:pt x="120" y="2183"/>
                  </a:lnTo>
                  <a:lnTo>
                    <a:pt x="98" y="2064"/>
                  </a:lnTo>
                  <a:lnTo>
                    <a:pt x="98" y="1945"/>
                  </a:lnTo>
                  <a:lnTo>
                    <a:pt x="98" y="1853"/>
                  </a:lnTo>
                  <a:lnTo>
                    <a:pt x="98" y="1734"/>
                  </a:lnTo>
                  <a:lnTo>
                    <a:pt x="98" y="1614"/>
                  </a:lnTo>
                  <a:lnTo>
                    <a:pt x="120" y="1517"/>
                  </a:lnTo>
                  <a:lnTo>
                    <a:pt x="120" y="1398"/>
                  </a:lnTo>
                  <a:lnTo>
                    <a:pt x="169" y="1279"/>
                  </a:lnTo>
                  <a:lnTo>
                    <a:pt x="169" y="1186"/>
                  </a:lnTo>
                  <a:lnTo>
                    <a:pt x="169" y="1067"/>
                  </a:lnTo>
                  <a:lnTo>
                    <a:pt x="120" y="948"/>
                  </a:lnTo>
                  <a:lnTo>
                    <a:pt x="120" y="855"/>
                  </a:lnTo>
                  <a:lnTo>
                    <a:pt x="120" y="736"/>
                  </a:lnTo>
                  <a:lnTo>
                    <a:pt x="120" y="617"/>
                  </a:lnTo>
                  <a:lnTo>
                    <a:pt x="120" y="520"/>
                  </a:lnTo>
                  <a:lnTo>
                    <a:pt x="120" y="401"/>
                  </a:lnTo>
                  <a:lnTo>
                    <a:pt x="120" y="286"/>
                  </a:lnTo>
                  <a:lnTo>
                    <a:pt x="120" y="189"/>
                  </a:lnTo>
                  <a:lnTo>
                    <a:pt x="120" y="70"/>
                  </a:lnTo>
                  <a:lnTo>
                    <a:pt x="9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1960" y="2482920"/>
              <a:ext cx="86040" cy="101880"/>
            </a:xfrm>
            <a:custGeom>
              <a:avLst/>
              <a:gdLst/>
              <a:ahLst/>
              <a:rect l="0" t="0" r="r" b="b"/>
              <a:pathLst>
                <a:path fill="none" w="239" h="283">
                  <a:moveTo>
                    <a:pt x="239" y="0"/>
                  </a:moveTo>
                  <a:lnTo>
                    <a:pt x="142" y="92"/>
                  </a:lnTo>
                  <a:lnTo>
                    <a:pt x="70" y="212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6400" y="2541600"/>
              <a:ext cx="111600" cy="111600"/>
            </a:xfrm>
            <a:custGeom>
              <a:avLst/>
              <a:gdLst/>
              <a:ahLst/>
              <a:rect l="0" t="0" r="r" b="b"/>
              <a:pathLst>
                <a:path fill="none" w="310" h="310">
                  <a:moveTo>
                    <a:pt x="310" y="0"/>
                  </a:moveTo>
                  <a:lnTo>
                    <a:pt x="212" y="48"/>
                  </a:lnTo>
                  <a:lnTo>
                    <a:pt x="168" y="168"/>
                  </a:lnTo>
                  <a:lnTo>
                    <a:pt x="120" y="266"/>
                  </a:lnTo>
                  <a:lnTo>
                    <a:pt x="0" y="310"/>
                  </a:lnTo>
                  <a:lnTo>
                    <a:pt x="48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8480" y="2602080"/>
              <a:ext cx="119520" cy="103680"/>
            </a:xfrm>
            <a:custGeom>
              <a:avLst/>
              <a:gdLst/>
              <a:ahLst/>
              <a:rect l="0" t="0" r="r" b="b"/>
              <a:pathLst>
                <a:path fill="none" w="332" h="288">
                  <a:moveTo>
                    <a:pt x="332" y="0"/>
                  </a:moveTo>
                  <a:lnTo>
                    <a:pt x="310" y="98"/>
                  </a:lnTo>
                  <a:lnTo>
                    <a:pt x="190" y="142"/>
                  </a:lnTo>
                  <a:lnTo>
                    <a:pt x="93" y="212"/>
                  </a:lnTo>
                  <a:lnTo>
                    <a:pt x="0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3280" y="2705040"/>
              <a:ext cx="144720" cy="68760"/>
            </a:xfrm>
            <a:custGeom>
              <a:avLst/>
              <a:gdLst/>
              <a:ahLst/>
              <a:rect l="0" t="0" r="r" b="b"/>
              <a:pathLst>
                <a:path fill="none" w="402" h="191">
                  <a:moveTo>
                    <a:pt x="402" y="44"/>
                  </a:moveTo>
                  <a:lnTo>
                    <a:pt x="305" y="0"/>
                  </a:lnTo>
                  <a:lnTo>
                    <a:pt x="212" y="71"/>
                  </a:lnTo>
                  <a:lnTo>
                    <a:pt x="92" y="142"/>
                  </a:lnTo>
                  <a:lnTo>
                    <a:pt x="0" y="191"/>
                  </a:lnTo>
                  <a:lnTo>
                    <a:pt x="7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2720" y="2720880"/>
              <a:ext cx="35280" cy="52920"/>
            </a:xfrm>
            <a:custGeom>
              <a:avLst/>
              <a:gdLst/>
              <a:ahLst/>
              <a:rect l="0" t="0" r="r" b="b"/>
              <a:pathLst>
                <a:path fill="none" w="98" h="147">
                  <a:moveTo>
                    <a:pt x="98" y="0"/>
                  </a:moveTo>
                  <a:lnTo>
                    <a:pt x="98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65640" y="2773440"/>
              <a:ext cx="127440" cy="51120"/>
            </a:xfrm>
            <a:custGeom>
              <a:avLst/>
              <a:gdLst/>
              <a:ahLst/>
              <a:rect l="0" t="0" r="r" b="b"/>
              <a:pathLst>
                <a:path fill="none" w="354" h="142">
                  <a:moveTo>
                    <a:pt x="354" y="0"/>
                  </a:moveTo>
                  <a:lnTo>
                    <a:pt x="261" y="70"/>
                  </a:lnTo>
                  <a:lnTo>
                    <a:pt x="142" y="93"/>
                  </a:lnTo>
                  <a:lnTo>
                    <a:pt x="48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2841480"/>
              <a:ext cx="179640" cy="76680"/>
            </a:xfrm>
            <a:custGeom>
              <a:avLst/>
              <a:gdLst/>
              <a:ahLst/>
              <a:rect l="0" t="0" r="r" b="b"/>
              <a:pathLst>
                <a:path fill="none" w="499" h="213">
                  <a:moveTo>
                    <a:pt x="499" y="0"/>
                  </a:moveTo>
                  <a:lnTo>
                    <a:pt x="402" y="71"/>
                  </a:lnTo>
                  <a:lnTo>
                    <a:pt x="309" y="142"/>
                  </a:lnTo>
                  <a:lnTo>
                    <a:pt x="189" y="165"/>
                  </a:lnTo>
                  <a:lnTo>
                    <a:pt x="97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40440" y="2824200"/>
              <a:ext cx="187560" cy="51120"/>
            </a:xfrm>
            <a:custGeom>
              <a:avLst/>
              <a:gdLst/>
              <a:ahLst/>
              <a:rect l="0" t="0" r="r" b="b"/>
              <a:pathLst>
                <a:path fill="none" w="521" h="142">
                  <a:moveTo>
                    <a:pt x="521" y="48"/>
                  </a:moveTo>
                  <a:lnTo>
                    <a:pt x="380" y="0"/>
                  </a:lnTo>
                  <a:lnTo>
                    <a:pt x="283" y="48"/>
                  </a:lnTo>
                  <a:lnTo>
                    <a:pt x="189" y="70"/>
                  </a:lnTo>
                  <a:lnTo>
                    <a:pt x="92" y="120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40440" y="2892600"/>
              <a:ext cx="187560" cy="60840"/>
            </a:xfrm>
            <a:custGeom>
              <a:avLst/>
              <a:gdLst/>
              <a:ahLst/>
              <a:rect l="0" t="0" r="r" b="b"/>
              <a:pathLst>
                <a:path fill="none" w="521" h="169">
                  <a:moveTo>
                    <a:pt x="521" y="0"/>
                  </a:moveTo>
                  <a:lnTo>
                    <a:pt x="424" y="71"/>
                  </a:lnTo>
                  <a:lnTo>
                    <a:pt x="331" y="93"/>
                  </a:lnTo>
                  <a:lnTo>
                    <a:pt x="211" y="143"/>
                  </a:lnTo>
                  <a:lnTo>
                    <a:pt x="119" y="169"/>
                  </a:lnTo>
                  <a:lnTo>
                    <a:pt x="22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48360" y="2952720"/>
              <a:ext cx="179640" cy="59040"/>
            </a:xfrm>
            <a:custGeom>
              <a:avLst/>
              <a:gdLst/>
              <a:ahLst/>
              <a:rect l="0" t="0" r="r" b="b"/>
              <a:pathLst>
                <a:path fill="none" w="499" h="164">
                  <a:moveTo>
                    <a:pt x="499" y="0"/>
                  </a:moveTo>
                  <a:lnTo>
                    <a:pt x="402" y="44"/>
                  </a:lnTo>
                  <a:lnTo>
                    <a:pt x="309" y="115"/>
                  </a:lnTo>
                  <a:lnTo>
                    <a:pt x="189" y="164"/>
                  </a:lnTo>
                  <a:lnTo>
                    <a:pt x="97" y="164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520" y="3011400"/>
              <a:ext cx="222480" cy="51120"/>
            </a:xfrm>
            <a:custGeom>
              <a:avLst/>
              <a:gdLst/>
              <a:ahLst/>
              <a:rect l="0" t="0" r="r" b="b"/>
              <a:pathLst>
                <a:path fill="none" w="618" h="142">
                  <a:moveTo>
                    <a:pt x="618" y="0"/>
                  </a:moveTo>
                  <a:lnTo>
                    <a:pt x="521" y="70"/>
                  </a:lnTo>
                  <a:lnTo>
                    <a:pt x="380" y="98"/>
                  </a:lnTo>
                  <a:lnTo>
                    <a:pt x="286" y="142"/>
                  </a:lnTo>
                  <a:lnTo>
                    <a:pt x="189" y="142"/>
                  </a:lnTo>
                  <a:lnTo>
                    <a:pt x="97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64120" y="3071880"/>
              <a:ext cx="263880" cy="60840"/>
            </a:xfrm>
            <a:custGeom>
              <a:avLst/>
              <a:gdLst/>
              <a:ahLst/>
              <a:rect l="0" t="0" r="r" b="b"/>
              <a:pathLst>
                <a:path fill="none" w="733" h="169">
                  <a:moveTo>
                    <a:pt x="733" y="0"/>
                  </a:moveTo>
                  <a:lnTo>
                    <a:pt x="636" y="0"/>
                  </a:lnTo>
                  <a:lnTo>
                    <a:pt x="543" y="93"/>
                  </a:lnTo>
                  <a:lnTo>
                    <a:pt x="424" y="120"/>
                  </a:lnTo>
                  <a:lnTo>
                    <a:pt x="330" y="169"/>
                  </a:lnTo>
                  <a:lnTo>
                    <a:pt x="233" y="169"/>
                  </a:lnTo>
                  <a:lnTo>
                    <a:pt x="141" y="120"/>
                  </a:lnTo>
                  <a:lnTo>
                    <a:pt x="44" y="93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54760" y="3132000"/>
              <a:ext cx="273240" cy="25920"/>
            </a:xfrm>
            <a:custGeom>
              <a:avLst/>
              <a:gdLst/>
              <a:ahLst/>
              <a:rect l="0" t="0" r="r" b="b"/>
              <a:pathLst>
                <a:path fill="none" w="759" h="72">
                  <a:moveTo>
                    <a:pt x="759" y="0"/>
                  </a:moveTo>
                  <a:lnTo>
                    <a:pt x="662" y="23"/>
                  </a:lnTo>
                  <a:lnTo>
                    <a:pt x="521" y="72"/>
                  </a:lnTo>
                  <a:lnTo>
                    <a:pt x="428" y="72"/>
                  </a:lnTo>
                  <a:lnTo>
                    <a:pt x="330" y="72"/>
                  </a:lnTo>
                  <a:lnTo>
                    <a:pt x="238" y="72"/>
                  </a:lnTo>
                  <a:lnTo>
                    <a:pt x="141" y="72"/>
                  </a:lnTo>
                  <a:lnTo>
                    <a:pt x="26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4120" y="3191040"/>
              <a:ext cx="263880" cy="18000"/>
            </a:xfrm>
            <a:custGeom>
              <a:avLst/>
              <a:gdLst/>
              <a:ahLst/>
              <a:rect l="0" t="0" r="r" b="b"/>
              <a:pathLst>
                <a:path fill="none" w="733" h="50">
                  <a:moveTo>
                    <a:pt x="733" y="0"/>
                  </a:moveTo>
                  <a:lnTo>
                    <a:pt x="636" y="0"/>
                  </a:lnTo>
                  <a:lnTo>
                    <a:pt x="543" y="50"/>
                  </a:lnTo>
                  <a:lnTo>
                    <a:pt x="424" y="50"/>
                  </a:lnTo>
                  <a:lnTo>
                    <a:pt x="330" y="0"/>
                  </a:lnTo>
                  <a:lnTo>
                    <a:pt x="233" y="50"/>
                  </a:lnTo>
                  <a:lnTo>
                    <a:pt x="141" y="50"/>
                  </a:lnTo>
                  <a:lnTo>
                    <a:pt x="44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7640" y="2482920"/>
              <a:ext cx="86040" cy="101880"/>
            </a:xfrm>
            <a:custGeom>
              <a:avLst/>
              <a:gdLst/>
              <a:ahLst/>
              <a:rect l="0" t="0" r="r" b="b"/>
              <a:pathLst>
                <a:path fill="none" w="239" h="283">
                  <a:moveTo>
                    <a:pt x="0" y="0"/>
                  </a:moveTo>
                  <a:lnTo>
                    <a:pt x="92" y="92"/>
                  </a:lnTo>
                  <a:lnTo>
                    <a:pt x="164" y="212"/>
                  </a:lnTo>
                  <a:lnTo>
                    <a:pt x="239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7640" y="2541600"/>
              <a:ext cx="111600" cy="111600"/>
            </a:xfrm>
            <a:custGeom>
              <a:avLst/>
              <a:gdLst/>
              <a:ahLst/>
              <a:rect l="0" t="0" r="r" b="b"/>
              <a:pathLst>
                <a:path fill="none" w="310" h="310">
                  <a:moveTo>
                    <a:pt x="0" y="0"/>
                  </a:moveTo>
                  <a:lnTo>
                    <a:pt x="93" y="48"/>
                  </a:lnTo>
                  <a:lnTo>
                    <a:pt x="142" y="168"/>
                  </a:lnTo>
                  <a:lnTo>
                    <a:pt x="190" y="266"/>
                  </a:lnTo>
                  <a:lnTo>
                    <a:pt x="310" y="310"/>
                  </a:lnTo>
                  <a:lnTo>
                    <a:pt x="262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7640" y="2602080"/>
              <a:ext cx="119520" cy="103680"/>
            </a:xfrm>
            <a:custGeom>
              <a:avLst/>
              <a:gdLst/>
              <a:ahLst/>
              <a:rect l="0" t="0" r="r" b="b"/>
              <a:pathLst>
                <a:path fill="none" w="332" h="288">
                  <a:moveTo>
                    <a:pt x="0" y="0"/>
                  </a:moveTo>
                  <a:lnTo>
                    <a:pt x="22" y="98"/>
                  </a:lnTo>
                  <a:lnTo>
                    <a:pt x="142" y="142"/>
                  </a:lnTo>
                  <a:lnTo>
                    <a:pt x="239" y="212"/>
                  </a:lnTo>
                  <a:lnTo>
                    <a:pt x="332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7640" y="2705040"/>
              <a:ext cx="144720" cy="68760"/>
            </a:xfrm>
            <a:custGeom>
              <a:avLst/>
              <a:gdLst/>
              <a:ahLst/>
              <a:rect l="0" t="0" r="r" b="b"/>
              <a:pathLst>
                <a:path fill="none" w="402" h="191">
                  <a:moveTo>
                    <a:pt x="0" y="44"/>
                  </a:moveTo>
                  <a:lnTo>
                    <a:pt x="92" y="0"/>
                  </a:lnTo>
                  <a:lnTo>
                    <a:pt x="189" y="71"/>
                  </a:lnTo>
                  <a:lnTo>
                    <a:pt x="309" y="142"/>
                  </a:lnTo>
                  <a:lnTo>
                    <a:pt x="402" y="191"/>
                  </a:lnTo>
                  <a:lnTo>
                    <a:pt x="331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7640" y="2720880"/>
              <a:ext cx="162360" cy="103680"/>
            </a:xfrm>
            <a:custGeom>
              <a:avLst/>
              <a:gdLst/>
              <a:ahLst/>
              <a:rect l="0" t="0" r="r" b="b"/>
              <a:pathLst>
                <a:path fill="none" w="451" h="288">
                  <a:moveTo>
                    <a:pt x="0" y="0"/>
                  </a:moveTo>
                  <a:lnTo>
                    <a:pt x="0" y="98"/>
                  </a:lnTo>
                  <a:lnTo>
                    <a:pt x="92" y="146"/>
                  </a:lnTo>
                  <a:lnTo>
                    <a:pt x="190" y="218"/>
                  </a:lnTo>
                  <a:lnTo>
                    <a:pt x="309" y="240"/>
                  </a:lnTo>
                  <a:lnTo>
                    <a:pt x="403" y="288"/>
                  </a:lnTo>
                  <a:lnTo>
                    <a:pt x="451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7640" y="2841480"/>
              <a:ext cx="179640" cy="76680"/>
            </a:xfrm>
            <a:custGeom>
              <a:avLst/>
              <a:gdLst/>
              <a:ahLst/>
              <a:rect l="0" t="0" r="r" b="b"/>
              <a:pathLst>
                <a:path fill="none" w="499" h="213">
                  <a:moveTo>
                    <a:pt x="0" y="0"/>
                  </a:moveTo>
                  <a:lnTo>
                    <a:pt x="92" y="71"/>
                  </a:lnTo>
                  <a:lnTo>
                    <a:pt x="189" y="142"/>
                  </a:lnTo>
                  <a:lnTo>
                    <a:pt x="309" y="165"/>
                  </a:lnTo>
                  <a:lnTo>
                    <a:pt x="402" y="213"/>
                  </a:lnTo>
                  <a:lnTo>
                    <a:pt x="49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7640" y="2824200"/>
              <a:ext cx="187560" cy="51120"/>
            </a:xfrm>
            <a:custGeom>
              <a:avLst/>
              <a:gdLst/>
              <a:ahLst/>
              <a:rect l="0" t="0" r="r" b="b"/>
              <a:pathLst>
                <a:path fill="none" w="521" h="142">
                  <a:moveTo>
                    <a:pt x="0" y="48"/>
                  </a:moveTo>
                  <a:lnTo>
                    <a:pt x="141" y="0"/>
                  </a:lnTo>
                  <a:lnTo>
                    <a:pt x="238" y="48"/>
                  </a:lnTo>
                  <a:lnTo>
                    <a:pt x="331" y="70"/>
                  </a:lnTo>
                  <a:lnTo>
                    <a:pt x="424" y="120"/>
                  </a:lnTo>
                  <a:lnTo>
                    <a:pt x="521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7640" y="2892600"/>
              <a:ext cx="187560" cy="60840"/>
            </a:xfrm>
            <a:custGeom>
              <a:avLst/>
              <a:gdLst/>
              <a:ahLst/>
              <a:rect l="0" t="0" r="r" b="b"/>
              <a:pathLst>
                <a:path fill="none" w="521" h="169">
                  <a:moveTo>
                    <a:pt x="0" y="0"/>
                  </a:moveTo>
                  <a:lnTo>
                    <a:pt x="92" y="71"/>
                  </a:lnTo>
                  <a:lnTo>
                    <a:pt x="189" y="93"/>
                  </a:lnTo>
                  <a:lnTo>
                    <a:pt x="309" y="143"/>
                  </a:lnTo>
                  <a:lnTo>
                    <a:pt x="402" y="169"/>
                  </a:lnTo>
                  <a:lnTo>
                    <a:pt x="499" y="169"/>
                  </a:lnTo>
                  <a:lnTo>
                    <a:pt x="521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7640" y="2952720"/>
              <a:ext cx="179640" cy="59040"/>
            </a:xfrm>
            <a:custGeom>
              <a:avLst/>
              <a:gdLst/>
              <a:ahLst/>
              <a:rect l="0" t="0" r="r" b="b"/>
              <a:pathLst>
                <a:path fill="none" w="499" h="164">
                  <a:moveTo>
                    <a:pt x="0" y="0"/>
                  </a:moveTo>
                  <a:lnTo>
                    <a:pt x="92" y="44"/>
                  </a:lnTo>
                  <a:lnTo>
                    <a:pt x="189" y="115"/>
                  </a:lnTo>
                  <a:lnTo>
                    <a:pt x="309" y="164"/>
                  </a:lnTo>
                  <a:lnTo>
                    <a:pt x="402" y="164"/>
                  </a:lnTo>
                  <a:lnTo>
                    <a:pt x="499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7640" y="3011400"/>
              <a:ext cx="221040" cy="51120"/>
            </a:xfrm>
            <a:custGeom>
              <a:avLst/>
              <a:gdLst/>
              <a:ahLst/>
              <a:rect l="0" t="0" r="r" b="b"/>
              <a:pathLst>
                <a:path fill="none" w="614" h="142">
                  <a:moveTo>
                    <a:pt x="0" y="0"/>
                  </a:moveTo>
                  <a:lnTo>
                    <a:pt x="92" y="70"/>
                  </a:lnTo>
                  <a:lnTo>
                    <a:pt x="239" y="98"/>
                  </a:lnTo>
                  <a:lnTo>
                    <a:pt x="331" y="142"/>
                  </a:lnTo>
                  <a:lnTo>
                    <a:pt x="424" y="142"/>
                  </a:lnTo>
                  <a:lnTo>
                    <a:pt x="522" y="98"/>
                  </a:lnTo>
                  <a:lnTo>
                    <a:pt x="614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27640" y="3071880"/>
              <a:ext cx="263880" cy="60840"/>
            </a:xfrm>
            <a:custGeom>
              <a:avLst/>
              <a:gdLst/>
              <a:ahLst/>
              <a:rect l="0" t="0" r="r" b="b"/>
              <a:pathLst>
                <a:path fill="none" w="733" h="169">
                  <a:moveTo>
                    <a:pt x="0" y="0"/>
                  </a:moveTo>
                  <a:lnTo>
                    <a:pt x="92" y="0"/>
                  </a:lnTo>
                  <a:lnTo>
                    <a:pt x="189" y="93"/>
                  </a:lnTo>
                  <a:lnTo>
                    <a:pt x="308" y="120"/>
                  </a:lnTo>
                  <a:lnTo>
                    <a:pt x="402" y="169"/>
                  </a:lnTo>
                  <a:lnTo>
                    <a:pt x="499" y="169"/>
                  </a:lnTo>
                  <a:lnTo>
                    <a:pt x="591" y="120"/>
                  </a:lnTo>
                  <a:lnTo>
                    <a:pt x="684" y="93"/>
                  </a:lnTo>
                  <a:lnTo>
                    <a:pt x="733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27640" y="3132000"/>
              <a:ext cx="271800" cy="25920"/>
            </a:xfrm>
            <a:custGeom>
              <a:avLst/>
              <a:gdLst/>
              <a:ahLst/>
              <a:rect l="0" t="0" r="r" b="b"/>
              <a:pathLst>
                <a:path fill="none" w="755" h="72">
                  <a:moveTo>
                    <a:pt x="0" y="0"/>
                  </a:moveTo>
                  <a:lnTo>
                    <a:pt x="92" y="23"/>
                  </a:lnTo>
                  <a:lnTo>
                    <a:pt x="238" y="72"/>
                  </a:lnTo>
                  <a:lnTo>
                    <a:pt x="330" y="72"/>
                  </a:lnTo>
                  <a:lnTo>
                    <a:pt x="424" y="72"/>
                  </a:lnTo>
                  <a:lnTo>
                    <a:pt x="521" y="72"/>
                  </a:lnTo>
                  <a:lnTo>
                    <a:pt x="613" y="72"/>
                  </a:lnTo>
                  <a:lnTo>
                    <a:pt x="733" y="72"/>
                  </a:lnTo>
                  <a:lnTo>
                    <a:pt x="75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27640" y="3191040"/>
              <a:ext cx="263880" cy="18000"/>
            </a:xfrm>
            <a:custGeom>
              <a:avLst/>
              <a:gdLst/>
              <a:ahLst/>
              <a:rect l="0" t="0" r="r" b="b"/>
              <a:pathLst>
                <a:path fill="none" w="733" h="50">
                  <a:moveTo>
                    <a:pt x="0" y="0"/>
                  </a:moveTo>
                  <a:lnTo>
                    <a:pt x="92" y="0"/>
                  </a:lnTo>
                  <a:lnTo>
                    <a:pt x="189" y="50"/>
                  </a:lnTo>
                  <a:lnTo>
                    <a:pt x="308" y="50"/>
                  </a:lnTo>
                  <a:lnTo>
                    <a:pt x="402" y="0"/>
                  </a:lnTo>
                  <a:lnTo>
                    <a:pt x="499" y="50"/>
                  </a:lnTo>
                  <a:lnTo>
                    <a:pt x="591" y="50"/>
                  </a:lnTo>
                  <a:lnTo>
                    <a:pt x="684" y="50"/>
                  </a:lnTo>
                  <a:lnTo>
                    <a:pt x="7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64160" y="2849400"/>
            <a:ext cx="783000" cy="1109880"/>
            <a:chOff x="4664160" y="2849400"/>
            <a:chExt cx="783000" cy="1109880"/>
          </a:xfrm>
        </p:grpSpPr>
        <p:sp>
          <p:nvSpPr>
            <p:cNvPr id="229" name=""/>
            <p:cNvSpPr/>
            <p:nvPr/>
          </p:nvSpPr>
          <p:spPr>
            <a:xfrm>
              <a:off x="4935600" y="2849400"/>
              <a:ext cx="154440" cy="1109880"/>
            </a:xfrm>
            <a:custGeom>
              <a:avLst/>
              <a:gdLst/>
              <a:ahLst/>
              <a:rect l="0" t="0" r="r" b="b"/>
              <a:pathLst>
                <a:path fill="none" w="429" h="3083">
                  <a:moveTo>
                    <a:pt x="332" y="48"/>
                  </a:moveTo>
                  <a:lnTo>
                    <a:pt x="332" y="189"/>
                  </a:lnTo>
                  <a:lnTo>
                    <a:pt x="332" y="330"/>
                  </a:lnTo>
                  <a:lnTo>
                    <a:pt x="287" y="520"/>
                  </a:lnTo>
                  <a:lnTo>
                    <a:pt x="287" y="665"/>
                  </a:lnTo>
                  <a:lnTo>
                    <a:pt x="287" y="855"/>
                  </a:lnTo>
                  <a:lnTo>
                    <a:pt x="287" y="1045"/>
                  </a:lnTo>
                  <a:lnTo>
                    <a:pt x="287" y="1234"/>
                  </a:lnTo>
                  <a:lnTo>
                    <a:pt x="287" y="1375"/>
                  </a:lnTo>
                  <a:lnTo>
                    <a:pt x="287" y="1566"/>
                  </a:lnTo>
                  <a:lnTo>
                    <a:pt x="287" y="1707"/>
                  </a:lnTo>
                  <a:lnTo>
                    <a:pt x="287" y="1853"/>
                  </a:lnTo>
                  <a:lnTo>
                    <a:pt x="287" y="1994"/>
                  </a:lnTo>
                  <a:lnTo>
                    <a:pt x="287" y="2135"/>
                  </a:lnTo>
                  <a:lnTo>
                    <a:pt x="239" y="2276"/>
                  </a:lnTo>
                  <a:lnTo>
                    <a:pt x="239" y="2421"/>
                  </a:lnTo>
                  <a:lnTo>
                    <a:pt x="190" y="2563"/>
                  </a:lnTo>
                  <a:lnTo>
                    <a:pt x="190" y="2704"/>
                  </a:lnTo>
                  <a:lnTo>
                    <a:pt x="190" y="2845"/>
                  </a:lnTo>
                  <a:lnTo>
                    <a:pt x="190" y="2990"/>
                  </a:lnTo>
                  <a:lnTo>
                    <a:pt x="332" y="3083"/>
                  </a:lnTo>
                  <a:lnTo>
                    <a:pt x="429" y="2942"/>
                  </a:lnTo>
                  <a:lnTo>
                    <a:pt x="381" y="2801"/>
                  </a:lnTo>
                  <a:lnTo>
                    <a:pt x="332" y="2655"/>
                  </a:lnTo>
                  <a:lnTo>
                    <a:pt x="332" y="2514"/>
                  </a:lnTo>
                  <a:lnTo>
                    <a:pt x="332" y="2373"/>
                  </a:lnTo>
                  <a:lnTo>
                    <a:pt x="332" y="2232"/>
                  </a:lnTo>
                  <a:lnTo>
                    <a:pt x="332" y="2086"/>
                  </a:lnTo>
                  <a:lnTo>
                    <a:pt x="381" y="1945"/>
                  </a:lnTo>
                  <a:lnTo>
                    <a:pt x="381" y="1804"/>
                  </a:lnTo>
                  <a:lnTo>
                    <a:pt x="429" y="1659"/>
                  </a:lnTo>
                  <a:lnTo>
                    <a:pt x="429" y="1516"/>
                  </a:lnTo>
                  <a:lnTo>
                    <a:pt x="429" y="1375"/>
                  </a:lnTo>
                  <a:lnTo>
                    <a:pt x="381" y="1234"/>
                  </a:lnTo>
                  <a:lnTo>
                    <a:pt x="381" y="1089"/>
                  </a:lnTo>
                  <a:lnTo>
                    <a:pt x="381" y="948"/>
                  </a:lnTo>
                  <a:lnTo>
                    <a:pt x="381" y="806"/>
                  </a:lnTo>
                  <a:lnTo>
                    <a:pt x="381" y="665"/>
                  </a:lnTo>
                  <a:lnTo>
                    <a:pt x="381" y="520"/>
                  </a:lnTo>
                  <a:lnTo>
                    <a:pt x="381" y="379"/>
                  </a:lnTo>
                  <a:lnTo>
                    <a:pt x="381" y="238"/>
                  </a:lnTo>
                  <a:lnTo>
                    <a:pt x="381" y="97"/>
                  </a:lnTo>
                  <a:lnTo>
                    <a:pt x="332" y="0"/>
                  </a:lnTo>
                  <a:lnTo>
                    <a:pt x="332" y="48"/>
                  </a:lnTo>
                  <a:lnTo>
                    <a:pt x="190" y="189"/>
                  </a:lnTo>
                  <a:lnTo>
                    <a:pt x="97" y="330"/>
                  </a:lnTo>
                  <a:lnTo>
                    <a:pt x="0" y="4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02120" y="2943360"/>
              <a:ext cx="152640" cy="146520"/>
            </a:xfrm>
            <a:custGeom>
              <a:avLst/>
              <a:gdLst/>
              <a:ahLst/>
              <a:rect l="0" t="0" r="r" b="b"/>
              <a:pathLst>
                <a:path fill="none" w="424" h="407">
                  <a:moveTo>
                    <a:pt x="424" y="0"/>
                  </a:moveTo>
                  <a:lnTo>
                    <a:pt x="283" y="70"/>
                  </a:lnTo>
                  <a:lnTo>
                    <a:pt x="234" y="217"/>
                  </a:lnTo>
                  <a:lnTo>
                    <a:pt x="141" y="359"/>
                  </a:lnTo>
                  <a:lnTo>
                    <a:pt x="0" y="407"/>
                  </a:lnTo>
                  <a:lnTo>
                    <a:pt x="44" y="4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84840" y="302112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9" y="141"/>
                  </a:lnTo>
                  <a:lnTo>
                    <a:pt x="283" y="189"/>
                  </a:lnTo>
                  <a:lnTo>
                    <a:pt x="142" y="283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1360" y="3157560"/>
              <a:ext cx="203400" cy="84600"/>
            </a:xfrm>
            <a:custGeom>
              <a:avLst/>
              <a:gdLst/>
              <a:ahLst/>
              <a:rect l="0" t="0" r="r" b="b"/>
              <a:pathLst>
                <a:path fill="none" w="565" h="235">
                  <a:moveTo>
                    <a:pt x="565" y="44"/>
                  </a:moveTo>
                  <a:lnTo>
                    <a:pt x="424" y="0"/>
                  </a:lnTo>
                  <a:lnTo>
                    <a:pt x="283" y="93"/>
                  </a:lnTo>
                  <a:lnTo>
                    <a:pt x="141" y="191"/>
                  </a:lnTo>
                  <a:lnTo>
                    <a:pt x="0" y="235"/>
                  </a:lnTo>
                  <a:lnTo>
                    <a:pt x="92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16440" y="317340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5"/>
                  </a:lnTo>
                  <a:lnTo>
                    <a:pt x="521" y="189"/>
                  </a:lnTo>
                  <a:lnTo>
                    <a:pt x="380" y="287"/>
                  </a:lnTo>
                  <a:lnTo>
                    <a:pt x="238" y="336"/>
                  </a:lnTo>
                  <a:lnTo>
                    <a:pt x="97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99160" y="3327480"/>
              <a:ext cx="255960" cy="103680"/>
            </a:xfrm>
            <a:custGeom>
              <a:avLst/>
              <a:gdLst/>
              <a:ahLst/>
              <a:rect l="0" t="0" r="r" b="b"/>
              <a:pathLst>
                <a:path fill="none" w="711" h="288">
                  <a:moveTo>
                    <a:pt x="711" y="0"/>
                  </a:moveTo>
                  <a:lnTo>
                    <a:pt x="570" y="98"/>
                  </a:lnTo>
                  <a:lnTo>
                    <a:pt x="428" y="190"/>
                  </a:lnTo>
                  <a:lnTo>
                    <a:pt x="287" y="240"/>
                  </a:lnTo>
                  <a:lnTo>
                    <a:pt x="145" y="288"/>
                  </a:lnTo>
                  <a:lnTo>
                    <a:pt x="0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82960" y="3309840"/>
              <a:ext cx="271800" cy="68760"/>
            </a:xfrm>
            <a:custGeom>
              <a:avLst/>
              <a:gdLst/>
              <a:ahLst/>
              <a:rect l="0" t="0" r="r" b="b"/>
              <a:pathLst>
                <a:path fill="none" w="755" h="191">
                  <a:moveTo>
                    <a:pt x="755" y="49"/>
                  </a:moveTo>
                  <a:lnTo>
                    <a:pt x="565" y="0"/>
                  </a:lnTo>
                  <a:lnTo>
                    <a:pt x="424" y="49"/>
                  </a:lnTo>
                  <a:lnTo>
                    <a:pt x="282" y="98"/>
                  </a:lnTo>
                  <a:lnTo>
                    <a:pt x="141" y="147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82960" y="3405240"/>
              <a:ext cx="271800" cy="76680"/>
            </a:xfrm>
            <a:custGeom>
              <a:avLst/>
              <a:gdLst/>
              <a:ahLst/>
              <a:rect l="0" t="0" r="r" b="b"/>
              <a:pathLst>
                <a:path fill="none" w="755" h="213">
                  <a:moveTo>
                    <a:pt x="755" y="0"/>
                  </a:moveTo>
                  <a:lnTo>
                    <a:pt x="613" y="71"/>
                  </a:lnTo>
                  <a:lnTo>
                    <a:pt x="472" y="115"/>
                  </a:lnTo>
                  <a:lnTo>
                    <a:pt x="330" y="165"/>
                  </a:lnTo>
                  <a:lnTo>
                    <a:pt x="189" y="213"/>
                  </a:lnTo>
                  <a:lnTo>
                    <a:pt x="44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99160" y="34815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9"/>
                  </a:lnTo>
                  <a:lnTo>
                    <a:pt x="428" y="142"/>
                  </a:lnTo>
                  <a:lnTo>
                    <a:pt x="287" y="191"/>
                  </a:lnTo>
                  <a:lnTo>
                    <a:pt x="145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0760" y="355752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901" y="0"/>
                  </a:moveTo>
                  <a:lnTo>
                    <a:pt x="760" y="75"/>
                  </a:lnTo>
                  <a:lnTo>
                    <a:pt x="569" y="120"/>
                  </a:lnTo>
                  <a:lnTo>
                    <a:pt x="428" y="169"/>
                  </a:lnTo>
                  <a:lnTo>
                    <a:pt x="287" y="169"/>
                  </a:lnTo>
                  <a:lnTo>
                    <a:pt x="145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0000" y="363528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3"/>
                  </a:lnTo>
                  <a:lnTo>
                    <a:pt x="618" y="142"/>
                  </a:lnTo>
                  <a:lnTo>
                    <a:pt x="477" y="191"/>
                  </a:lnTo>
                  <a:lnTo>
                    <a:pt x="331" y="191"/>
                  </a:lnTo>
                  <a:lnTo>
                    <a:pt x="189" y="142"/>
                  </a:lnTo>
                  <a:lnTo>
                    <a:pt x="48" y="93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4160" y="3711600"/>
              <a:ext cx="390960" cy="25920"/>
            </a:xfrm>
            <a:custGeom>
              <a:avLst/>
              <a:gdLst/>
              <a:ahLst/>
              <a:rect l="0" t="0" r="r" b="b"/>
              <a:pathLst>
                <a:path fill="none" w="1086" h="72">
                  <a:moveTo>
                    <a:pt x="1086" y="0"/>
                  </a:moveTo>
                  <a:lnTo>
                    <a:pt x="945" y="27"/>
                  </a:lnTo>
                  <a:lnTo>
                    <a:pt x="755" y="72"/>
                  </a:lnTo>
                  <a:lnTo>
                    <a:pt x="613" y="72"/>
                  </a:lnTo>
                  <a:lnTo>
                    <a:pt x="472" y="72"/>
                  </a:lnTo>
                  <a:lnTo>
                    <a:pt x="331" y="72"/>
                  </a:lnTo>
                  <a:lnTo>
                    <a:pt x="185" y="72"/>
                  </a:lnTo>
                  <a:lnTo>
                    <a:pt x="44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0000" y="3789360"/>
              <a:ext cx="375120" cy="16200"/>
            </a:xfrm>
            <a:custGeom>
              <a:avLst/>
              <a:gdLst/>
              <a:ahLst/>
              <a:rect l="0" t="0" r="r" b="b"/>
              <a:pathLst>
                <a:path fill="none" w="1042" h="45">
                  <a:moveTo>
                    <a:pt x="1042" y="0"/>
                  </a:moveTo>
                  <a:lnTo>
                    <a:pt x="901" y="0"/>
                  </a:lnTo>
                  <a:lnTo>
                    <a:pt x="759" y="45"/>
                  </a:lnTo>
                  <a:lnTo>
                    <a:pt x="618" y="45"/>
                  </a:lnTo>
                  <a:lnTo>
                    <a:pt x="477" y="0"/>
                  </a:lnTo>
                  <a:lnTo>
                    <a:pt x="331" y="45"/>
                  </a:lnTo>
                  <a:lnTo>
                    <a:pt x="189" y="45"/>
                  </a:lnTo>
                  <a:lnTo>
                    <a:pt x="48" y="4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4760" y="286704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1"/>
                  </a:lnTo>
                  <a:lnTo>
                    <a:pt x="239" y="283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54760" y="2943360"/>
              <a:ext cx="154440" cy="146520"/>
            </a:xfrm>
            <a:custGeom>
              <a:avLst/>
              <a:gdLst/>
              <a:ahLst/>
              <a:rect l="0" t="0" r="r" b="b"/>
              <a:pathLst>
                <a:path fill="none" w="429" h="407">
                  <a:moveTo>
                    <a:pt x="0" y="0"/>
                  </a:moveTo>
                  <a:lnTo>
                    <a:pt x="142" y="70"/>
                  </a:lnTo>
                  <a:lnTo>
                    <a:pt x="190" y="217"/>
                  </a:lnTo>
                  <a:lnTo>
                    <a:pt x="287" y="359"/>
                  </a:lnTo>
                  <a:lnTo>
                    <a:pt x="429" y="407"/>
                  </a:lnTo>
                  <a:lnTo>
                    <a:pt x="381" y="4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54760" y="3021120"/>
              <a:ext cx="171720" cy="136800"/>
            </a:xfrm>
            <a:custGeom>
              <a:avLst/>
              <a:gdLst/>
              <a:ahLst/>
              <a:rect l="0" t="0" r="r" b="b"/>
              <a:pathLst>
                <a:path fill="none" w="477" h="380">
                  <a:moveTo>
                    <a:pt x="0" y="0"/>
                  </a:moveTo>
                  <a:lnTo>
                    <a:pt x="48" y="141"/>
                  </a:lnTo>
                  <a:lnTo>
                    <a:pt x="189" y="189"/>
                  </a:lnTo>
                  <a:lnTo>
                    <a:pt x="331" y="283"/>
                  </a:lnTo>
                  <a:lnTo>
                    <a:pt x="477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54760" y="3157560"/>
              <a:ext cx="205200" cy="84600"/>
            </a:xfrm>
            <a:custGeom>
              <a:avLst/>
              <a:gdLst/>
              <a:ahLst/>
              <a:rect l="0" t="0" r="r" b="b"/>
              <a:pathLst>
                <a:path fill="none" w="570" h="235">
                  <a:moveTo>
                    <a:pt x="0" y="44"/>
                  </a:moveTo>
                  <a:lnTo>
                    <a:pt x="141" y="0"/>
                  </a:lnTo>
                  <a:lnTo>
                    <a:pt x="287" y="93"/>
                  </a:lnTo>
                  <a:lnTo>
                    <a:pt x="429" y="191"/>
                  </a:lnTo>
                  <a:lnTo>
                    <a:pt x="570" y="235"/>
                  </a:lnTo>
                  <a:lnTo>
                    <a:pt x="478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54760" y="317340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5"/>
                  </a:lnTo>
                  <a:lnTo>
                    <a:pt x="141" y="189"/>
                  </a:lnTo>
                  <a:lnTo>
                    <a:pt x="286" y="287"/>
                  </a:lnTo>
                  <a:lnTo>
                    <a:pt x="428" y="336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54760" y="3327480"/>
              <a:ext cx="255960" cy="103680"/>
            </a:xfrm>
            <a:custGeom>
              <a:avLst/>
              <a:gdLst/>
              <a:ahLst/>
              <a:rect l="0" t="0" r="r" b="b"/>
              <a:pathLst>
                <a:path fill="none" w="711" h="288">
                  <a:moveTo>
                    <a:pt x="0" y="0"/>
                  </a:moveTo>
                  <a:lnTo>
                    <a:pt x="141" y="98"/>
                  </a:lnTo>
                  <a:lnTo>
                    <a:pt x="287" y="190"/>
                  </a:lnTo>
                  <a:lnTo>
                    <a:pt x="428" y="240"/>
                  </a:lnTo>
                  <a:lnTo>
                    <a:pt x="570" y="288"/>
                  </a:lnTo>
                  <a:lnTo>
                    <a:pt x="711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54760" y="330984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7" y="98"/>
                  </a:lnTo>
                  <a:lnTo>
                    <a:pt x="618" y="147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54760" y="340524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0" y="0"/>
                  </a:moveTo>
                  <a:lnTo>
                    <a:pt x="141" y="71"/>
                  </a:lnTo>
                  <a:lnTo>
                    <a:pt x="286" y="115"/>
                  </a:lnTo>
                  <a:lnTo>
                    <a:pt x="428" y="165"/>
                  </a:lnTo>
                  <a:lnTo>
                    <a:pt x="569" y="213"/>
                  </a:lnTo>
                  <a:lnTo>
                    <a:pt x="710" y="213"/>
                  </a:lnTo>
                  <a:lnTo>
                    <a:pt x="75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54760" y="34815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9"/>
                  </a:lnTo>
                  <a:lnTo>
                    <a:pt x="287" y="142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54760" y="355752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0" y="0"/>
                  </a:moveTo>
                  <a:lnTo>
                    <a:pt x="141" y="75"/>
                  </a:lnTo>
                  <a:lnTo>
                    <a:pt x="331" y="120"/>
                  </a:lnTo>
                  <a:lnTo>
                    <a:pt x="477" y="169"/>
                  </a:lnTo>
                  <a:lnTo>
                    <a:pt x="618" y="169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54760" y="363528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7" y="93"/>
                  </a:lnTo>
                  <a:lnTo>
                    <a:pt x="428" y="142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2"/>
                  </a:lnTo>
                  <a:lnTo>
                    <a:pt x="998" y="93"/>
                  </a:lnTo>
                  <a:lnTo>
                    <a:pt x="1042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54760" y="371160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7"/>
                  </a:lnTo>
                  <a:lnTo>
                    <a:pt x="330" y="72"/>
                  </a:lnTo>
                  <a:lnTo>
                    <a:pt x="476" y="72"/>
                  </a:lnTo>
                  <a:lnTo>
                    <a:pt x="618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760" y="3789360"/>
              <a:ext cx="375120" cy="16200"/>
            </a:xfrm>
            <a:custGeom>
              <a:avLst/>
              <a:gdLst/>
              <a:ahLst/>
              <a:rect l="0" t="0" r="r" b="b"/>
              <a:pathLst>
                <a:path fill="none" w="1042" h="45">
                  <a:moveTo>
                    <a:pt x="0" y="0"/>
                  </a:moveTo>
                  <a:lnTo>
                    <a:pt x="141" y="0"/>
                  </a:lnTo>
                  <a:lnTo>
                    <a:pt x="287" y="45"/>
                  </a:lnTo>
                  <a:lnTo>
                    <a:pt x="428" y="45"/>
                  </a:lnTo>
                  <a:lnTo>
                    <a:pt x="569" y="0"/>
                  </a:lnTo>
                  <a:lnTo>
                    <a:pt x="710" y="45"/>
                  </a:lnTo>
                  <a:lnTo>
                    <a:pt x="853" y="45"/>
                  </a:lnTo>
                  <a:lnTo>
                    <a:pt x="998" y="45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199120" y="2925720"/>
            <a:ext cx="784440" cy="1111680"/>
            <a:chOff x="5199120" y="2925720"/>
            <a:chExt cx="784440" cy="1111680"/>
          </a:xfrm>
        </p:grpSpPr>
        <p:sp>
          <p:nvSpPr>
            <p:cNvPr id="256" name=""/>
            <p:cNvSpPr/>
            <p:nvPr/>
          </p:nvSpPr>
          <p:spPr>
            <a:xfrm>
              <a:off x="5472000" y="2925720"/>
              <a:ext cx="154440" cy="1111680"/>
            </a:xfrm>
            <a:custGeom>
              <a:avLst/>
              <a:gdLst/>
              <a:ahLst/>
              <a:rect l="0" t="0" r="r" b="b"/>
              <a:pathLst>
                <a:path fill="none" w="429" h="3088">
                  <a:moveTo>
                    <a:pt x="332" y="48"/>
                  </a:moveTo>
                  <a:lnTo>
                    <a:pt x="332" y="189"/>
                  </a:lnTo>
                  <a:lnTo>
                    <a:pt x="332" y="335"/>
                  </a:lnTo>
                  <a:lnTo>
                    <a:pt x="283" y="524"/>
                  </a:lnTo>
                  <a:lnTo>
                    <a:pt x="283" y="665"/>
                  </a:lnTo>
                  <a:lnTo>
                    <a:pt x="283" y="856"/>
                  </a:lnTo>
                  <a:lnTo>
                    <a:pt x="283" y="1046"/>
                  </a:lnTo>
                  <a:lnTo>
                    <a:pt x="283" y="1235"/>
                  </a:lnTo>
                  <a:lnTo>
                    <a:pt x="283" y="1376"/>
                  </a:lnTo>
                  <a:lnTo>
                    <a:pt x="283" y="1566"/>
                  </a:lnTo>
                  <a:lnTo>
                    <a:pt x="283" y="1711"/>
                  </a:lnTo>
                  <a:lnTo>
                    <a:pt x="283" y="1853"/>
                  </a:lnTo>
                  <a:lnTo>
                    <a:pt x="283" y="1994"/>
                  </a:lnTo>
                  <a:lnTo>
                    <a:pt x="283" y="2135"/>
                  </a:lnTo>
                  <a:lnTo>
                    <a:pt x="239" y="2280"/>
                  </a:lnTo>
                  <a:lnTo>
                    <a:pt x="239" y="2422"/>
                  </a:lnTo>
                  <a:lnTo>
                    <a:pt x="190" y="2564"/>
                  </a:lnTo>
                  <a:lnTo>
                    <a:pt x="190" y="2709"/>
                  </a:lnTo>
                  <a:lnTo>
                    <a:pt x="190" y="2850"/>
                  </a:lnTo>
                  <a:lnTo>
                    <a:pt x="190" y="2991"/>
                  </a:lnTo>
                  <a:lnTo>
                    <a:pt x="332" y="3088"/>
                  </a:lnTo>
                  <a:lnTo>
                    <a:pt x="429" y="2943"/>
                  </a:lnTo>
                  <a:lnTo>
                    <a:pt x="381" y="2802"/>
                  </a:lnTo>
                  <a:lnTo>
                    <a:pt x="332" y="2661"/>
                  </a:lnTo>
                  <a:lnTo>
                    <a:pt x="332" y="2515"/>
                  </a:lnTo>
                  <a:lnTo>
                    <a:pt x="332" y="2374"/>
                  </a:lnTo>
                  <a:lnTo>
                    <a:pt x="332" y="2232"/>
                  </a:lnTo>
                  <a:lnTo>
                    <a:pt x="332" y="2091"/>
                  </a:lnTo>
                  <a:lnTo>
                    <a:pt x="381" y="1945"/>
                  </a:lnTo>
                  <a:lnTo>
                    <a:pt x="381" y="1804"/>
                  </a:lnTo>
                  <a:lnTo>
                    <a:pt x="429" y="1663"/>
                  </a:lnTo>
                  <a:lnTo>
                    <a:pt x="429" y="1522"/>
                  </a:lnTo>
                  <a:lnTo>
                    <a:pt x="429" y="1376"/>
                  </a:lnTo>
                  <a:lnTo>
                    <a:pt x="381" y="1235"/>
                  </a:lnTo>
                  <a:lnTo>
                    <a:pt x="381" y="1094"/>
                  </a:lnTo>
                  <a:lnTo>
                    <a:pt x="381" y="953"/>
                  </a:lnTo>
                  <a:lnTo>
                    <a:pt x="381" y="807"/>
                  </a:lnTo>
                  <a:lnTo>
                    <a:pt x="381" y="665"/>
                  </a:lnTo>
                  <a:lnTo>
                    <a:pt x="381" y="524"/>
                  </a:lnTo>
                  <a:lnTo>
                    <a:pt x="381" y="379"/>
                  </a:lnTo>
                  <a:lnTo>
                    <a:pt x="381" y="238"/>
                  </a:lnTo>
                  <a:lnTo>
                    <a:pt x="381" y="97"/>
                  </a:lnTo>
                  <a:lnTo>
                    <a:pt x="332" y="0"/>
                  </a:lnTo>
                  <a:lnTo>
                    <a:pt x="332" y="48"/>
                  </a:lnTo>
                  <a:lnTo>
                    <a:pt x="190" y="189"/>
                  </a:lnTo>
                  <a:lnTo>
                    <a:pt x="97" y="335"/>
                  </a:lnTo>
                  <a:lnTo>
                    <a:pt x="0" y="4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8880" y="3021120"/>
              <a:ext cx="152640" cy="144720"/>
            </a:xfrm>
            <a:custGeom>
              <a:avLst/>
              <a:gdLst/>
              <a:ahLst/>
              <a:rect l="0" t="0" r="r" b="b"/>
              <a:pathLst>
                <a:path fill="none" w="424" h="402">
                  <a:moveTo>
                    <a:pt x="424" y="0"/>
                  </a:moveTo>
                  <a:lnTo>
                    <a:pt x="283" y="70"/>
                  </a:lnTo>
                  <a:lnTo>
                    <a:pt x="234" y="212"/>
                  </a:lnTo>
                  <a:lnTo>
                    <a:pt x="141" y="353"/>
                  </a:lnTo>
                  <a:lnTo>
                    <a:pt x="0" y="402"/>
                  </a:lnTo>
                  <a:lnTo>
                    <a:pt x="44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2124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5" y="141"/>
                  </a:lnTo>
                  <a:lnTo>
                    <a:pt x="283" y="189"/>
                  </a:lnTo>
                  <a:lnTo>
                    <a:pt x="142" y="287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632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570" y="48"/>
                  </a:moveTo>
                  <a:lnTo>
                    <a:pt x="429" y="0"/>
                  </a:lnTo>
                  <a:lnTo>
                    <a:pt x="287" y="97"/>
                  </a:lnTo>
                  <a:lnTo>
                    <a:pt x="146" y="190"/>
                  </a:lnTo>
                  <a:lnTo>
                    <a:pt x="0" y="239"/>
                  </a:lnTo>
                  <a:lnTo>
                    <a:pt x="97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5320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1"/>
                  </a:lnTo>
                  <a:lnTo>
                    <a:pt x="521" y="189"/>
                  </a:lnTo>
                  <a:lnTo>
                    <a:pt x="380" y="283"/>
                  </a:lnTo>
                  <a:lnTo>
                    <a:pt x="238" y="331"/>
                  </a:lnTo>
                  <a:lnTo>
                    <a:pt x="92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56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711" y="0"/>
                  </a:moveTo>
                  <a:lnTo>
                    <a:pt x="570" y="92"/>
                  </a:lnTo>
                  <a:lnTo>
                    <a:pt x="428" y="190"/>
                  </a:lnTo>
                  <a:lnTo>
                    <a:pt x="287" y="234"/>
                  </a:lnTo>
                  <a:lnTo>
                    <a:pt x="141" y="283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9720" y="3387600"/>
              <a:ext cx="271800" cy="68760"/>
            </a:xfrm>
            <a:custGeom>
              <a:avLst/>
              <a:gdLst/>
              <a:ahLst/>
              <a:rect l="0" t="0" r="r" b="b"/>
              <a:pathLst>
                <a:path fill="none" w="755" h="191">
                  <a:moveTo>
                    <a:pt x="755" y="49"/>
                  </a:moveTo>
                  <a:lnTo>
                    <a:pt x="565" y="0"/>
                  </a:lnTo>
                  <a:lnTo>
                    <a:pt x="424" y="49"/>
                  </a:lnTo>
                  <a:lnTo>
                    <a:pt x="282" y="93"/>
                  </a:lnTo>
                  <a:lnTo>
                    <a:pt x="141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19720" y="3481560"/>
              <a:ext cx="271800" cy="76680"/>
            </a:xfrm>
            <a:custGeom>
              <a:avLst/>
              <a:gdLst/>
              <a:ahLst/>
              <a:rect l="0" t="0" r="r" b="b"/>
              <a:pathLst>
                <a:path fill="none" w="755" h="213">
                  <a:moveTo>
                    <a:pt x="755" y="0"/>
                  </a:moveTo>
                  <a:lnTo>
                    <a:pt x="613" y="71"/>
                  </a:lnTo>
                  <a:lnTo>
                    <a:pt x="472" y="120"/>
                  </a:lnTo>
                  <a:lnTo>
                    <a:pt x="330" y="169"/>
                  </a:lnTo>
                  <a:lnTo>
                    <a:pt x="185" y="213"/>
                  </a:lnTo>
                  <a:lnTo>
                    <a:pt x="44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56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9"/>
                  </a:lnTo>
                  <a:lnTo>
                    <a:pt x="428" y="147"/>
                  </a:lnTo>
                  <a:lnTo>
                    <a:pt x="287" y="191"/>
                  </a:lnTo>
                  <a:lnTo>
                    <a:pt x="141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716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901" y="0"/>
                  </a:moveTo>
                  <a:lnTo>
                    <a:pt x="760" y="70"/>
                  </a:lnTo>
                  <a:lnTo>
                    <a:pt x="569" y="120"/>
                  </a:lnTo>
                  <a:lnTo>
                    <a:pt x="428" y="164"/>
                  </a:lnTo>
                  <a:lnTo>
                    <a:pt x="287" y="164"/>
                  </a:lnTo>
                  <a:lnTo>
                    <a:pt x="145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1640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8"/>
                  </a:lnTo>
                  <a:lnTo>
                    <a:pt x="618" y="142"/>
                  </a:lnTo>
                  <a:lnTo>
                    <a:pt x="472" y="191"/>
                  </a:lnTo>
                  <a:lnTo>
                    <a:pt x="331" y="191"/>
                  </a:lnTo>
                  <a:lnTo>
                    <a:pt x="189" y="142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9912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1090" y="0"/>
                  </a:moveTo>
                  <a:lnTo>
                    <a:pt x="949" y="23"/>
                  </a:lnTo>
                  <a:lnTo>
                    <a:pt x="759" y="72"/>
                  </a:lnTo>
                  <a:lnTo>
                    <a:pt x="618" y="72"/>
                  </a:lnTo>
                  <a:lnTo>
                    <a:pt x="476" y="72"/>
                  </a:lnTo>
                  <a:lnTo>
                    <a:pt x="335" y="72"/>
                  </a:lnTo>
                  <a:lnTo>
                    <a:pt x="189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640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1042" y="0"/>
                  </a:moveTo>
                  <a:lnTo>
                    <a:pt x="901" y="0"/>
                  </a:lnTo>
                  <a:lnTo>
                    <a:pt x="759" y="50"/>
                  </a:lnTo>
                  <a:lnTo>
                    <a:pt x="618" y="50"/>
                  </a:lnTo>
                  <a:lnTo>
                    <a:pt x="472" y="0"/>
                  </a:lnTo>
                  <a:lnTo>
                    <a:pt x="331" y="50"/>
                  </a:lnTo>
                  <a:lnTo>
                    <a:pt x="189" y="50"/>
                  </a:lnTo>
                  <a:lnTo>
                    <a:pt x="48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91160" y="294336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1"/>
                  </a:lnTo>
                  <a:lnTo>
                    <a:pt x="239" y="287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1160" y="302112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0" y="0"/>
                  </a:moveTo>
                  <a:lnTo>
                    <a:pt x="142" y="70"/>
                  </a:lnTo>
                  <a:lnTo>
                    <a:pt x="190" y="212"/>
                  </a:lnTo>
                  <a:lnTo>
                    <a:pt x="283" y="353"/>
                  </a:lnTo>
                  <a:lnTo>
                    <a:pt x="429" y="402"/>
                  </a:lnTo>
                  <a:lnTo>
                    <a:pt x="381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9116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0" y="0"/>
                  </a:moveTo>
                  <a:lnTo>
                    <a:pt x="48" y="141"/>
                  </a:lnTo>
                  <a:lnTo>
                    <a:pt x="190" y="189"/>
                  </a:lnTo>
                  <a:lnTo>
                    <a:pt x="331" y="287"/>
                  </a:lnTo>
                  <a:lnTo>
                    <a:pt x="473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9116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0" y="48"/>
                  </a:moveTo>
                  <a:lnTo>
                    <a:pt x="141" y="0"/>
                  </a:lnTo>
                  <a:lnTo>
                    <a:pt x="283" y="97"/>
                  </a:lnTo>
                  <a:lnTo>
                    <a:pt x="429" y="190"/>
                  </a:lnTo>
                  <a:lnTo>
                    <a:pt x="570" y="239"/>
                  </a:lnTo>
                  <a:lnTo>
                    <a:pt x="473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9116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1"/>
                  </a:lnTo>
                  <a:lnTo>
                    <a:pt x="141" y="189"/>
                  </a:lnTo>
                  <a:lnTo>
                    <a:pt x="282" y="283"/>
                  </a:lnTo>
                  <a:lnTo>
                    <a:pt x="428" y="331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116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0" y="0"/>
                  </a:moveTo>
                  <a:lnTo>
                    <a:pt x="141" y="92"/>
                  </a:lnTo>
                  <a:lnTo>
                    <a:pt x="283" y="190"/>
                  </a:lnTo>
                  <a:lnTo>
                    <a:pt x="428" y="234"/>
                  </a:lnTo>
                  <a:lnTo>
                    <a:pt x="570" y="283"/>
                  </a:lnTo>
                  <a:lnTo>
                    <a:pt x="71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91160" y="33876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2" y="93"/>
                  </a:lnTo>
                  <a:lnTo>
                    <a:pt x="618" y="142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91160" y="348156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0" y="0"/>
                  </a:moveTo>
                  <a:lnTo>
                    <a:pt x="141" y="71"/>
                  </a:lnTo>
                  <a:lnTo>
                    <a:pt x="282" y="120"/>
                  </a:lnTo>
                  <a:lnTo>
                    <a:pt x="428" y="169"/>
                  </a:lnTo>
                  <a:lnTo>
                    <a:pt x="569" y="213"/>
                  </a:lnTo>
                  <a:lnTo>
                    <a:pt x="710" y="213"/>
                  </a:lnTo>
                  <a:lnTo>
                    <a:pt x="75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9116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9"/>
                  </a:lnTo>
                  <a:lnTo>
                    <a:pt x="283" y="147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9116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0" y="0"/>
                  </a:moveTo>
                  <a:lnTo>
                    <a:pt x="141" y="70"/>
                  </a:lnTo>
                  <a:lnTo>
                    <a:pt x="331" y="120"/>
                  </a:lnTo>
                  <a:lnTo>
                    <a:pt x="472" y="164"/>
                  </a:lnTo>
                  <a:lnTo>
                    <a:pt x="618" y="164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9116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3" y="98"/>
                  </a:lnTo>
                  <a:lnTo>
                    <a:pt x="428" y="142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2"/>
                  </a:lnTo>
                  <a:lnTo>
                    <a:pt x="994" y="98"/>
                  </a:lnTo>
                  <a:lnTo>
                    <a:pt x="10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9116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3"/>
                  </a:lnTo>
                  <a:lnTo>
                    <a:pt x="330" y="72"/>
                  </a:lnTo>
                  <a:lnTo>
                    <a:pt x="471" y="72"/>
                  </a:lnTo>
                  <a:lnTo>
                    <a:pt x="618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9116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0" y="0"/>
                  </a:moveTo>
                  <a:lnTo>
                    <a:pt x="141" y="0"/>
                  </a:lnTo>
                  <a:lnTo>
                    <a:pt x="283" y="50"/>
                  </a:lnTo>
                  <a:lnTo>
                    <a:pt x="428" y="50"/>
                  </a:lnTo>
                  <a:lnTo>
                    <a:pt x="569" y="0"/>
                  </a:lnTo>
                  <a:lnTo>
                    <a:pt x="710" y="50"/>
                  </a:lnTo>
                  <a:lnTo>
                    <a:pt x="853" y="50"/>
                  </a:lnTo>
                  <a:lnTo>
                    <a:pt x="994" y="50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735520" y="2925720"/>
            <a:ext cx="784800" cy="1111680"/>
            <a:chOff x="5735520" y="2925720"/>
            <a:chExt cx="784800" cy="1111680"/>
          </a:xfrm>
        </p:grpSpPr>
        <p:sp>
          <p:nvSpPr>
            <p:cNvPr id="283" name=""/>
            <p:cNvSpPr/>
            <p:nvPr/>
          </p:nvSpPr>
          <p:spPr>
            <a:xfrm>
              <a:off x="6008760" y="2925720"/>
              <a:ext cx="152640" cy="1111680"/>
            </a:xfrm>
            <a:custGeom>
              <a:avLst/>
              <a:gdLst/>
              <a:ahLst/>
              <a:rect l="0" t="0" r="r" b="b"/>
              <a:pathLst>
                <a:path fill="none" w="424" h="3088">
                  <a:moveTo>
                    <a:pt x="331" y="48"/>
                  </a:moveTo>
                  <a:lnTo>
                    <a:pt x="331" y="189"/>
                  </a:lnTo>
                  <a:lnTo>
                    <a:pt x="331" y="335"/>
                  </a:lnTo>
                  <a:lnTo>
                    <a:pt x="283" y="524"/>
                  </a:lnTo>
                  <a:lnTo>
                    <a:pt x="283" y="665"/>
                  </a:lnTo>
                  <a:lnTo>
                    <a:pt x="283" y="856"/>
                  </a:lnTo>
                  <a:lnTo>
                    <a:pt x="283" y="1046"/>
                  </a:lnTo>
                  <a:lnTo>
                    <a:pt x="283" y="1235"/>
                  </a:lnTo>
                  <a:lnTo>
                    <a:pt x="283" y="1376"/>
                  </a:lnTo>
                  <a:lnTo>
                    <a:pt x="283" y="1566"/>
                  </a:lnTo>
                  <a:lnTo>
                    <a:pt x="283" y="1711"/>
                  </a:lnTo>
                  <a:lnTo>
                    <a:pt x="283" y="1853"/>
                  </a:lnTo>
                  <a:lnTo>
                    <a:pt x="283" y="1994"/>
                  </a:lnTo>
                  <a:lnTo>
                    <a:pt x="283" y="2135"/>
                  </a:lnTo>
                  <a:lnTo>
                    <a:pt x="239" y="2280"/>
                  </a:lnTo>
                  <a:lnTo>
                    <a:pt x="239" y="2422"/>
                  </a:lnTo>
                  <a:lnTo>
                    <a:pt x="189" y="2564"/>
                  </a:lnTo>
                  <a:lnTo>
                    <a:pt x="189" y="2709"/>
                  </a:lnTo>
                  <a:lnTo>
                    <a:pt x="189" y="2850"/>
                  </a:lnTo>
                  <a:lnTo>
                    <a:pt x="189" y="2991"/>
                  </a:lnTo>
                  <a:lnTo>
                    <a:pt x="331" y="3088"/>
                  </a:lnTo>
                  <a:lnTo>
                    <a:pt x="424" y="2943"/>
                  </a:lnTo>
                  <a:lnTo>
                    <a:pt x="380" y="2802"/>
                  </a:lnTo>
                  <a:lnTo>
                    <a:pt x="331" y="2661"/>
                  </a:lnTo>
                  <a:lnTo>
                    <a:pt x="331" y="2515"/>
                  </a:lnTo>
                  <a:lnTo>
                    <a:pt x="331" y="2374"/>
                  </a:lnTo>
                  <a:lnTo>
                    <a:pt x="331" y="2232"/>
                  </a:lnTo>
                  <a:lnTo>
                    <a:pt x="331" y="2091"/>
                  </a:lnTo>
                  <a:lnTo>
                    <a:pt x="380" y="1945"/>
                  </a:lnTo>
                  <a:lnTo>
                    <a:pt x="380" y="1804"/>
                  </a:lnTo>
                  <a:lnTo>
                    <a:pt x="424" y="1663"/>
                  </a:lnTo>
                  <a:lnTo>
                    <a:pt x="424" y="1522"/>
                  </a:lnTo>
                  <a:lnTo>
                    <a:pt x="424" y="1376"/>
                  </a:lnTo>
                  <a:lnTo>
                    <a:pt x="380" y="1235"/>
                  </a:lnTo>
                  <a:lnTo>
                    <a:pt x="380" y="1094"/>
                  </a:lnTo>
                  <a:lnTo>
                    <a:pt x="380" y="953"/>
                  </a:lnTo>
                  <a:lnTo>
                    <a:pt x="380" y="807"/>
                  </a:lnTo>
                  <a:lnTo>
                    <a:pt x="380" y="665"/>
                  </a:lnTo>
                  <a:lnTo>
                    <a:pt x="380" y="524"/>
                  </a:lnTo>
                  <a:lnTo>
                    <a:pt x="380" y="379"/>
                  </a:lnTo>
                  <a:lnTo>
                    <a:pt x="380" y="238"/>
                  </a:lnTo>
                  <a:lnTo>
                    <a:pt x="380" y="97"/>
                  </a:lnTo>
                  <a:lnTo>
                    <a:pt x="331" y="0"/>
                  </a:lnTo>
                  <a:lnTo>
                    <a:pt x="331" y="48"/>
                  </a:lnTo>
                  <a:lnTo>
                    <a:pt x="189" y="189"/>
                  </a:lnTo>
                  <a:lnTo>
                    <a:pt x="92" y="335"/>
                  </a:lnTo>
                  <a:lnTo>
                    <a:pt x="0" y="4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73840" y="302112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429" y="0"/>
                  </a:moveTo>
                  <a:lnTo>
                    <a:pt x="287" y="70"/>
                  </a:lnTo>
                  <a:lnTo>
                    <a:pt x="239" y="212"/>
                  </a:lnTo>
                  <a:lnTo>
                    <a:pt x="146" y="353"/>
                  </a:lnTo>
                  <a:lnTo>
                    <a:pt x="0" y="402"/>
                  </a:lnTo>
                  <a:lnTo>
                    <a:pt x="48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5800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5" y="141"/>
                  </a:lnTo>
                  <a:lnTo>
                    <a:pt x="283" y="189"/>
                  </a:lnTo>
                  <a:lnTo>
                    <a:pt x="142" y="287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308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570" y="48"/>
                  </a:moveTo>
                  <a:lnTo>
                    <a:pt x="429" y="0"/>
                  </a:lnTo>
                  <a:lnTo>
                    <a:pt x="287" y="97"/>
                  </a:lnTo>
                  <a:lnTo>
                    <a:pt x="141" y="190"/>
                  </a:lnTo>
                  <a:lnTo>
                    <a:pt x="0" y="239"/>
                  </a:lnTo>
                  <a:lnTo>
                    <a:pt x="97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8960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1"/>
                  </a:lnTo>
                  <a:lnTo>
                    <a:pt x="521" y="189"/>
                  </a:lnTo>
                  <a:lnTo>
                    <a:pt x="380" y="283"/>
                  </a:lnTo>
                  <a:lnTo>
                    <a:pt x="233" y="331"/>
                  </a:lnTo>
                  <a:lnTo>
                    <a:pt x="92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7232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711" y="0"/>
                  </a:moveTo>
                  <a:lnTo>
                    <a:pt x="570" y="92"/>
                  </a:lnTo>
                  <a:lnTo>
                    <a:pt x="428" y="190"/>
                  </a:lnTo>
                  <a:lnTo>
                    <a:pt x="283" y="234"/>
                  </a:lnTo>
                  <a:lnTo>
                    <a:pt x="141" y="283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4680" y="33876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759" y="49"/>
                  </a:moveTo>
                  <a:lnTo>
                    <a:pt x="569" y="0"/>
                  </a:lnTo>
                  <a:lnTo>
                    <a:pt x="428" y="49"/>
                  </a:lnTo>
                  <a:lnTo>
                    <a:pt x="286" y="93"/>
                  </a:lnTo>
                  <a:lnTo>
                    <a:pt x="145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4680" y="348156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759" y="0"/>
                  </a:moveTo>
                  <a:lnTo>
                    <a:pt x="618" y="71"/>
                  </a:lnTo>
                  <a:lnTo>
                    <a:pt x="477" y="120"/>
                  </a:lnTo>
                  <a:lnTo>
                    <a:pt x="330" y="169"/>
                  </a:lnTo>
                  <a:lnTo>
                    <a:pt x="189" y="213"/>
                  </a:lnTo>
                  <a:lnTo>
                    <a:pt x="48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7232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9"/>
                  </a:lnTo>
                  <a:lnTo>
                    <a:pt x="428" y="147"/>
                  </a:lnTo>
                  <a:lnTo>
                    <a:pt x="283" y="191"/>
                  </a:lnTo>
                  <a:lnTo>
                    <a:pt x="141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0392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901" y="0"/>
                  </a:moveTo>
                  <a:lnTo>
                    <a:pt x="760" y="70"/>
                  </a:lnTo>
                  <a:lnTo>
                    <a:pt x="569" y="120"/>
                  </a:lnTo>
                  <a:lnTo>
                    <a:pt x="428" y="164"/>
                  </a:lnTo>
                  <a:lnTo>
                    <a:pt x="287" y="164"/>
                  </a:lnTo>
                  <a:lnTo>
                    <a:pt x="141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5316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8"/>
                  </a:lnTo>
                  <a:lnTo>
                    <a:pt x="613" y="142"/>
                  </a:lnTo>
                  <a:lnTo>
                    <a:pt x="472" y="191"/>
                  </a:lnTo>
                  <a:lnTo>
                    <a:pt x="331" y="191"/>
                  </a:lnTo>
                  <a:lnTo>
                    <a:pt x="189" y="142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3552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1090" y="0"/>
                  </a:moveTo>
                  <a:lnTo>
                    <a:pt x="949" y="23"/>
                  </a:lnTo>
                  <a:lnTo>
                    <a:pt x="759" y="72"/>
                  </a:lnTo>
                  <a:lnTo>
                    <a:pt x="618" y="72"/>
                  </a:lnTo>
                  <a:lnTo>
                    <a:pt x="476" y="72"/>
                  </a:lnTo>
                  <a:lnTo>
                    <a:pt x="330" y="72"/>
                  </a:lnTo>
                  <a:lnTo>
                    <a:pt x="189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5316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1042" y="0"/>
                  </a:moveTo>
                  <a:lnTo>
                    <a:pt x="901" y="0"/>
                  </a:lnTo>
                  <a:lnTo>
                    <a:pt x="759" y="50"/>
                  </a:lnTo>
                  <a:lnTo>
                    <a:pt x="613" y="50"/>
                  </a:lnTo>
                  <a:lnTo>
                    <a:pt x="472" y="0"/>
                  </a:lnTo>
                  <a:lnTo>
                    <a:pt x="331" y="50"/>
                  </a:lnTo>
                  <a:lnTo>
                    <a:pt x="189" y="50"/>
                  </a:lnTo>
                  <a:lnTo>
                    <a:pt x="48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27920" y="294336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1"/>
                  </a:lnTo>
                  <a:lnTo>
                    <a:pt x="239" y="287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27920" y="302112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0" y="0"/>
                  </a:moveTo>
                  <a:lnTo>
                    <a:pt x="142" y="70"/>
                  </a:lnTo>
                  <a:lnTo>
                    <a:pt x="190" y="212"/>
                  </a:lnTo>
                  <a:lnTo>
                    <a:pt x="283" y="353"/>
                  </a:lnTo>
                  <a:lnTo>
                    <a:pt x="429" y="402"/>
                  </a:lnTo>
                  <a:lnTo>
                    <a:pt x="381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792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0" y="0"/>
                  </a:moveTo>
                  <a:lnTo>
                    <a:pt x="48" y="141"/>
                  </a:lnTo>
                  <a:lnTo>
                    <a:pt x="190" y="189"/>
                  </a:lnTo>
                  <a:lnTo>
                    <a:pt x="331" y="287"/>
                  </a:lnTo>
                  <a:lnTo>
                    <a:pt x="473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2792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0" y="48"/>
                  </a:moveTo>
                  <a:lnTo>
                    <a:pt x="141" y="0"/>
                  </a:lnTo>
                  <a:lnTo>
                    <a:pt x="283" y="97"/>
                  </a:lnTo>
                  <a:lnTo>
                    <a:pt x="429" y="190"/>
                  </a:lnTo>
                  <a:lnTo>
                    <a:pt x="570" y="239"/>
                  </a:lnTo>
                  <a:lnTo>
                    <a:pt x="473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2792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1"/>
                  </a:lnTo>
                  <a:lnTo>
                    <a:pt x="141" y="189"/>
                  </a:lnTo>
                  <a:lnTo>
                    <a:pt x="282" y="283"/>
                  </a:lnTo>
                  <a:lnTo>
                    <a:pt x="428" y="331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2792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0" y="0"/>
                  </a:moveTo>
                  <a:lnTo>
                    <a:pt x="141" y="92"/>
                  </a:lnTo>
                  <a:lnTo>
                    <a:pt x="283" y="190"/>
                  </a:lnTo>
                  <a:lnTo>
                    <a:pt x="428" y="234"/>
                  </a:lnTo>
                  <a:lnTo>
                    <a:pt x="570" y="283"/>
                  </a:lnTo>
                  <a:lnTo>
                    <a:pt x="71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7920" y="33876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2" y="93"/>
                  </a:lnTo>
                  <a:lnTo>
                    <a:pt x="613" y="142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27920" y="348156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0" y="0"/>
                  </a:moveTo>
                  <a:lnTo>
                    <a:pt x="141" y="71"/>
                  </a:lnTo>
                  <a:lnTo>
                    <a:pt x="282" y="120"/>
                  </a:lnTo>
                  <a:lnTo>
                    <a:pt x="428" y="169"/>
                  </a:lnTo>
                  <a:lnTo>
                    <a:pt x="569" y="213"/>
                  </a:lnTo>
                  <a:lnTo>
                    <a:pt x="710" y="213"/>
                  </a:lnTo>
                  <a:lnTo>
                    <a:pt x="75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2792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9"/>
                  </a:lnTo>
                  <a:lnTo>
                    <a:pt x="283" y="147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2792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0" y="0"/>
                  </a:moveTo>
                  <a:lnTo>
                    <a:pt x="141" y="70"/>
                  </a:lnTo>
                  <a:lnTo>
                    <a:pt x="331" y="120"/>
                  </a:lnTo>
                  <a:lnTo>
                    <a:pt x="472" y="164"/>
                  </a:lnTo>
                  <a:lnTo>
                    <a:pt x="613" y="164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2792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3" y="98"/>
                  </a:lnTo>
                  <a:lnTo>
                    <a:pt x="428" y="142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2"/>
                  </a:lnTo>
                  <a:lnTo>
                    <a:pt x="994" y="98"/>
                  </a:lnTo>
                  <a:lnTo>
                    <a:pt x="10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2792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3"/>
                  </a:lnTo>
                  <a:lnTo>
                    <a:pt x="330" y="72"/>
                  </a:lnTo>
                  <a:lnTo>
                    <a:pt x="471" y="72"/>
                  </a:lnTo>
                  <a:lnTo>
                    <a:pt x="613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2792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0" y="0"/>
                  </a:moveTo>
                  <a:lnTo>
                    <a:pt x="141" y="0"/>
                  </a:lnTo>
                  <a:lnTo>
                    <a:pt x="283" y="50"/>
                  </a:lnTo>
                  <a:lnTo>
                    <a:pt x="428" y="50"/>
                  </a:lnTo>
                  <a:lnTo>
                    <a:pt x="569" y="0"/>
                  </a:lnTo>
                  <a:lnTo>
                    <a:pt x="710" y="50"/>
                  </a:lnTo>
                  <a:lnTo>
                    <a:pt x="853" y="50"/>
                  </a:lnTo>
                  <a:lnTo>
                    <a:pt x="994" y="50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59560" y="2541600"/>
            <a:ext cx="392400" cy="709920"/>
            <a:chOff x="5659560" y="2541600"/>
            <a:chExt cx="392400" cy="709920"/>
          </a:xfrm>
        </p:grpSpPr>
        <p:sp>
          <p:nvSpPr>
            <p:cNvPr id="310" name=""/>
            <p:cNvSpPr/>
            <p:nvPr/>
          </p:nvSpPr>
          <p:spPr>
            <a:xfrm>
              <a:off x="5829480" y="2541600"/>
              <a:ext cx="43200" cy="709920"/>
            </a:xfrm>
            <a:custGeom>
              <a:avLst/>
              <a:gdLst/>
              <a:ahLst/>
              <a:rect l="0" t="0" r="r" b="b"/>
              <a:pathLst>
                <a:path fill="none" w="120" h="1972">
                  <a:moveTo>
                    <a:pt x="71" y="26"/>
                  </a:moveTo>
                  <a:lnTo>
                    <a:pt x="71" y="119"/>
                  </a:lnTo>
                  <a:lnTo>
                    <a:pt x="71" y="216"/>
                  </a:lnTo>
                  <a:lnTo>
                    <a:pt x="48" y="335"/>
                  </a:lnTo>
                  <a:lnTo>
                    <a:pt x="48" y="427"/>
                  </a:lnTo>
                  <a:lnTo>
                    <a:pt x="48" y="546"/>
                  </a:lnTo>
                  <a:lnTo>
                    <a:pt x="48" y="665"/>
                  </a:lnTo>
                  <a:lnTo>
                    <a:pt x="48" y="784"/>
                  </a:lnTo>
                  <a:lnTo>
                    <a:pt x="48" y="877"/>
                  </a:lnTo>
                  <a:lnTo>
                    <a:pt x="48" y="997"/>
                  </a:lnTo>
                  <a:lnTo>
                    <a:pt x="48" y="1094"/>
                  </a:lnTo>
                  <a:lnTo>
                    <a:pt x="48" y="1187"/>
                  </a:lnTo>
                  <a:lnTo>
                    <a:pt x="48" y="1284"/>
                  </a:lnTo>
                  <a:lnTo>
                    <a:pt x="48" y="1354"/>
                  </a:lnTo>
                  <a:lnTo>
                    <a:pt x="26" y="1447"/>
                  </a:lnTo>
                  <a:lnTo>
                    <a:pt x="26" y="1544"/>
                  </a:lnTo>
                  <a:lnTo>
                    <a:pt x="0" y="1641"/>
                  </a:lnTo>
                  <a:lnTo>
                    <a:pt x="0" y="1734"/>
                  </a:lnTo>
                  <a:lnTo>
                    <a:pt x="0" y="1831"/>
                  </a:lnTo>
                  <a:lnTo>
                    <a:pt x="0" y="1901"/>
                  </a:lnTo>
                  <a:lnTo>
                    <a:pt x="71" y="1972"/>
                  </a:lnTo>
                  <a:lnTo>
                    <a:pt x="120" y="1875"/>
                  </a:lnTo>
                  <a:lnTo>
                    <a:pt x="98" y="1782"/>
                  </a:lnTo>
                  <a:lnTo>
                    <a:pt x="71" y="1711"/>
                  </a:lnTo>
                  <a:lnTo>
                    <a:pt x="71" y="1614"/>
                  </a:lnTo>
                  <a:lnTo>
                    <a:pt x="71" y="1522"/>
                  </a:lnTo>
                  <a:lnTo>
                    <a:pt x="71" y="1425"/>
                  </a:lnTo>
                  <a:lnTo>
                    <a:pt x="71" y="1332"/>
                  </a:lnTo>
                  <a:lnTo>
                    <a:pt x="98" y="1235"/>
                  </a:lnTo>
                  <a:lnTo>
                    <a:pt x="98" y="1165"/>
                  </a:lnTo>
                  <a:lnTo>
                    <a:pt x="120" y="1068"/>
                  </a:lnTo>
                  <a:lnTo>
                    <a:pt x="120" y="974"/>
                  </a:lnTo>
                  <a:lnTo>
                    <a:pt x="120" y="877"/>
                  </a:lnTo>
                  <a:lnTo>
                    <a:pt x="98" y="784"/>
                  </a:lnTo>
                  <a:lnTo>
                    <a:pt x="98" y="687"/>
                  </a:lnTo>
                  <a:lnTo>
                    <a:pt x="98" y="617"/>
                  </a:lnTo>
                  <a:lnTo>
                    <a:pt x="98" y="524"/>
                  </a:lnTo>
                  <a:lnTo>
                    <a:pt x="98" y="427"/>
                  </a:lnTo>
                  <a:lnTo>
                    <a:pt x="98" y="335"/>
                  </a:lnTo>
                  <a:lnTo>
                    <a:pt x="98" y="238"/>
                  </a:lnTo>
                  <a:lnTo>
                    <a:pt x="98" y="145"/>
                  </a:lnTo>
                  <a:lnTo>
                    <a:pt x="98" y="74"/>
                  </a:lnTo>
                  <a:lnTo>
                    <a:pt x="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829480" y="2550960"/>
              <a:ext cx="3312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6000" y="2584440"/>
              <a:ext cx="33840" cy="52920"/>
            </a:xfrm>
            <a:custGeom>
              <a:avLst/>
              <a:gdLst/>
              <a:ahLst/>
              <a:rect l="0" t="0" r="r" b="b"/>
              <a:pathLst>
                <a:path fill="none" w="94" h="147">
                  <a:moveTo>
                    <a:pt x="94" y="0"/>
                  </a:moveTo>
                  <a:lnTo>
                    <a:pt x="49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78360" y="2602080"/>
              <a:ext cx="76680" cy="93960"/>
            </a:xfrm>
            <a:custGeom>
              <a:avLst/>
              <a:gdLst/>
              <a:ahLst/>
              <a:rect l="0" t="0" r="r" b="b"/>
              <a:pathLst>
                <a:path fill="none" w="213" h="261">
                  <a:moveTo>
                    <a:pt x="213" y="0"/>
                  </a:moveTo>
                  <a:lnTo>
                    <a:pt x="142" y="48"/>
                  </a:lnTo>
                  <a:lnTo>
                    <a:pt x="120" y="142"/>
                  </a:lnTo>
                  <a:lnTo>
                    <a:pt x="71" y="239"/>
                  </a:lnTo>
                  <a:lnTo>
                    <a:pt x="0" y="261"/>
                  </a:lnTo>
                  <a:lnTo>
                    <a:pt x="22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70440" y="2652840"/>
              <a:ext cx="84600" cy="86040"/>
            </a:xfrm>
            <a:custGeom>
              <a:avLst/>
              <a:gdLst/>
              <a:ahLst/>
              <a:rect l="0" t="0" r="r" b="b"/>
              <a:pathLst>
                <a:path fill="none" w="235" h="239">
                  <a:moveTo>
                    <a:pt x="235" y="0"/>
                  </a:moveTo>
                  <a:lnTo>
                    <a:pt x="213" y="97"/>
                  </a:lnTo>
                  <a:lnTo>
                    <a:pt x="142" y="120"/>
                  </a:lnTo>
                  <a:lnTo>
                    <a:pt x="71" y="168"/>
                  </a:lnTo>
                  <a:lnTo>
                    <a:pt x="0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53160" y="2738520"/>
              <a:ext cx="101880" cy="51120"/>
            </a:xfrm>
            <a:custGeom>
              <a:avLst/>
              <a:gdLst/>
              <a:ahLst/>
              <a:rect l="0" t="0" r="r" b="b"/>
              <a:pathLst>
                <a:path fill="none" w="283" h="142">
                  <a:moveTo>
                    <a:pt x="283" y="26"/>
                  </a:moveTo>
                  <a:lnTo>
                    <a:pt x="212" y="0"/>
                  </a:lnTo>
                  <a:lnTo>
                    <a:pt x="142" y="70"/>
                  </a:lnTo>
                  <a:lnTo>
                    <a:pt x="70" y="120"/>
                  </a:lnTo>
                  <a:lnTo>
                    <a:pt x="0" y="142"/>
                  </a:lnTo>
                  <a:lnTo>
                    <a:pt x="4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35520" y="2747880"/>
              <a:ext cx="119520" cy="84600"/>
            </a:xfrm>
            <a:custGeom>
              <a:avLst/>
              <a:gdLst/>
              <a:ahLst/>
              <a:rect l="0" t="0" r="r" b="b"/>
              <a:pathLst>
                <a:path fill="none" w="332" h="235">
                  <a:moveTo>
                    <a:pt x="332" y="0"/>
                  </a:moveTo>
                  <a:lnTo>
                    <a:pt x="332" y="93"/>
                  </a:lnTo>
                  <a:lnTo>
                    <a:pt x="262" y="115"/>
                  </a:lnTo>
                  <a:lnTo>
                    <a:pt x="190" y="191"/>
                  </a:lnTo>
                  <a:lnTo>
                    <a:pt x="120" y="213"/>
                  </a:lnTo>
                  <a:lnTo>
                    <a:pt x="48" y="235"/>
                  </a:lnTo>
                  <a:lnTo>
                    <a:pt x="0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27600" y="2849400"/>
              <a:ext cx="127440" cy="60840"/>
            </a:xfrm>
            <a:custGeom>
              <a:avLst/>
              <a:gdLst/>
              <a:ahLst/>
              <a:rect l="0" t="0" r="r" b="b"/>
              <a:pathLst>
                <a:path fill="none" w="354" h="169">
                  <a:moveTo>
                    <a:pt x="354" y="0"/>
                  </a:moveTo>
                  <a:lnTo>
                    <a:pt x="284" y="49"/>
                  </a:lnTo>
                  <a:lnTo>
                    <a:pt x="212" y="120"/>
                  </a:lnTo>
                  <a:lnTo>
                    <a:pt x="142" y="143"/>
                  </a:lnTo>
                  <a:lnTo>
                    <a:pt x="70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9680" y="2832120"/>
              <a:ext cx="135360" cy="52920"/>
            </a:xfrm>
            <a:custGeom>
              <a:avLst/>
              <a:gdLst/>
              <a:ahLst/>
              <a:rect l="0" t="0" r="r" b="b"/>
              <a:pathLst>
                <a:path fill="none" w="376" h="147">
                  <a:moveTo>
                    <a:pt x="376" y="49"/>
                  </a:moveTo>
                  <a:lnTo>
                    <a:pt x="284" y="0"/>
                  </a:lnTo>
                  <a:lnTo>
                    <a:pt x="212" y="49"/>
                  </a:lnTo>
                  <a:lnTo>
                    <a:pt x="142" y="71"/>
                  </a:lnTo>
                  <a:lnTo>
                    <a:pt x="70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9680" y="2892600"/>
              <a:ext cx="135360" cy="51120"/>
            </a:xfrm>
            <a:custGeom>
              <a:avLst/>
              <a:gdLst/>
              <a:ahLst/>
              <a:rect l="0" t="0" r="r" b="b"/>
              <a:pathLst>
                <a:path fill="none" w="376" h="142">
                  <a:moveTo>
                    <a:pt x="376" y="0"/>
                  </a:moveTo>
                  <a:lnTo>
                    <a:pt x="306" y="48"/>
                  </a:lnTo>
                  <a:lnTo>
                    <a:pt x="234" y="93"/>
                  </a:lnTo>
                  <a:lnTo>
                    <a:pt x="164" y="120"/>
                  </a:lnTo>
                  <a:lnTo>
                    <a:pt x="92" y="142"/>
                  </a:lnTo>
                  <a:lnTo>
                    <a:pt x="22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27600" y="2943360"/>
              <a:ext cx="127440" cy="43200"/>
            </a:xfrm>
            <a:custGeom>
              <a:avLst/>
              <a:gdLst/>
              <a:ahLst/>
              <a:rect l="0" t="0" r="r" b="b"/>
              <a:pathLst>
                <a:path fill="none" w="354" h="120">
                  <a:moveTo>
                    <a:pt x="354" y="0"/>
                  </a:moveTo>
                  <a:lnTo>
                    <a:pt x="284" y="48"/>
                  </a:lnTo>
                  <a:lnTo>
                    <a:pt x="212" y="98"/>
                  </a:lnTo>
                  <a:lnTo>
                    <a:pt x="142" y="120"/>
                  </a:lnTo>
                  <a:lnTo>
                    <a:pt x="70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92680" y="2994120"/>
              <a:ext cx="162360" cy="35280"/>
            </a:xfrm>
            <a:custGeom>
              <a:avLst/>
              <a:gdLst/>
              <a:ahLst/>
              <a:rect l="0" t="0" r="r" b="b"/>
              <a:pathLst>
                <a:path fill="none" w="451" h="98">
                  <a:moveTo>
                    <a:pt x="451" y="0"/>
                  </a:moveTo>
                  <a:lnTo>
                    <a:pt x="381" y="48"/>
                  </a:lnTo>
                  <a:lnTo>
                    <a:pt x="287" y="75"/>
                  </a:lnTo>
                  <a:lnTo>
                    <a:pt x="217" y="98"/>
                  </a:lnTo>
                  <a:lnTo>
                    <a:pt x="146" y="98"/>
                  </a:lnTo>
                  <a:lnTo>
                    <a:pt x="74" y="75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67480" y="3046320"/>
              <a:ext cx="187560" cy="43200"/>
            </a:xfrm>
            <a:custGeom>
              <a:avLst/>
              <a:gdLst/>
              <a:ahLst/>
              <a:rect l="0" t="0" r="r" b="b"/>
              <a:pathLst>
                <a:path fill="none" w="521" h="120">
                  <a:moveTo>
                    <a:pt x="521" y="0"/>
                  </a:moveTo>
                  <a:lnTo>
                    <a:pt x="450" y="0"/>
                  </a:lnTo>
                  <a:lnTo>
                    <a:pt x="380" y="44"/>
                  </a:lnTo>
                  <a:lnTo>
                    <a:pt x="309" y="93"/>
                  </a:lnTo>
                  <a:lnTo>
                    <a:pt x="238" y="120"/>
                  </a:lnTo>
                  <a:lnTo>
                    <a:pt x="167" y="120"/>
                  </a:lnTo>
                  <a:lnTo>
                    <a:pt x="97" y="93"/>
                  </a:lnTo>
                  <a:lnTo>
                    <a:pt x="26" y="44"/>
                  </a:lnTo>
                  <a:lnTo>
                    <a:pt x="0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9560" y="3089160"/>
              <a:ext cx="195480" cy="16200"/>
            </a:xfrm>
            <a:custGeom>
              <a:avLst/>
              <a:gdLst/>
              <a:ahLst/>
              <a:rect l="0" t="0" r="r" b="b"/>
              <a:pathLst>
                <a:path fill="none" w="543" h="45">
                  <a:moveTo>
                    <a:pt x="543" y="0"/>
                  </a:moveTo>
                  <a:lnTo>
                    <a:pt x="472" y="23"/>
                  </a:lnTo>
                  <a:lnTo>
                    <a:pt x="380" y="45"/>
                  </a:lnTo>
                  <a:lnTo>
                    <a:pt x="309" y="45"/>
                  </a:lnTo>
                  <a:lnTo>
                    <a:pt x="238" y="45"/>
                  </a:lnTo>
                  <a:lnTo>
                    <a:pt x="167" y="45"/>
                  </a:lnTo>
                  <a:lnTo>
                    <a:pt x="92" y="45"/>
                  </a:lnTo>
                  <a:lnTo>
                    <a:pt x="22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67480" y="3139920"/>
              <a:ext cx="187560" cy="18000"/>
            </a:xfrm>
            <a:custGeom>
              <a:avLst/>
              <a:gdLst/>
              <a:ahLst/>
              <a:rect l="0" t="0" r="r" b="b"/>
              <a:pathLst>
                <a:path fill="none" w="521" h="50">
                  <a:moveTo>
                    <a:pt x="521" y="0"/>
                  </a:moveTo>
                  <a:lnTo>
                    <a:pt x="450" y="0"/>
                  </a:lnTo>
                  <a:lnTo>
                    <a:pt x="380" y="50"/>
                  </a:lnTo>
                  <a:lnTo>
                    <a:pt x="309" y="50"/>
                  </a:lnTo>
                  <a:lnTo>
                    <a:pt x="238" y="0"/>
                  </a:lnTo>
                  <a:lnTo>
                    <a:pt x="167" y="50"/>
                  </a:lnTo>
                  <a:lnTo>
                    <a:pt x="97" y="50"/>
                  </a:lnTo>
                  <a:lnTo>
                    <a:pt x="26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54680" y="2550960"/>
              <a:ext cx="60840" cy="86040"/>
            </a:xfrm>
            <a:custGeom>
              <a:avLst/>
              <a:gdLst/>
              <a:ahLst/>
              <a:rect l="0" t="0" r="r" b="b"/>
              <a:pathLst>
                <a:path fill="none" w="169" h="239">
                  <a:moveTo>
                    <a:pt x="0" y="0"/>
                  </a:moveTo>
                  <a:lnTo>
                    <a:pt x="71" y="92"/>
                  </a:lnTo>
                  <a:lnTo>
                    <a:pt x="120" y="190"/>
                  </a:lnTo>
                  <a:lnTo>
                    <a:pt x="169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54680" y="2602080"/>
              <a:ext cx="78120" cy="93960"/>
            </a:xfrm>
            <a:custGeom>
              <a:avLst/>
              <a:gdLst/>
              <a:ahLst/>
              <a:rect l="0" t="0" r="r" b="b"/>
              <a:pathLst>
                <a:path fill="none" w="217" h="261">
                  <a:moveTo>
                    <a:pt x="0" y="0"/>
                  </a:moveTo>
                  <a:lnTo>
                    <a:pt x="70" y="48"/>
                  </a:lnTo>
                  <a:lnTo>
                    <a:pt x="97" y="142"/>
                  </a:lnTo>
                  <a:lnTo>
                    <a:pt x="146" y="239"/>
                  </a:lnTo>
                  <a:lnTo>
                    <a:pt x="217" y="261"/>
                  </a:lnTo>
                  <a:lnTo>
                    <a:pt x="190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54680" y="2652840"/>
              <a:ext cx="86040" cy="86040"/>
            </a:xfrm>
            <a:custGeom>
              <a:avLst/>
              <a:gdLst/>
              <a:ahLst/>
              <a:rect l="0" t="0" r="r" b="b"/>
              <a:pathLst>
                <a:path fill="none" w="239" h="239">
                  <a:moveTo>
                    <a:pt x="0" y="0"/>
                  </a:moveTo>
                  <a:lnTo>
                    <a:pt x="26" y="97"/>
                  </a:lnTo>
                  <a:lnTo>
                    <a:pt x="97" y="120"/>
                  </a:lnTo>
                  <a:lnTo>
                    <a:pt x="168" y="168"/>
                  </a:lnTo>
                  <a:lnTo>
                    <a:pt x="239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54680" y="2738520"/>
              <a:ext cx="103680" cy="51120"/>
            </a:xfrm>
            <a:custGeom>
              <a:avLst/>
              <a:gdLst/>
              <a:ahLst/>
              <a:rect l="0" t="0" r="r" b="b"/>
              <a:pathLst>
                <a:path fill="none" w="288" h="142">
                  <a:moveTo>
                    <a:pt x="0" y="26"/>
                  </a:moveTo>
                  <a:lnTo>
                    <a:pt x="70" y="0"/>
                  </a:lnTo>
                  <a:lnTo>
                    <a:pt x="146" y="70"/>
                  </a:lnTo>
                  <a:lnTo>
                    <a:pt x="218" y="120"/>
                  </a:lnTo>
                  <a:lnTo>
                    <a:pt x="288" y="142"/>
                  </a:lnTo>
                  <a:lnTo>
                    <a:pt x="24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4680" y="2747880"/>
              <a:ext cx="119520" cy="84600"/>
            </a:xfrm>
            <a:custGeom>
              <a:avLst/>
              <a:gdLst/>
              <a:ahLst/>
              <a:rect l="0" t="0" r="r" b="b"/>
              <a:pathLst>
                <a:path fill="none" w="332" h="235">
                  <a:moveTo>
                    <a:pt x="0" y="0"/>
                  </a:moveTo>
                  <a:lnTo>
                    <a:pt x="0" y="93"/>
                  </a:lnTo>
                  <a:lnTo>
                    <a:pt x="70" y="115"/>
                  </a:lnTo>
                  <a:lnTo>
                    <a:pt x="146" y="191"/>
                  </a:lnTo>
                  <a:lnTo>
                    <a:pt x="217" y="213"/>
                  </a:lnTo>
                  <a:lnTo>
                    <a:pt x="288" y="235"/>
                  </a:lnTo>
                  <a:lnTo>
                    <a:pt x="332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54680" y="2849400"/>
              <a:ext cx="128880" cy="60840"/>
            </a:xfrm>
            <a:custGeom>
              <a:avLst/>
              <a:gdLst/>
              <a:ahLst/>
              <a:rect l="0" t="0" r="r" b="b"/>
              <a:pathLst>
                <a:path fill="none" w="358" h="169">
                  <a:moveTo>
                    <a:pt x="0" y="0"/>
                  </a:moveTo>
                  <a:lnTo>
                    <a:pt x="70" y="49"/>
                  </a:lnTo>
                  <a:lnTo>
                    <a:pt x="145" y="120"/>
                  </a:lnTo>
                  <a:lnTo>
                    <a:pt x="217" y="143"/>
                  </a:lnTo>
                  <a:lnTo>
                    <a:pt x="287" y="169"/>
                  </a:lnTo>
                  <a:lnTo>
                    <a:pt x="35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4680" y="2832120"/>
              <a:ext cx="136800" cy="52920"/>
            </a:xfrm>
            <a:custGeom>
              <a:avLst/>
              <a:gdLst/>
              <a:ahLst/>
              <a:rect l="0" t="0" r="r" b="b"/>
              <a:pathLst>
                <a:path fill="none" w="380" h="147">
                  <a:moveTo>
                    <a:pt x="0" y="49"/>
                  </a:moveTo>
                  <a:lnTo>
                    <a:pt x="97" y="0"/>
                  </a:lnTo>
                  <a:lnTo>
                    <a:pt x="167" y="49"/>
                  </a:lnTo>
                  <a:lnTo>
                    <a:pt x="239" y="71"/>
                  </a:lnTo>
                  <a:lnTo>
                    <a:pt x="309" y="98"/>
                  </a:lnTo>
                  <a:lnTo>
                    <a:pt x="38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54680" y="2892600"/>
              <a:ext cx="136800" cy="51120"/>
            </a:xfrm>
            <a:custGeom>
              <a:avLst/>
              <a:gdLst/>
              <a:ahLst/>
              <a:rect l="0" t="0" r="r" b="b"/>
              <a:pathLst>
                <a:path fill="none" w="380" h="142">
                  <a:moveTo>
                    <a:pt x="0" y="0"/>
                  </a:moveTo>
                  <a:lnTo>
                    <a:pt x="70" y="48"/>
                  </a:lnTo>
                  <a:lnTo>
                    <a:pt x="145" y="93"/>
                  </a:lnTo>
                  <a:lnTo>
                    <a:pt x="217" y="120"/>
                  </a:lnTo>
                  <a:lnTo>
                    <a:pt x="287" y="142"/>
                  </a:lnTo>
                  <a:lnTo>
                    <a:pt x="358" y="142"/>
                  </a:lnTo>
                  <a:lnTo>
                    <a:pt x="38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54680" y="2943360"/>
              <a:ext cx="128880" cy="43200"/>
            </a:xfrm>
            <a:custGeom>
              <a:avLst/>
              <a:gdLst/>
              <a:ahLst/>
              <a:rect l="0" t="0" r="r" b="b"/>
              <a:pathLst>
                <a:path fill="none" w="358" h="120">
                  <a:moveTo>
                    <a:pt x="0" y="0"/>
                  </a:moveTo>
                  <a:lnTo>
                    <a:pt x="70" y="48"/>
                  </a:lnTo>
                  <a:lnTo>
                    <a:pt x="145" y="98"/>
                  </a:lnTo>
                  <a:lnTo>
                    <a:pt x="217" y="120"/>
                  </a:lnTo>
                  <a:lnTo>
                    <a:pt x="287" y="120"/>
                  </a:lnTo>
                  <a:lnTo>
                    <a:pt x="35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54680" y="2994120"/>
              <a:ext cx="162360" cy="35280"/>
            </a:xfrm>
            <a:custGeom>
              <a:avLst/>
              <a:gdLst/>
              <a:ahLst/>
              <a:rect l="0" t="0" r="r" b="b"/>
              <a:pathLst>
                <a:path fill="none" w="451" h="98">
                  <a:moveTo>
                    <a:pt x="0" y="0"/>
                  </a:moveTo>
                  <a:lnTo>
                    <a:pt x="70" y="48"/>
                  </a:lnTo>
                  <a:lnTo>
                    <a:pt x="168" y="75"/>
                  </a:lnTo>
                  <a:lnTo>
                    <a:pt x="239" y="98"/>
                  </a:lnTo>
                  <a:lnTo>
                    <a:pt x="309" y="98"/>
                  </a:lnTo>
                  <a:lnTo>
                    <a:pt x="381" y="75"/>
                  </a:lnTo>
                  <a:lnTo>
                    <a:pt x="451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54680" y="3046320"/>
              <a:ext cx="187560" cy="43200"/>
            </a:xfrm>
            <a:custGeom>
              <a:avLst/>
              <a:gdLst/>
              <a:ahLst/>
              <a:rect l="0" t="0" r="r" b="b"/>
              <a:pathLst>
                <a:path fill="none" w="521" h="120">
                  <a:moveTo>
                    <a:pt x="0" y="0"/>
                  </a:moveTo>
                  <a:lnTo>
                    <a:pt x="70" y="0"/>
                  </a:lnTo>
                  <a:lnTo>
                    <a:pt x="145" y="44"/>
                  </a:lnTo>
                  <a:lnTo>
                    <a:pt x="216" y="93"/>
                  </a:lnTo>
                  <a:lnTo>
                    <a:pt x="287" y="120"/>
                  </a:lnTo>
                  <a:lnTo>
                    <a:pt x="358" y="120"/>
                  </a:lnTo>
                  <a:lnTo>
                    <a:pt x="428" y="93"/>
                  </a:lnTo>
                  <a:lnTo>
                    <a:pt x="499" y="44"/>
                  </a:lnTo>
                  <a:lnTo>
                    <a:pt x="521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54680" y="3089160"/>
              <a:ext cx="197280" cy="16200"/>
            </a:xfrm>
            <a:custGeom>
              <a:avLst/>
              <a:gdLst/>
              <a:ahLst/>
              <a:rect l="0" t="0" r="r" b="b"/>
              <a:pathLst>
                <a:path fill="none" w="548" h="45">
                  <a:moveTo>
                    <a:pt x="0" y="0"/>
                  </a:moveTo>
                  <a:lnTo>
                    <a:pt x="70" y="23"/>
                  </a:lnTo>
                  <a:lnTo>
                    <a:pt x="168" y="45"/>
                  </a:lnTo>
                  <a:lnTo>
                    <a:pt x="239" y="45"/>
                  </a:lnTo>
                  <a:lnTo>
                    <a:pt x="309" y="45"/>
                  </a:lnTo>
                  <a:lnTo>
                    <a:pt x="380" y="45"/>
                  </a:lnTo>
                  <a:lnTo>
                    <a:pt x="451" y="45"/>
                  </a:lnTo>
                  <a:lnTo>
                    <a:pt x="522" y="45"/>
                  </a:lnTo>
                  <a:lnTo>
                    <a:pt x="548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54680" y="3139920"/>
              <a:ext cx="187560" cy="18000"/>
            </a:xfrm>
            <a:custGeom>
              <a:avLst/>
              <a:gdLst/>
              <a:ahLst/>
              <a:rect l="0" t="0" r="r" b="b"/>
              <a:pathLst>
                <a:path fill="none" w="521" h="50">
                  <a:moveTo>
                    <a:pt x="0" y="0"/>
                  </a:moveTo>
                  <a:lnTo>
                    <a:pt x="70" y="0"/>
                  </a:lnTo>
                  <a:lnTo>
                    <a:pt x="145" y="50"/>
                  </a:lnTo>
                  <a:lnTo>
                    <a:pt x="216" y="50"/>
                  </a:lnTo>
                  <a:lnTo>
                    <a:pt x="287" y="0"/>
                  </a:lnTo>
                  <a:lnTo>
                    <a:pt x="358" y="50"/>
                  </a:lnTo>
                  <a:lnTo>
                    <a:pt x="428" y="50"/>
                  </a:lnTo>
                  <a:lnTo>
                    <a:pt x="499" y="50"/>
                  </a:lnTo>
                  <a:lnTo>
                    <a:pt x="52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127400" y="2619360"/>
            <a:ext cx="314640" cy="554400"/>
            <a:chOff x="4127400" y="2619360"/>
            <a:chExt cx="314640" cy="554400"/>
          </a:xfrm>
        </p:grpSpPr>
        <p:sp>
          <p:nvSpPr>
            <p:cNvPr id="339" name=""/>
            <p:cNvSpPr/>
            <p:nvPr/>
          </p:nvSpPr>
          <p:spPr>
            <a:xfrm>
              <a:off x="4264200" y="2619360"/>
              <a:ext cx="33840" cy="554400"/>
            </a:xfrm>
            <a:custGeom>
              <a:avLst/>
              <a:gdLst/>
              <a:ahLst/>
              <a:rect l="0" t="0" r="r" b="b"/>
              <a:pathLst>
                <a:path fill="none" w="94" h="1540">
                  <a:moveTo>
                    <a:pt x="72" y="22"/>
                  </a:moveTo>
                  <a:lnTo>
                    <a:pt x="72" y="92"/>
                  </a:lnTo>
                  <a:lnTo>
                    <a:pt x="72" y="163"/>
                  </a:lnTo>
                  <a:lnTo>
                    <a:pt x="45" y="260"/>
                  </a:lnTo>
                  <a:lnTo>
                    <a:pt x="45" y="330"/>
                  </a:lnTo>
                  <a:lnTo>
                    <a:pt x="45" y="428"/>
                  </a:lnTo>
                  <a:lnTo>
                    <a:pt x="45" y="521"/>
                  </a:lnTo>
                  <a:lnTo>
                    <a:pt x="45" y="618"/>
                  </a:lnTo>
                  <a:lnTo>
                    <a:pt x="45" y="688"/>
                  </a:lnTo>
                  <a:lnTo>
                    <a:pt x="45" y="781"/>
                  </a:lnTo>
                  <a:lnTo>
                    <a:pt x="45" y="852"/>
                  </a:lnTo>
                  <a:lnTo>
                    <a:pt x="45" y="927"/>
                  </a:lnTo>
                  <a:lnTo>
                    <a:pt x="45" y="997"/>
                  </a:lnTo>
                  <a:lnTo>
                    <a:pt x="45" y="1068"/>
                  </a:lnTo>
                  <a:lnTo>
                    <a:pt x="22" y="1138"/>
                  </a:lnTo>
                  <a:lnTo>
                    <a:pt x="22" y="1210"/>
                  </a:lnTo>
                  <a:lnTo>
                    <a:pt x="0" y="1280"/>
                  </a:lnTo>
                  <a:lnTo>
                    <a:pt x="0" y="1351"/>
                  </a:lnTo>
                  <a:lnTo>
                    <a:pt x="0" y="1426"/>
                  </a:lnTo>
                  <a:lnTo>
                    <a:pt x="0" y="1496"/>
                  </a:lnTo>
                  <a:lnTo>
                    <a:pt x="72" y="1540"/>
                  </a:lnTo>
                  <a:lnTo>
                    <a:pt x="94" y="1470"/>
                  </a:lnTo>
                  <a:lnTo>
                    <a:pt x="72" y="1399"/>
                  </a:lnTo>
                  <a:lnTo>
                    <a:pt x="72" y="1329"/>
                  </a:lnTo>
                  <a:lnTo>
                    <a:pt x="72" y="1258"/>
                  </a:lnTo>
                  <a:lnTo>
                    <a:pt x="72" y="1188"/>
                  </a:lnTo>
                  <a:lnTo>
                    <a:pt x="72" y="1116"/>
                  </a:lnTo>
                  <a:lnTo>
                    <a:pt x="72" y="1041"/>
                  </a:lnTo>
                  <a:lnTo>
                    <a:pt x="72" y="971"/>
                  </a:lnTo>
                  <a:lnTo>
                    <a:pt x="72" y="900"/>
                  </a:lnTo>
                  <a:lnTo>
                    <a:pt x="94" y="830"/>
                  </a:lnTo>
                  <a:lnTo>
                    <a:pt x="94" y="759"/>
                  </a:lnTo>
                  <a:lnTo>
                    <a:pt x="94" y="688"/>
                  </a:lnTo>
                  <a:lnTo>
                    <a:pt x="72" y="618"/>
                  </a:lnTo>
                  <a:lnTo>
                    <a:pt x="72" y="547"/>
                  </a:lnTo>
                  <a:lnTo>
                    <a:pt x="72" y="472"/>
                  </a:lnTo>
                  <a:lnTo>
                    <a:pt x="72" y="402"/>
                  </a:lnTo>
                  <a:lnTo>
                    <a:pt x="72" y="330"/>
                  </a:lnTo>
                  <a:lnTo>
                    <a:pt x="72" y="260"/>
                  </a:lnTo>
                  <a:lnTo>
                    <a:pt x="72" y="189"/>
                  </a:lnTo>
                  <a:lnTo>
                    <a:pt x="72" y="119"/>
                  </a:lnTo>
                  <a:lnTo>
                    <a:pt x="72" y="48"/>
                  </a:lnTo>
                  <a:lnTo>
                    <a:pt x="7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7200" y="2627280"/>
              <a:ext cx="52920" cy="68760"/>
            </a:xfrm>
            <a:custGeom>
              <a:avLst/>
              <a:gdLst/>
              <a:ahLst/>
              <a:rect l="0" t="0" r="r" b="b"/>
              <a:pathLst>
                <a:path fill="none" w="147" h="191">
                  <a:moveTo>
                    <a:pt x="147" y="0"/>
                  </a:moveTo>
                  <a:lnTo>
                    <a:pt x="75" y="71"/>
                  </a:lnTo>
                  <a:lnTo>
                    <a:pt x="26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1000" y="2662200"/>
              <a:ext cx="68760" cy="76680"/>
            </a:xfrm>
            <a:custGeom>
              <a:avLst/>
              <a:gdLst/>
              <a:ahLst/>
              <a:rect l="0" t="0" r="r" b="b"/>
              <a:pathLst>
                <a:path fill="none" w="191" h="213">
                  <a:moveTo>
                    <a:pt x="191" y="0"/>
                  </a:moveTo>
                  <a:lnTo>
                    <a:pt x="120" y="44"/>
                  </a:lnTo>
                  <a:lnTo>
                    <a:pt x="93" y="120"/>
                  </a:lnTo>
                  <a:lnTo>
                    <a:pt x="71" y="191"/>
                  </a:lnTo>
                  <a:lnTo>
                    <a:pt x="0" y="213"/>
                  </a:lnTo>
                  <a:lnTo>
                    <a:pt x="22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11640" y="2705040"/>
              <a:ext cx="78120" cy="68760"/>
            </a:xfrm>
            <a:custGeom>
              <a:avLst/>
              <a:gdLst/>
              <a:ahLst/>
              <a:rect l="0" t="0" r="r" b="b"/>
              <a:pathLst>
                <a:path fill="none" w="217" h="191">
                  <a:moveTo>
                    <a:pt x="217" y="0"/>
                  </a:moveTo>
                  <a:lnTo>
                    <a:pt x="190" y="71"/>
                  </a:lnTo>
                  <a:lnTo>
                    <a:pt x="120" y="93"/>
                  </a:lnTo>
                  <a:lnTo>
                    <a:pt x="70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03720" y="2773440"/>
              <a:ext cx="86040" cy="43200"/>
            </a:xfrm>
            <a:custGeom>
              <a:avLst/>
              <a:gdLst/>
              <a:ahLst/>
              <a:rect l="0" t="0" r="r" b="b"/>
              <a:pathLst>
                <a:path fill="none" w="239" h="120">
                  <a:moveTo>
                    <a:pt x="239" y="22"/>
                  </a:moveTo>
                  <a:lnTo>
                    <a:pt x="168" y="0"/>
                  </a:lnTo>
                  <a:lnTo>
                    <a:pt x="120" y="44"/>
                  </a:lnTo>
                  <a:lnTo>
                    <a:pt x="48" y="93"/>
                  </a:lnTo>
                  <a:lnTo>
                    <a:pt x="0" y="120"/>
                  </a:lnTo>
                  <a:lnTo>
                    <a:pt x="22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86080" y="2781360"/>
              <a:ext cx="103680" cy="68760"/>
            </a:xfrm>
            <a:custGeom>
              <a:avLst/>
              <a:gdLst/>
              <a:ahLst/>
              <a:rect l="0" t="0" r="r" b="b"/>
              <a:pathLst>
                <a:path fill="none" w="288" h="191">
                  <a:moveTo>
                    <a:pt x="288" y="0"/>
                  </a:moveTo>
                  <a:lnTo>
                    <a:pt x="288" y="71"/>
                  </a:lnTo>
                  <a:lnTo>
                    <a:pt x="218" y="98"/>
                  </a:lnTo>
                  <a:lnTo>
                    <a:pt x="168" y="142"/>
                  </a:lnTo>
                  <a:lnTo>
                    <a:pt x="98" y="169"/>
                  </a:lnTo>
                  <a:lnTo>
                    <a:pt x="48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78160" y="2857680"/>
              <a:ext cx="111600" cy="52920"/>
            </a:xfrm>
            <a:custGeom>
              <a:avLst/>
              <a:gdLst/>
              <a:ahLst/>
              <a:rect l="0" t="0" r="r" b="b"/>
              <a:pathLst>
                <a:path fill="none" w="310" h="147">
                  <a:moveTo>
                    <a:pt x="310" y="0"/>
                  </a:moveTo>
                  <a:lnTo>
                    <a:pt x="240" y="49"/>
                  </a:lnTo>
                  <a:lnTo>
                    <a:pt x="190" y="98"/>
                  </a:lnTo>
                  <a:lnTo>
                    <a:pt x="120" y="121"/>
                  </a:lnTo>
                  <a:lnTo>
                    <a:pt x="70" y="147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78160" y="2849400"/>
              <a:ext cx="111600" cy="35280"/>
            </a:xfrm>
            <a:custGeom>
              <a:avLst/>
              <a:gdLst/>
              <a:ahLst/>
              <a:rect l="0" t="0" r="r" b="b"/>
              <a:pathLst>
                <a:path fill="none" w="310" h="98">
                  <a:moveTo>
                    <a:pt x="310" y="22"/>
                  </a:moveTo>
                  <a:lnTo>
                    <a:pt x="212" y="0"/>
                  </a:lnTo>
                  <a:lnTo>
                    <a:pt x="164" y="22"/>
                  </a:lnTo>
                  <a:lnTo>
                    <a:pt x="93" y="48"/>
                  </a:lnTo>
                  <a:lnTo>
                    <a:pt x="48" y="71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8160" y="2892600"/>
              <a:ext cx="111600" cy="43200"/>
            </a:xfrm>
            <a:custGeom>
              <a:avLst/>
              <a:gdLst/>
              <a:ahLst/>
              <a:rect l="0" t="0" r="r" b="b"/>
              <a:pathLst>
                <a:path fill="none" w="310" h="120">
                  <a:moveTo>
                    <a:pt x="310" y="0"/>
                  </a:moveTo>
                  <a:lnTo>
                    <a:pt x="240" y="48"/>
                  </a:lnTo>
                  <a:lnTo>
                    <a:pt x="190" y="71"/>
                  </a:lnTo>
                  <a:lnTo>
                    <a:pt x="120" y="93"/>
                  </a:lnTo>
                  <a:lnTo>
                    <a:pt x="70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78160" y="2935440"/>
              <a:ext cx="111600" cy="33840"/>
            </a:xfrm>
            <a:custGeom>
              <a:avLst/>
              <a:gdLst/>
              <a:ahLst/>
              <a:rect l="0" t="0" r="r" b="b"/>
              <a:pathLst>
                <a:path fill="none" w="310" h="94">
                  <a:moveTo>
                    <a:pt x="310" y="0"/>
                  </a:moveTo>
                  <a:lnTo>
                    <a:pt x="240" y="22"/>
                  </a:lnTo>
                  <a:lnTo>
                    <a:pt x="190" y="72"/>
                  </a:lnTo>
                  <a:lnTo>
                    <a:pt x="120" y="94"/>
                  </a:lnTo>
                  <a:lnTo>
                    <a:pt x="70" y="94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52960" y="2978280"/>
              <a:ext cx="136800" cy="25920"/>
            </a:xfrm>
            <a:custGeom>
              <a:avLst/>
              <a:gdLst/>
              <a:ahLst/>
              <a:rect l="0" t="0" r="r" b="b"/>
              <a:pathLst>
                <a:path fill="none" w="380" h="72">
                  <a:moveTo>
                    <a:pt x="380" y="0"/>
                  </a:moveTo>
                  <a:lnTo>
                    <a:pt x="309" y="23"/>
                  </a:lnTo>
                  <a:lnTo>
                    <a:pt x="234" y="45"/>
                  </a:lnTo>
                  <a:lnTo>
                    <a:pt x="163" y="72"/>
                  </a:lnTo>
                  <a:lnTo>
                    <a:pt x="119" y="72"/>
                  </a:lnTo>
                  <a:lnTo>
                    <a:pt x="70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35320" y="3011400"/>
              <a:ext cx="154440" cy="35280"/>
            </a:xfrm>
            <a:custGeom>
              <a:avLst/>
              <a:gdLst/>
              <a:ahLst/>
              <a:rect l="0" t="0" r="r" b="b"/>
              <a:pathLst>
                <a:path fill="none" w="429" h="98">
                  <a:moveTo>
                    <a:pt x="429" y="0"/>
                  </a:moveTo>
                  <a:lnTo>
                    <a:pt x="359" y="0"/>
                  </a:lnTo>
                  <a:lnTo>
                    <a:pt x="309" y="48"/>
                  </a:lnTo>
                  <a:lnTo>
                    <a:pt x="239" y="71"/>
                  </a:lnTo>
                  <a:lnTo>
                    <a:pt x="190" y="98"/>
                  </a:lnTo>
                  <a:lnTo>
                    <a:pt x="120" y="98"/>
                  </a:lnTo>
                  <a:lnTo>
                    <a:pt x="70" y="71"/>
                  </a:lnTo>
                  <a:lnTo>
                    <a:pt x="22" y="48"/>
                  </a:lnTo>
                  <a:lnTo>
                    <a:pt x="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27400" y="3046320"/>
              <a:ext cx="162360" cy="16200"/>
            </a:xfrm>
            <a:custGeom>
              <a:avLst/>
              <a:gdLst/>
              <a:ahLst/>
              <a:rect l="0" t="0" r="r" b="b"/>
              <a:pathLst>
                <a:path fill="none" w="451" h="45">
                  <a:moveTo>
                    <a:pt x="451" y="0"/>
                  </a:moveTo>
                  <a:lnTo>
                    <a:pt x="381" y="23"/>
                  </a:lnTo>
                  <a:lnTo>
                    <a:pt x="305" y="45"/>
                  </a:lnTo>
                  <a:lnTo>
                    <a:pt x="234" y="45"/>
                  </a:lnTo>
                  <a:lnTo>
                    <a:pt x="190" y="45"/>
                  </a:lnTo>
                  <a:lnTo>
                    <a:pt x="142" y="45"/>
                  </a:lnTo>
                  <a:lnTo>
                    <a:pt x="70" y="45"/>
                  </a:lnTo>
                  <a:lnTo>
                    <a:pt x="22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5320" y="3089160"/>
              <a:ext cx="154440" cy="8280"/>
            </a:xfrm>
            <a:custGeom>
              <a:avLst/>
              <a:gdLst/>
              <a:ahLst/>
              <a:rect l="0" t="0" r="r" b="b"/>
              <a:pathLst>
                <a:path fill="none" w="429" h="23">
                  <a:moveTo>
                    <a:pt x="429" y="0"/>
                  </a:moveTo>
                  <a:lnTo>
                    <a:pt x="359" y="0"/>
                  </a:lnTo>
                  <a:lnTo>
                    <a:pt x="309" y="23"/>
                  </a:lnTo>
                  <a:lnTo>
                    <a:pt x="239" y="23"/>
                  </a:lnTo>
                  <a:lnTo>
                    <a:pt x="190" y="0"/>
                  </a:lnTo>
                  <a:lnTo>
                    <a:pt x="120" y="23"/>
                  </a:lnTo>
                  <a:lnTo>
                    <a:pt x="70" y="23"/>
                  </a:lnTo>
                  <a:lnTo>
                    <a:pt x="22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89400" y="2627280"/>
              <a:ext cx="41760" cy="68760"/>
            </a:xfrm>
            <a:custGeom>
              <a:avLst/>
              <a:gdLst/>
              <a:ahLst/>
              <a:rect l="0" t="0" r="r" b="b"/>
              <a:pathLst>
                <a:path fill="none" w="116" h="191">
                  <a:moveTo>
                    <a:pt x="0" y="0"/>
                  </a:moveTo>
                  <a:lnTo>
                    <a:pt x="45" y="71"/>
                  </a:lnTo>
                  <a:lnTo>
                    <a:pt x="94" y="142"/>
                  </a:lnTo>
                  <a:lnTo>
                    <a:pt x="116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9400" y="2662200"/>
              <a:ext cx="59040" cy="76680"/>
            </a:xfrm>
            <a:custGeom>
              <a:avLst/>
              <a:gdLst/>
              <a:ahLst/>
              <a:rect l="0" t="0" r="r" b="b"/>
              <a:pathLst>
                <a:path fill="none" w="164" h="213">
                  <a:moveTo>
                    <a:pt x="0" y="0"/>
                  </a:moveTo>
                  <a:lnTo>
                    <a:pt x="44" y="44"/>
                  </a:lnTo>
                  <a:lnTo>
                    <a:pt x="70" y="120"/>
                  </a:lnTo>
                  <a:lnTo>
                    <a:pt x="93" y="191"/>
                  </a:lnTo>
                  <a:lnTo>
                    <a:pt x="164" y="213"/>
                  </a:lnTo>
                  <a:lnTo>
                    <a:pt x="142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89400" y="2705040"/>
              <a:ext cx="68760" cy="68760"/>
            </a:xfrm>
            <a:custGeom>
              <a:avLst/>
              <a:gdLst/>
              <a:ahLst/>
              <a:rect l="0" t="0" r="r" b="b"/>
              <a:pathLst>
                <a:path fill="none" w="191" h="191">
                  <a:moveTo>
                    <a:pt x="0" y="0"/>
                  </a:moveTo>
                  <a:lnTo>
                    <a:pt x="0" y="71"/>
                  </a:lnTo>
                  <a:lnTo>
                    <a:pt x="71" y="93"/>
                  </a:lnTo>
                  <a:lnTo>
                    <a:pt x="115" y="142"/>
                  </a:lnTo>
                  <a:lnTo>
                    <a:pt x="19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9400" y="277344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0" y="22"/>
                  </a:moveTo>
                  <a:lnTo>
                    <a:pt x="44" y="0"/>
                  </a:lnTo>
                  <a:lnTo>
                    <a:pt x="93" y="44"/>
                  </a:lnTo>
                  <a:lnTo>
                    <a:pt x="165" y="93"/>
                  </a:lnTo>
                  <a:lnTo>
                    <a:pt x="213" y="120"/>
                  </a:lnTo>
                  <a:lnTo>
                    <a:pt x="191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9400" y="2781360"/>
              <a:ext cx="93960" cy="68760"/>
            </a:xfrm>
            <a:custGeom>
              <a:avLst/>
              <a:gdLst/>
              <a:ahLst/>
              <a:rect l="0" t="0" r="r" b="b"/>
              <a:pathLst>
                <a:path fill="none" w="261" h="191">
                  <a:moveTo>
                    <a:pt x="0" y="0"/>
                  </a:moveTo>
                  <a:lnTo>
                    <a:pt x="0" y="71"/>
                  </a:lnTo>
                  <a:lnTo>
                    <a:pt x="44" y="98"/>
                  </a:lnTo>
                  <a:lnTo>
                    <a:pt x="92" y="142"/>
                  </a:lnTo>
                  <a:lnTo>
                    <a:pt x="164" y="169"/>
                  </a:lnTo>
                  <a:lnTo>
                    <a:pt x="212" y="191"/>
                  </a:lnTo>
                  <a:lnTo>
                    <a:pt x="26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89400" y="2857680"/>
              <a:ext cx="101880" cy="52920"/>
            </a:xfrm>
            <a:custGeom>
              <a:avLst/>
              <a:gdLst/>
              <a:ahLst/>
              <a:rect l="0" t="0" r="r" b="b"/>
              <a:pathLst>
                <a:path fill="none" w="283" h="147">
                  <a:moveTo>
                    <a:pt x="0" y="0"/>
                  </a:moveTo>
                  <a:lnTo>
                    <a:pt x="44" y="49"/>
                  </a:lnTo>
                  <a:lnTo>
                    <a:pt x="92" y="98"/>
                  </a:lnTo>
                  <a:lnTo>
                    <a:pt x="164" y="121"/>
                  </a:lnTo>
                  <a:lnTo>
                    <a:pt x="212" y="147"/>
                  </a:lnTo>
                  <a:lnTo>
                    <a:pt x="283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89400" y="2849400"/>
              <a:ext cx="101880" cy="35280"/>
            </a:xfrm>
            <a:custGeom>
              <a:avLst/>
              <a:gdLst/>
              <a:ahLst/>
              <a:rect l="0" t="0" r="r" b="b"/>
              <a:pathLst>
                <a:path fill="none" w="283" h="98">
                  <a:moveTo>
                    <a:pt x="0" y="22"/>
                  </a:moveTo>
                  <a:lnTo>
                    <a:pt x="70" y="0"/>
                  </a:lnTo>
                  <a:lnTo>
                    <a:pt x="114" y="22"/>
                  </a:lnTo>
                  <a:lnTo>
                    <a:pt x="190" y="48"/>
                  </a:lnTo>
                  <a:lnTo>
                    <a:pt x="234" y="71"/>
                  </a:lnTo>
                  <a:lnTo>
                    <a:pt x="283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9400" y="2892600"/>
              <a:ext cx="101880" cy="43200"/>
            </a:xfrm>
            <a:custGeom>
              <a:avLst/>
              <a:gdLst/>
              <a:ahLst/>
              <a:rect l="0" t="0" r="r" b="b"/>
              <a:pathLst>
                <a:path fill="none" w="283" h="120">
                  <a:moveTo>
                    <a:pt x="0" y="0"/>
                  </a:moveTo>
                  <a:lnTo>
                    <a:pt x="44" y="48"/>
                  </a:lnTo>
                  <a:lnTo>
                    <a:pt x="92" y="71"/>
                  </a:lnTo>
                  <a:lnTo>
                    <a:pt x="164" y="93"/>
                  </a:lnTo>
                  <a:lnTo>
                    <a:pt x="212" y="120"/>
                  </a:lnTo>
                  <a:lnTo>
                    <a:pt x="283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89400" y="293544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0" y="0"/>
                  </a:moveTo>
                  <a:lnTo>
                    <a:pt x="44" y="22"/>
                  </a:lnTo>
                  <a:lnTo>
                    <a:pt x="92" y="72"/>
                  </a:lnTo>
                  <a:lnTo>
                    <a:pt x="164" y="94"/>
                  </a:lnTo>
                  <a:lnTo>
                    <a:pt x="212" y="94"/>
                  </a:lnTo>
                  <a:lnTo>
                    <a:pt x="283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89400" y="2978280"/>
              <a:ext cx="127440" cy="25920"/>
            </a:xfrm>
            <a:custGeom>
              <a:avLst/>
              <a:gdLst/>
              <a:ahLst/>
              <a:rect l="0" t="0" r="r" b="b"/>
              <a:pathLst>
                <a:path fill="none" w="354" h="72">
                  <a:moveTo>
                    <a:pt x="0" y="0"/>
                  </a:moveTo>
                  <a:lnTo>
                    <a:pt x="44" y="23"/>
                  </a:lnTo>
                  <a:lnTo>
                    <a:pt x="115" y="45"/>
                  </a:lnTo>
                  <a:lnTo>
                    <a:pt x="190" y="72"/>
                  </a:lnTo>
                  <a:lnTo>
                    <a:pt x="234" y="72"/>
                  </a:lnTo>
                  <a:lnTo>
                    <a:pt x="284" y="45"/>
                  </a:lnTo>
                  <a:lnTo>
                    <a:pt x="354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9400" y="3011400"/>
              <a:ext cx="144720" cy="35280"/>
            </a:xfrm>
            <a:custGeom>
              <a:avLst/>
              <a:gdLst/>
              <a:ahLst/>
              <a:rect l="0" t="0" r="r" b="b"/>
              <a:pathLst>
                <a:path fill="none" w="402" h="98">
                  <a:moveTo>
                    <a:pt x="0" y="0"/>
                  </a:moveTo>
                  <a:lnTo>
                    <a:pt x="44" y="0"/>
                  </a:lnTo>
                  <a:lnTo>
                    <a:pt x="92" y="48"/>
                  </a:lnTo>
                  <a:lnTo>
                    <a:pt x="163" y="71"/>
                  </a:lnTo>
                  <a:lnTo>
                    <a:pt x="212" y="98"/>
                  </a:lnTo>
                  <a:lnTo>
                    <a:pt x="283" y="98"/>
                  </a:lnTo>
                  <a:lnTo>
                    <a:pt x="331" y="71"/>
                  </a:lnTo>
                  <a:lnTo>
                    <a:pt x="375" y="48"/>
                  </a:lnTo>
                  <a:lnTo>
                    <a:pt x="402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89400" y="3046320"/>
              <a:ext cx="152640" cy="16200"/>
            </a:xfrm>
            <a:custGeom>
              <a:avLst/>
              <a:gdLst/>
              <a:ahLst/>
              <a:rect l="0" t="0" r="r" b="b"/>
              <a:pathLst>
                <a:path fill="none" w="424" h="45">
                  <a:moveTo>
                    <a:pt x="0" y="0"/>
                  </a:moveTo>
                  <a:lnTo>
                    <a:pt x="44" y="23"/>
                  </a:lnTo>
                  <a:lnTo>
                    <a:pt x="114" y="45"/>
                  </a:lnTo>
                  <a:lnTo>
                    <a:pt x="189" y="45"/>
                  </a:lnTo>
                  <a:lnTo>
                    <a:pt x="234" y="45"/>
                  </a:lnTo>
                  <a:lnTo>
                    <a:pt x="283" y="45"/>
                  </a:lnTo>
                  <a:lnTo>
                    <a:pt x="353" y="45"/>
                  </a:lnTo>
                  <a:lnTo>
                    <a:pt x="402" y="45"/>
                  </a:lnTo>
                  <a:lnTo>
                    <a:pt x="424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89400" y="3089160"/>
              <a:ext cx="144720" cy="8280"/>
            </a:xfrm>
            <a:custGeom>
              <a:avLst/>
              <a:gdLst/>
              <a:ahLst/>
              <a:rect l="0" t="0" r="r" b="b"/>
              <a:pathLst>
                <a:path fill="none" w="402" h="23">
                  <a:moveTo>
                    <a:pt x="0" y="0"/>
                  </a:moveTo>
                  <a:lnTo>
                    <a:pt x="44" y="0"/>
                  </a:lnTo>
                  <a:lnTo>
                    <a:pt x="92" y="23"/>
                  </a:lnTo>
                  <a:lnTo>
                    <a:pt x="163" y="23"/>
                  </a:lnTo>
                  <a:lnTo>
                    <a:pt x="212" y="0"/>
                  </a:lnTo>
                  <a:lnTo>
                    <a:pt x="283" y="23"/>
                  </a:lnTo>
                  <a:lnTo>
                    <a:pt x="331" y="23"/>
                  </a:lnTo>
                  <a:lnTo>
                    <a:pt x="375" y="23"/>
                  </a:lnTo>
                  <a:lnTo>
                    <a:pt x="40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965920" y="2465280"/>
            <a:ext cx="316440" cy="555840"/>
            <a:chOff x="5965920" y="2465280"/>
            <a:chExt cx="316440" cy="555840"/>
          </a:xfrm>
        </p:grpSpPr>
        <p:sp>
          <p:nvSpPr>
            <p:cNvPr id="367" name=""/>
            <p:cNvSpPr/>
            <p:nvPr/>
          </p:nvSpPr>
          <p:spPr>
            <a:xfrm>
              <a:off x="6102360" y="2465280"/>
              <a:ext cx="33840" cy="555840"/>
            </a:xfrm>
            <a:custGeom>
              <a:avLst/>
              <a:gdLst/>
              <a:ahLst/>
              <a:rect l="0" t="0" r="r" b="b"/>
              <a:pathLst>
                <a:path fill="none" w="94" h="1544">
                  <a:moveTo>
                    <a:pt x="72" y="22"/>
                  </a:moveTo>
                  <a:lnTo>
                    <a:pt x="72" y="97"/>
                  </a:lnTo>
                  <a:lnTo>
                    <a:pt x="72" y="167"/>
                  </a:lnTo>
                  <a:lnTo>
                    <a:pt x="49" y="260"/>
                  </a:lnTo>
                  <a:lnTo>
                    <a:pt x="49" y="330"/>
                  </a:lnTo>
                  <a:lnTo>
                    <a:pt x="49" y="427"/>
                  </a:lnTo>
                  <a:lnTo>
                    <a:pt x="49" y="520"/>
                  </a:lnTo>
                  <a:lnTo>
                    <a:pt x="49" y="617"/>
                  </a:lnTo>
                  <a:lnTo>
                    <a:pt x="49" y="687"/>
                  </a:lnTo>
                  <a:lnTo>
                    <a:pt x="49" y="785"/>
                  </a:lnTo>
                  <a:lnTo>
                    <a:pt x="49" y="856"/>
                  </a:lnTo>
                  <a:lnTo>
                    <a:pt x="49" y="927"/>
                  </a:lnTo>
                  <a:lnTo>
                    <a:pt x="49" y="997"/>
                  </a:lnTo>
                  <a:lnTo>
                    <a:pt x="49" y="1068"/>
                  </a:lnTo>
                  <a:lnTo>
                    <a:pt x="22" y="1138"/>
                  </a:lnTo>
                  <a:lnTo>
                    <a:pt x="22" y="1209"/>
                  </a:lnTo>
                  <a:lnTo>
                    <a:pt x="0" y="1279"/>
                  </a:lnTo>
                  <a:lnTo>
                    <a:pt x="0" y="1354"/>
                  </a:lnTo>
                  <a:lnTo>
                    <a:pt x="0" y="1425"/>
                  </a:lnTo>
                  <a:lnTo>
                    <a:pt x="0" y="1495"/>
                  </a:lnTo>
                  <a:lnTo>
                    <a:pt x="72" y="1544"/>
                  </a:lnTo>
                  <a:lnTo>
                    <a:pt x="94" y="1469"/>
                  </a:lnTo>
                  <a:lnTo>
                    <a:pt x="72" y="1398"/>
                  </a:lnTo>
                  <a:lnTo>
                    <a:pt x="72" y="1328"/>
                  </a:lnTo>
                  <a:lnTo>
                    <a:pt x="72" y="1257"/>
                  </a:lnTo>
                  <a:lnTo>
                    <a:pt x="72" y="1187"/>
                  </a:lnTo>
                  <a:lnTo>
                    <a:pt x="72" y="1116"/>
                  </a:lnTo>
                  <a:lnTo>
                    <a:pt x="72" y="1046"/>
                  </a:lnTo>
                  <a:lnTo>
                    <a:pt x="72" y="975"/>
                  </a:lnTo>
                  <a:lnTo>
                    <a:pt x="72" y="900"/>
                  </a:lnTo>
                  <a:lnTo>
                    <a:pt x="94" y="830"/>
                  </a:lnTo>
                  <a:lnTo>
                    <a:pt x="94" y="758"/>
                  </a:lnTo>
                  <a:lnTo>
                    <a:pt x="94" y="687"/>
                  </a:lnTo>
                  <a:lnTo>
                    <a:pt x="72" y="617"/>
                  </a:lnTo>
                  <a:lnTo>
                    <a:pt x="72" y="546"/>
                  </a:lnTo>
                  <a:lnTo>
                    <a:pt x="72" y="476"/>
                  </a:lnTo>
                  <a:lnTo>
                    <a:pt x="72" y="401"/>
                  </a:lnTo>
                  <a:lnTo>
                    <a:pt x="72" y="330"/>
                  </a:lnTo>
                  <a:lnTo>
                    <a:pt x="72" y="260"/>
                  </a:lnTo>
                  <a:lnTo>
                    <a:pt x="72" y="189"/>
                  </a:lnTo>
                  <a:lnTo>
                    <a:pt x="72" y="119"/>
                  </a:lnTo>
                  <a:lnTo>
                    <a:pt x="72" y="48"/>
                  </a:lnTo>
                  <a:lnTo>
                    <a:pt x="7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76800" y="247320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70" y="75"/>
                  </a:lnTo>
                  <a:lnTo>
                    <a:pt x="22" y="147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59520" y="2508120"/>
              <a:ext cx="68760" cy="76680"/>
            </a:xfrm>
            <a:custGeom>
              <a:avLst/>
              <a:gdLst/>
              <a:ahLst/>
              <a:rect l="0" t="0" r="r" b="b"/>
              <a:pathLst>
                <a:path fill="none" w="191" h="213">
                  <a:moveTo>
                    <a:pt x="191" y="0"/>
                  </a:moveTo>
                  <a:lnTo>
                    <a:pt x="120" y="48"/>
                  </a:lnTo>
                  <a:lnTo>
                    <a:pt x="98" y="120"/>
                  </a:lnTo>
                  <a:lnTo>
                    <a:pt x="71" y="191"/>
                  </a:lnTo>
                  <a:lnTo>
                    <a:pt x="0" y="213"/>
                  </a:lnTo>
                  <a:lnTo>
                    <a:pt x="22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51600" y="2550960"/>
              <a:ext cx="76680" cy="68760"/>
            </a:xfrm>
            <a:custGeom>
              <a:avLst/>
              <a:gdLst/>
              <a:ahLst/>
              <a:rect l="0" t="0" r="r" b="b"/>
              <a:pathLst>
                <a:path fill="none" w="213" h="191">
                  <a:moveTo>
                    <a:pt x="213" y="0"/>
                  </a:moveTo>
                  <a:lnTo>
                    <a:pt x="191" y="71"/>
                  </a:lnTo>
                  <a:lnTo>
                    <a:pt x="120" y="93"/>
                  </a:lnTo>
                  <a:lnTo>
                    <a:pt x="71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41880" y="2619360"/>
              <a:ext cx="86040" cy="43200"/>
            </a:xfrm>
            <a:custGeom>
              <a:avLst/>
              <a:gdLst/>
              <a:ahLst/>
              <a:rect l="0" t="0" r="r" b="b"/>
              <a:pathLst>
                <a:path fill="none" w="239" h="120">
                  <a:moveTo>
                    <a:pt x="239" y="22"/>
                  </a:moveTo>
                  <a:lnTo>
                    <a:pt x="168" y="0"/>
                  </a:lnTo>
                  <a:lnTo>
                    <a:pt x="120" y="48"/>
                  </a:lnTo>
                  <a:lnTo>
                    <a:pt x="48" y="93"/>
                  </a:lnTo>
                  <a:lnTo>
                    <a:pt x="0" y="120"/>
                  </a:lnTo>
                  <a:lnTo>
                    <a:pt x="26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6040" y="2627280"/>
              <a:ext cx="101880" cy="68760"/>
            </a:xfrm>
            <a:custGeom>
              <a:avLst/>
              <a:gdLst/>
              <a:ahLst/>
              <a:rect l="0" t="0" r="r" b="b"/>
              <a:pathLst>
                <a:path fill="none" w="283" h="191">
                  <a:moveTo>
                    <a:pt x="283" y="0"/>
                  </a:moveTo>
                  <a:lnTo>
                    <a:pt x="283" y="71"/>
                  </a:lnTo>
                  <a:lnTo>
                    <a:pt x="212" y="98"/>
                  </a:lnTo>
                  <a:lnTo>
                    <a:pt x="164" y="142"/>
                  </a:lnTo>
                  <a:lnTo>
                    <a:pt x="92" y="169"/>
                  </a:lnTo>
                  <a:lnTo>
                    <a:pt x="44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6680" y="2705040"/>
              <a:ext cx="111600" cy="51120"/>
            </a:xfrm>
            <a:custGeom>
              <a:avLst/>
              <a:gdLst/>
              <a:ahLst/>
              <a:rect l="0" t="0" r="r" b="b"/>
              <a:pathLst>
                <a:path fill="none" w="310" h="142">
                  <a:moveTo>
                    <a:pt x="310" y="0"/>
                  </a:moveTo>
                  <a:lnTo>
                    <a:pt x="240" y="44"/>
                  </a:lnTo>
                  <a:lnTo>
                    <a:pt x="190" y="93"/>
                  </a:lnTo>
                  <a:lnTo>
                    <a:pt x="120" y="120"/>
                  </a:lnTo>
                  <a:lnTo>
                    <a:pt x="70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6680" y="2695680"/>
              <a:ext cx="111600" cy="35280"/>
            </a:xfrm>
            <a:custGeom>
              <a:avLst/>
              <a:gdLst/>
              <a:ahLst/>
              <a:rect l="0" t="0" r="r" b="b"/>
              <a:pathLst>
                <a:path fill="none" w="310" h="98">
                  <a:moveTo>
                    <a:pt x="310" y="26"/>
                  </a:moveTo>
                  <a:lnTo>
                    <a:pt x="217" y="0"/>
                  </a:lnTo>
                  <a:lnTo>
                    <a:pt x="168" y="26"/>
                  </a:lnTo>
                  <a:lnTo>
                    <a:pt x="98" y="48"/>
                  </a:lnTo>
                  <a:lnTo>
                    <a:pt x="48" y="71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6680" y="2738520"/>
              <a:ext cx="111600" cy="43200"/>
            </a:xfrm>
            <a:custGeom>
              <a:avLst/>
              <a:gdLst/>
              <a:ahLst/>
              <a:rect l="0" t="0" r="r" b="b"/>
              <a:pathLst>
                <a:path fill="none" w="310" h="120">
                  <a:moveTo>
                    <a:pt x="310" y="0"/>
                  </a:moveTo>
                  <a:lnTo>
                    <a:pt x="240" y="48"/>
                  </a:lnTo>
                  <a:lnTo>
                    <a:pt x="190" y="71"/>
                  </a:lnTo>
                  <a:lnTo>
                    <a:pt x="120" y="98"/>
                  </a:lnTo>
                  <a:lnTo>
                    <a:pt x="70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6680" y="2781360"/>
              <a:ext cx="111600" cy="35280"/>
            </a:xfrm>
            <a:custGeom>
              <a:avLst/>
              <a:gdLst/>
              <a:ahLst/>
              <a:rect l="0" t="0" r="r" b="b"/>
              <a:pathLst>
                <a:path fill="none" w="310" h="98">
                  <a:moveTo>
                    <a:pt x="310" y="0"/>
                  </a:moveTo>
                  <a:lnTo>
                    <a:pt x="240" y="22"/>
                  </a:lnTo>
                  <a:lnTo>
                    <a:pt x="190" y="71"/>
                  </a:lnTo>
                  <a:lnTo>
                    <a:pt x="120" y="98"/>
                  </a:lnTo>
                  <a:lnTo>
                    <a:pt x="70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91120" y="2824200"/>
              <a:ext cx="136800" cy="25920"/>
            </a:xfrm>
            <a:custGeom>
              <a:avLst/>
              <a:gdLst/>
              <a:ahLst/>
              <a:rect l="0" t="0" r="r" b="b"/>
              <a:pathLst>
                <a:path fill="none" w="380" h="72">
                  <a:moveTo>
                    <a:pt x="380" y="0"/>
                  </a:moveTo>
                  <a:lnTo>
                    <a:pt x="309" y="23"/>
                  </a:lnTo>
                  <a:lnTo>
                    <a:pt x="239" y="49"/>
                  </a:lnTo>
                  <a:lnTo>
                    <a:pt x="167" y="72"/>
                  </a:lnTo>
                  <a:lnTo>
                    <a:pt x="119" y="72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73840" y="2857680"/>
              <a:ext cx="154440" cy="35280"/>
            </a:xfrm>
            <a:custGeom>
              <a:avLst/>
              <a:gdLst/>
              <a:ahLst/>
              <a:rect l="0" t="0" r="r" b="b"/>
              <a:pathLst>
                <a:path fill="none" w="429" h="98">
                  <a:moveTo>
                    <a:pt x="429" y="0"/>
                  </a:moveTo>
                  <a:lnTo>
                    <a:pt x="359" y="0"/>
                  </a:lnTo>
                  <a:lnTo>
                    <a:pt x="309" y="48"/>
                  </a:lnTo>
                  <a:lnTo>
                    <a:pt x="239" y="75"/>
                  </a:lnTo>
                  <a:lnTo>
                    <a:pt x="190" y="98"/>
                  </a:lnTo>
                  <a:lnTo>
                    <a:pt x="120" y="98"/>
                  </a:lnTo>
                  <a:lnTo>
                    <a:pt x="74" y="75"/>
                  </a:lnTo>
                  <a:lnTo>
                    <a:pt x="26" y="48"/>
                  </a:lnTo>
                  <a:lnTo>
                    <a:pt x="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65920" y="2892600"/>
              <a:ext cx="162360" cy="18000"/>
            </a:xfrm>
            <a:custGeom>
              <a:avLst/>
              <a:gdLst/>
              <a:ahLst/>
              <a:rect l="0" t="0" r="r" b="b"/>
              <a:pathLst>
                <a:path fill="none" w="451" h="50">
                  <a:moveTo>
                    <a:pt x="451" y="0"/>
                  </a:moveTo>
                  <a:lnTo>
                    <a:pt x="381" y="23"/>
                  </a:lnTo>
                  <a:lnTo>
                    <a:pt x="309" y="50"/>
                  </a:lnTo>
                  <a:lnTo>
                    <a:pt x="239" y="50"/>
                  </a:lnTo>
                  <a:lnTo>
                    <a:pt x="190" y="50"/>
                  </a:lnTo>
                  <a:lnTo>
                    <a:pt x="142" y="50"/>
                  </a:lnTo>
                  <a:lnTo>
                    <a:pt x="70" y="50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3840" y="2935440"/>
              <a:ext cx="154440" cy="8280"/>
            </a:xfrm>
            <a:custGeom>
              <a:avLst/>
              <a:gdLst/>
              <a:ahLst/>
              <a:rect l="0" t="0" r="r" b="b"/>
              <a:pathLst>
                <a:path fill="none" w="429" h="23">
                  <a:moveTo>
                    <a:pt x="429" y="0"/>
                  </a:moveTo>
                  <a:lnTo>
                    <a:pt x="359" y="0"/>
                  </a:lnTo>
                  <a:lnTo>
                    <a:pt x="309" y="23"/>
                  </a:lnTo>
                  <a:lnTo>
                    <a:pt x="239" y="23"/>
                  </a:lnTo>
                  <a:lnTo>
                    <a:pt x="190" y="0"/>
                  </a:lnTo>
                  <a:lnTo>
                    <a:pt x="120" y="23"/>
                  </a:lnTo>
                  <a:lnTo>
                    <a:pt x="74" y="23"/>
                  </a:lnTo>
                  <a:lnTo>
                    <a:pt x="26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27920" y="2473200"/>
              <a:ext cx="43200" cy="68760"/>
            </a:xfrm>
            <a:custGeom>
              <a:avLst/>
              <a:gdLst/>
              <a:ahLst/>
              <a:rect l="0" t="0" r="r" b="b"/>
              <a:pathLst>
                <a:path fill="none" w="120" h="191">
                  <a:moveTo>
                    <a:pt x="0" y="0"/>
                  </a:moveTo>
                  <a:lnTo>
                    <a:pt x="48" y="75"/>
                  </a:lnTo>
                  <a:lnTo>
                    <a:pt x="93" y="147"/>
                  </a:lnTo>
                  <a:lnTo>
                    <a:pt x="12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27920" y="2508120"/>
              <a:ext cx="60840" cy="76680"/>
            </a:xfrm>
            <a:custGeom>
              <a:avLst/>
              <a:gdLst/>
              <a:ahLst/>
              <a:rect l="0" t="0" r="r" b="b"/>
              <a:pathLst>
                <a:path fill="none" w="169" h="213">
                  <a:moveTo>
                    <a:pt x="0" y="0"/>
                  </a:moveTo>
                  <a:lnTo>
                    <a:pt x="49" y="48"/>
                  </a:lnTo>
                  <a:lnTo>
                    <a:pt x="71" y="120"/>
                  </a:lnTo>
                  <a:lnTo>
                    <a:pt x="93" y="191"/>
                  </a:lnTo>
                  <a:lnTo>
                    <a:pt x="169" y="213"/>
                  </a:lnTo>
                  <a:lnTo>
                    <a:pt x="143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27920" y="2550960"/>
              <a:ext cx="68760" cy="68760"/>
            </a:xfrm>
            <a:custGeom>
              <a:avLst/>
              <a:gdLst/>
              <a:ahLst/>
              <a:rect l="0" t="0" r="r" b="b"/>
              <a:pathLst>
                <a:path fill="none" w="191" h="191">
                  <a:moveTo>
                    <a:pt x="0" y="0"/>
                  </a:moveTo>
                  <a:lnTo>
                    <a:pt x="0" y="71"/>
                  </a:lnTo>
                  <a:lnTo>
                    <a:pt x="71" y="93"/>
                  </a:lnTo>
                  <a:lnTo>
                    <a:pt x="120" y="142"/>
                  </a:lnTo>
                  <a:lnTo>
                    <a:pt x="19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27920" y="261936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0" y="22"/>
                  </a:moveTo>
                  <a:lnTo>
                    <a:pt x="48" y="0"/>
                  </a:lnTo>
                  <a:lnTo>
                    <a:pt x="93" y="48"/>
                  </a:lnTo>
                  <a:lnTo>
                    <a:pt x="169" y="93"/>
                  </a:lnTo>
                  <a:lnTo>
                    <a:pt x="213" y="120"/>
                  </a:lnTo>
                  <a:lnTo>
                    <a:pt x="191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27920" y="2627280"/>
              <a:ext cx="93960" cy="68760"/>
            </a:xfrm>
            <a:custGeom>
              <a:avLst/>
              <a:gdLst/>
              <a:ahLst/>
              <a:rect l="0" t="0" r="r" b="b"/>
              <a:pathLst>
                <a:path fill="none" w="261" h="191">
                  <a:moveTo>
                    <a:pt x="0" y="0"/>
                  </a:moveTo>
                  <a:lnTo>
                    <a:pt x="0" y="71"/>
                  </a:lnTo>
                  <a:lnTo>
                    <a:pt x="48" y="98"/>
                  </a:lnTo>
                  <a:lnTo>
                    <a:pt x="92" y="142"/>
                  </a:lnTo>
                  <a:lnTo>
                    <a:pt x="168" y="169"/>
                  </a:lnTo>
                  <a:lnTo>
                    <a:pt x="212" y="191"/>
                  </a:lnTo>
                  <a:lnTo>
                    <a:pt x="26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27920" y="2705040"/>
              <a:ext cx="101880" cy="51120"/>
            </a:xfrm>
            <a:custGeom>
              <a:avLst/>
              <a:gdLst/>
              <a:ahLst/>
              <a:rect l="0" t="0" r="r" b="b"/>
              <a:pathLst>
                <a:path fill="none" w="283" h="142">
                  <a:moveTo>
                    <a:pt x="0" y="0"/>
                  </a:moveTo>
                  <a:lnTo>
                    <a:pt x="48" y="44"/>
                  </a:lnTo>
                  <a:lnTo>
                    <a:pt x="92" y="93"/>
                  </a:lnTo>
                  <a:lnTo>
                    <a:pt x="168" y="120"/>
                  </a:lnTo>
                  <a:lnTo>
                    <a:pt x="212" y="142"/>
                  </a:lnTo>
                  <a:lnTo>
                    <a:pt x="283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27920" y="2695680"/>
              <a:ext cx="101880" cy="35280"/>
            </a:xfrm>
            <a:custGeom>
              <a:avLst/>
              <a:gdLst/>
              <a:ahLst/>
              <a:rect l="0" t="0" r="r" b="b"/>
              <a:pathLst>
                <a:path fill="none" w="283" h="98">
                  <a:moveTo>
                    <a:pt x="0" y="26"/>
                  </a:moveTo>
                  <a:lnTo>
                    <a:pt x="70" y="0"/>
                  </a:lnTo>
                  <a:lnTo>
                    <a:pt x="119" y="26"/>
                  </a:lnTo>
                  <a:lnTo>
                    <a:pt x="190" y="48"/>
                  </a:lnTo>
                  <a:lnTo>
                    <a:pt x="239" y="71"/>
                  </a:lnTo>
                  <a:lnTo>
                    <a:pt x="283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27920" y="2738520"/>
              <a:ext cx="101880" cy="43200"/>
            </a:xfrm>
            <a:custGeom>
              <a:avLst/>
              <a:gdLst/>
              <a:ahLst/>
              <a:rect l="0" t="0" r="r" b="b"/>
              <a:pathLst>
                <a:path fill="none" w="283" h="120">
                  <a:moveTo>
                    <a:pt x="0" y="0"/>
                  </a:moveTo>
                  <a:lnTo>
                    <a:pt x="48" y="48"/>
                  </a:lnTo>
                  <a:lnTo>
                    <a:pt x="92" y="71"/>
                  </a:lnTo>
                  <a:lnTo>
                    <a:pt x="168" y="98"/>
                  </a:lnTo>
                  <a:lnTo>
                    <a:pt x="212" y="120"/>
                  </a:lnTo>
                  <a:lnTo>
                    <a:pt x="283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27920" y="2781360"/>
              <a:ext cx="101880" cy="35280"/>
            </a:xfrm>
            <a:custGeom>
              <a:avLst/>
              <a:gdLst/>
              <a:ahLst/>
              <a:rect l="0" t="0" r="r" b="b"/>
              <a:pathLst>
                <a:path fill="none" w="283" h="98">
                  <a:moveTo>
                    <a:pt x="0" y="0"/>
                  </a:moveTo>
                  <a:lnTo>
                    <a:pt x="48" y="22"/>
                  </a:lnTo>
                  <a:lnTo>
                    <a:pt x="92" y="71"/>
                  </a:lnTo>
                  <a:lnTo>
                    <a:pt x="168" y="98"/>
                  </a:lnTo>
                  <a:lnTo>
                    <a:pt x="212" y="98"/>
                  </a:lnTo>
                  <a:lnTo>
                    <a:pt x="283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27920" y="2824200"/>
              <a:ext cx="127440" cy="25920"/>
            </a:xfrm>
            <a:custGeom>
              <a:avLst/>
              <a:gdLst/>
              <a:ahLst/>
              <a:rect l="0" t="0" r="r" b="b"/>
              <a:pathLst>
                <a:path fill="none" w="354" h="72">
                  <a:moveTo>
                    <a:pt x="0" y="0"/>
                  </a:moveTo>
                  <a:lnTo>
                    <a:pt x="48" y="23"/>
                  </a:lnTo>
                  <a:lnTo>
                    <a:pt x="120" y="49"/>
                  </a:lnTo>
                  <a:lnTo>
                    <a:pt x="190" y="72"/>
                  </a:lnTo>
                  <a:lnTo>
                    <a:pt x="239" y="72"/>
                  </a:lnTo>
                  <a:lnTo>
                    <a:pt x="284" y="49"/>
                  </a:lnTo>
                  <a:lnTo>
                    <a:pt x="354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27920" y="2857680"/>
              <a:ext cx="144720" cy="35280"/>
            </a:xfrm>
            <a:custGeom>
              <a:avLst/>
              <a:gdLst/>
              <a:ahLst/>
              <a:rect l="0" t="0" r="r" b="b"/>
              <a:pathLst>
                <a:path fill="none" w="402" h="98">
                  <a:moveTo>
                    <a:pt x="0" y="0"/>
                  </a:moveTo>
                  <a:lnTo>
                    <a:pt x="48" y="0"/>
                  </a:lnTo>
                  <a:lnTo>
                    <a:pt x="92" y="48"/>
                  </a:lnTo>
                  <a:lnTo>
                    <a:pt x="167" y="75"/>
                  </a:lnTo>
                  <a:lnTo>
                    <a:pt x="212" y="98"/>
                  </a:lnTo>
                  <a:lnTo>
                    <a:pt x="283" y="98"/>
                  </a:lnTo>
                  <a:lnTo>
                    <a:pt x="331" y="75"/>
                  </a:lnTo>
                  <a:lnTo>
                    <a:pt x="380" y="48"/>
                  </a:lnTo>
                  <a:lnTo>
                    <a:pt x="402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27920" y="2892600"/>
              <a:ext cx="154440" cy="18000"/>
            </a:xfrm>
            <a:custGeom>
              <a:avLst/>
              <a:gdLst/>
              <a:ahLst/>
              <a:rect l="0" t="0" r="r" b="b"/>
              <a:pathLst>
                <a:path fill="none" w="429" h="50">
                  <a:moveTo>
                    <a:pt x="0" y="0"/>
                  </a:moveTo>
                  <a:lnTo>
                    <a:pt x="48" y="23"/>
                  </a:lnTo>
                  <a:lnTo>
                    <a:pt x="120" y="50"/>
                  </a:lnTo>
                  <a:lnTo>
                    <a:pt x="190" y="50"/>
                  </a:lnTo>
                  <a:lnTo>
                    <a:pt x="239" y="50"/>
                  </a:lnTo>
                  <a:lnTo>
                    <a:pt x="283" y="50"/>
                  </a:lnTo>
                  <a:lnTo>
                    <a:pt x="354" y="50"/>
                  </a:lnTo>
                  <a:lnTo>
                    <a:pt x="403" y="50"/>
                  </a:lnTo>
                  <a:lnTo>
                    <a:pt x="429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27920" y="2935440"/>
              <a:ext cx="144720" cy="8280"/>
            </a:xfrm>
            <a:custGeom>
              <a:avLst/>
              <a:gdLst/>
              <a:ahLst/>
              <a:rect l="0" t="0" r="r" b="b"/>
              <a:pathLst>
                <a:path fill="none" w="402" h="23">
                  <a:moveTo>
                    <a:pt x="0" y="0"/>
                  </a:moveTo>
                  <a:lnTo>
                    <a:pt x="48" y="0"/>
                  </a:lnTo>
                  <a:lnTo>
                    <a:pt x="92" y="23"/>
                  </a:lnTo>
                  <a:lnTo>
                    <a:pt x="167" y="23"/>
                  </a:lnTo>
                  <a:lnTo>
                    <a:pt x="212" y="0"/>
                  </a:lnTo>
                  <a:lnTo>
                    <a:pt x="283" y="23"/>
                  </a:lnTo>
                  <a:lnTo>
                    <a:pt x="331" y="23"/>
                  </a:lnTo>
                  <a:lnTo>
                    <a:pt x="380" y="23"/>
                  </a:lnTo>
                  <a:lnTo>
                    <a:pt x="40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578640" y="2619360"/>
            <a:ext cx="238680" cy="478080"/>
            <a:chOff x="6578640" y="2619360"/>
            <a:chExt cx="238680" cy="478080"/>
          </a:xfrm>
        </p:grpSpPr>
        <p:sp>
          <p:nvSpPr>
            <p:cNvPr id="395" name=""/>
            <p:cNvSpPr/>
            <p:nvPr/>
          </p:nvSpPr>
          <p:spPr>
            <a:xfrm>
              <a:off x="6681960" y="2619360"/>
              <a:ext cx="25920" cy="478080"/>
            </a:xfrm>
            <a:custGeom>
              <a:avLst/>
              <a:gdLst/>
              <a:ahLst/>
              <a:rect l="0" t="0" r="r" b="b"/>
              <a:pathLst>
                <a:path fill="none" w="72" h="1328">
                  <a:moveTo>
                    <a:pt x="45" y="22"/>
                  </a:moveTo>
                  <a:lnTo>
                    <a:pt x="45" y="70"/>
                  </a:lnTo>
                  <a:lnTo>
                    <a:pt x="45" y="141"/>
                  </a:lnTo>
                  <a:lnTo>
                    <a:pt x="45" y="211"/>
                  </a:lnTo>
                  <a:lnTo>
                    <a:pt x="45" y="282"/>
                  </a:lnTo>
                  <a:lnTo>
                    <a:pt x="45" y="379"/>
                  </a:lnTo>
                  <a:lnTo>
                    <a:pt x="45" y="449"/>
                  </a:lnTo>
                  <a:lnTo>
                    <a:pt x="45" y="520"/>
                  </a:lnTo>
                  <a:lnTo>
                    <a:pt x="45" y="590"/>
                  </a:lnTo>
                  <a:lnTo>
                    <a:pt x="45" y="661"/>
                  </a:lnTo>
                  <a:lnTo>
                    <a:pt x="45" y="737"/>
                  </a:lnTo>
                  <a:lnTo>
                    <a:pt x="45" y="807"/>
                  </a:lnTo>
                  <a:lnTo>
                    <a:pt x="45" y="852"/>
                  </a:lnTo>
                  <a:lnTo>
                    <a:pt x="45" y="927"/>
                  </a:lnTo>
                  <a:lnTo>
                    <a:pt x="23" y="971"/>
                  </a:lnTo>
                  <a:lnTo>
                    <a:pt x="23" y="1041"/>
                  </a:lnTo>
                  <a:lnTo>
                    <a:pt x="0" y="1116"/>
                  </a:lnTo>
                  <a:lnTo>
                    <a:pt x="0" y="1160"/>
                  </a:lnTo>
                  <a:lnTo>
                    <a:pt x="0" y="1231"/>
                  </a:lnTo>
                  <a:lnTo>
                    <a:pt x="0" y="1279"/>
                  </a:lnTo>
                  <a:lnTo>
                    <a:pt x="45" y="1328"/>
                  </a:lnTo>
                  <a:lnTo>
                    <a:pt x="72" y="1257"/>
                  </a:lnTo>
                  <a:lnTo>
                    <a:pt x="45" y="1209"/>
                  </a:lnTo>
                  <a:lnTo>
                    <a:pt x="45" y="1138"/>
                  </a:lnTo>
                  <a:lnTo>
                    <a:pt x="45" y="1090"/>
                  </a:lnTo>
                  <a:lnTo>
                    <a:pt x="45" y="1019"/>
                  </a:lnTo>
                  <a:lnTo>
                    <a:pt x="45" y="949"/>
                  </a:lnTo>
                  <a:lnTo>
                    <a:pt x="45" y="900"/>
                  </a:lnTo>
                  <a:lnTo>
                    <a:pt x="45" y="830"/>
                  </a:lnTo>
                  <a:lnTo>
                    <a:pt x="45" y="781"/>
                  </a:lnTo>
                  <a:lnTo>
                    <a:pt x="72" y="710"/>
                  </a:lnTo>
                  <a:lnTo>
                    <a:pt x="72" y="661"/>
                  </a:lnTo>
                  <a:lnTo>
                    <a:pt x="72" y="590"/>
                  </a:lnTo>
                  <a:lnTo>
                    <a:pt x="45" y="520"/>
                  </a:lnTo>
                  <a:lnTo>
                    <a:pt x="45" y="471"/>
                  </a:lnTo>
                  <a:lnTo>
                    <a:pt x="45" y="401"/>
                  </a:lnTo>
                  <a:lnTo>
                    <a:pt x="45" y="357"/>
                  </a:lnTo>
                  <a:lnTo>
                    <a:pt x="45" y="282"/>
                  </a:lnTo>
                  <a:lnTo>
                    <a:pt x="45" y="211"/>
                  </a:lnTo>
                  <a:lnTo>
                    <a:pt x="45" y="163"/>
                  </a:lnTo>
                  <a:lnTo>
                    <a:pt x="45" y="92"/>
                  </a:lnTo>
                  <a:lnTo>
                    <a:pt x="45" y="48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4320" y="2627280"/>
              <a:ext cx="33840" cy="60840"/>
            </a:xfrm>
            <a:custGeom>
              <a:avLst/>
              <a:gdLst/>
              <a:ahLst/>
              <a:rect l="0" t="0" r="r" b="b"/>
              <a:pathLst>
                <a:path fill="none" w="94" h="169">
                  <a:moveTo>
                    <a:pt x="94" y="0"/>
                  </a:moveTo>
                  <a:lnTo>
                    <a:pt x="49" y="49"/>
                  </a:lnTo>
                  <a:lnTo>
                    <a:pt x="22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704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9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0" y="191"/>
                  </a:lnTo>
                  <a:lnTo>
                    <a:pt x="26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4704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142" y="0"/>
                  </a:moveTo>
                  <a:lnTo>
                    <a:pt x="142" y="49"/>
                  </a:lnTo>
                  <a:lnTo>
                    <a:pt x="70" y="71"/>
                  </a:lnTo>
                  <a:lnTo>
                    <a:pt x="48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8760" y="2755800"/>
              <a:ext cx="59040" cy="33840"/>
            </a:xfrm>
            <a:custGeom>
              <a:avLst/>
              <a:gdLst/>
              <a:ahLst/>
              <a:rect l="0" t="0" r="r" b="b"/>
              <a:pathLst>
                <a:path fill="none" w="164" h="94">
                  <a:moveTo>
                    <a:pt x="164" y="0"/>
                  </a:moveTo>
                  <a:lnTo>
                    <a:pt x="120" y="0"/>
                  </a:lnTo>
                  <a:lnTo>
                    <a:pt x="93" y="22"/>
                  </a:lnTo>
                  <a:lnTo>
                    <a:pt x="22" y="72"/>
                  </a:lnTo>
                  <a:lnTo>
                    <a:pt x="0" y="94"/>
                  </a:lnTo>
                  <a:lnTo>
                    <a:pt x="22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1480" y="2755800"/>
              <a:ext cx="76680" cy="60840"/>
            </a:xfrm>
            <a:custGeom>
              <a:avLst/>
              <a:gdLst/>
              <a:ahLst/>
              <a:rect l="0" t="0" r="r" b="b"/>
              <a:pathLst>
                <a:path fill="none" w="213" h="169">
                  <a:moveTo>
                    <a:pt x="213" y="0"/>
                  </a:moveTo>
                  <a:lnTo>
                    <a:pt x="213" y="71"/>
                  </a:lnTo>
                  <a:lnTo>
                    <a:pt x="169" y="93"/>
                  </a:lnTo>
                  <a:lnTo>
                    <a:pt x="142" y="143"/>
                  </a:lnTo>
                  <a:lnTo>
                    <a:pt x="71" y="143"/>
                  </a:lnTo>
                  <a:lnTo>
                    <a:pt x="48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1480" y="282420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213" y="0"/>
                  </a:moveTo>
                  <a:lnTo>
                    <a:pt x="169" y="48"/>
                  </a:lnTo>
                  <a:lnTo>
                    <a:pt x="142" y="93"/>
                  </a:lnTo>
                  <a:lnTo>
                    <a:pt x="71" y="93"/>
                  </a:lnTo>
                  <a:lnTo>
                    <a:pt x="48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1480" y="2816280"/>
              <a:ext cx="76680" cy="33840"/>
            </a:xfrm>
            <a:custGeom>
              <a:avLst/>
              <a:gdLst/>
              <a:ahLst/>
              <a:rect l="0" t="0" r="r" b="b"/>
              <a:pathLst>
                <a:path fill="none" w="213" h="94">
                  <a:moveTo>
                    <a:pt x="213" y="22"/>
                  </a:moveTo>
                  <a:lnTo>
                    <a:pt x="142" y="0"/>
                  </a:lnTo>
                  <a:lnTo>
                    <a:pt x="120" y="22"/>
                  </a:lnTo>
                  <a:lnTo>
                    <a:pt x="71" y="45"/>
                  </a:lnTo>
                  <a:lnTo>
                    <a:pt x="22" y="72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1480" y="285768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0"/>
                  </a:moveTo>
                  <a:lnTo>
                    <a:pt x="169" y="26"/>
                  </a:lnTo>
                  <a:lnTo>
                    <a:pt x="142" y="48"/>
                  </a:lnTo>
                  <a:lnTo>
                    <a:pt x="71" y="75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1480" y="2892600"/>
              <a:ext cx="76680" cy="25920"/>
            </a:xfrm>
            <a:custGeom>
              <a:avLst/>
              <a:gdLst/>
              <a:ahLst/>
              <a:rect l="0" t="0" r="r" b="b"/>
              <a:pathLst>
                <a:path fill="none" w="213" h="72">
                  <a:moveTo>
                    <a:pt x="213" y="0"/>
                  </a:moveTo>
                  <a:lnTo>
                    <a:pt x="169" y="23"/>
                  </a:lnTo>
                  <a:lnTo>
                    <a:pt x="142" y="49"/>
                  </a:lnTo>
                  <a:lnTo>
                    <a:pt x="7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95920" y="2925720"/>
              <a:ext cx="101880" cy="27360"/>
            </a:xfrm>
            <a:custGeom>
              <a:avLst/>
              <a:gdLst/>
              <a:ahLst/>
              <a:rect l="0" t="0" r="r" b="b"/>
              <a:pathLst>
                <a:path fill="none" w="283" h="76">
                  <a:moveTo>
                    <a:pt x="283" y="0"/>
                  </a:moveTo>
                  <a:lnTo>
                    <a:pt x="239" y="27"/>
                  </a:lnTo>
                  <a:lnTo>
                    <a:pt x="190" y="49"/>
                  </a:lnTo>
                  <a:lnTo>
                    <a:pt x="142" y="76"/>
                  </a:lnTo>
                  <a:lnTo>
                    <a:pt x="92" y="76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8000" y="2960640"/>
              <a:ext cx="109800" cy="25920"/>
            </a:xfrm>
            <a:custGeom>
              <a:avLst/>
              <a:gdLst/>
              <a:ahLst/>
              <a:rect l="0" t="0" r="r" b="b"/>
              <a:pathLst>
                <a:path fill="none" w="305" h="72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49"/>
                  </a:lnTo>
                  <a:lnTo>
                    <a:pt x="141" y="72"/>
                  </a:lnTo>
                  <a:lnTo>
                    <a:pt x="92" y="72"/>
                  </a:lnTo>
                  <a:lnTo>
                    <a:pt x="44" y="49"/>
                  </a:lnTo>
                  <a:lnTo>
                    <a:pt x="22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7864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332" y="0"/>
                  </a:moveTo>
                  <a:lnTo>
                    <a:pt x="288" y="23"/>
                  </a:lnTo>
                  <a:lnTo>
                    <a:pt x="239" y="50"/>
                  </a:lnTo>
                  <a:lnTo>
                    <a:pt x="190" y="50"/>
                  </a:lnTo>
                  <a:lnTo>
                    <a:pt x="142" y="50"/>
                  </a:lnTo>
                  <a:lnTo>
                    <a:pt x="120" y="50"/>
                  </a:lnTo>
                  <a:lnTo>
                    <a:pt x="48" y="50"/>
                  </a:lnTo>
                  <a:lnTo>
                    <a:pt x="26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88000" y="3021120"/>
              <a:ext cx="109800" cy="8280"/>
            </a:xfrm>
            <a:custGeom>
              <a:avLst/>
              <a:gdLst/>
              <a:ahLst/>
              <a:rect l="0" t="0" r="r" b="b"/>
              <a:pathLst>
                <a:path fill="none" w="305" h="23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23"/>
                  </a:lnTo>
                  <a:lnTo>
                    <a:pt x="141" y="0"/>
                  </a:lnTo>
                  <a:lnTo>
                    <a:pt x="92" y="23"/>
                  </a:lnTo>
                  <a:lnTo>
                    <a:pt x="44" y="23"/>
                  </a:lnTo>
                  <a:lnTo>
                    <a:pt x="22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97800" y="2627280"/>
              <a:ext cx="35280" cy="60840"/>
            </a:xfrm>
            <a:custGeom>
              <a:avLst/>
              <a:gdLst/>
              <a:ahLst/>
              <a:rect l="0" t="0" r="r" b="b"/>
              <a:pathLst>
                <a:path fill="none" w="98" h="169">
                  <a:moveTo>
                    <a:pt x="0" y="0"/>
                  </a:moveTo>
                  <a:lnTo>
                    <a:pt x="48" y="49"/>
                  </a:lnTo>
                  <a:lnTo>
                    <a:pt x="71" y="120"/>
                  </a:lnTo>
                  <a:lnTo>
                    <a:pt x="9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9780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0" y="0"/>
                  </a:moveTo>
                  <a:lnTo>
                    <a:pt x="4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142" y="191"/>
                  </a:lnTo>
                  <a:lnTo>
                    <a:pt x="12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9780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0" y="0"/>
                  </a:moveTo>
                  <a:lnTo>
                    <a:pt x="0" y="49"/>
                  </a:lnTo>
                  <a:lnTo>
                    <a:pt x="70" y="71"/>
                  </a:lnTo>
                  <a:lnTo>
                    <a:pt x="98" y="120"/>
                  </a:lnTo>
                  <a:lnTo>
                    <a:pt x="142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97800" y="2755800"/>
              <a:ext cx="60840" cy="33840"/>
            </a:xfrm>
            <a:custGeom>
              <a:avLst/>
              <a:gdLst/>
              <a:ahLst/>
              <a:rect l="0" t="0" r="r" b="b"/>
              <a:pathLst>
                <a:path fill="none" w="169" h="94">
                  <a:moveTo>
                    <a:pt x="0" y="0"/>
                  </a:moveTo>
                  <a:lnTo>
                    <a:pt x="49" y="0"/>
                  </a:lnTo>
                  <a:lnTo>
                    <a:pt x="71" y="22"/>
                  </a:lnTo>
                  <a:lnTo>
                    <a:pt x="143" y="72"/>
                  </a:lnTo>
                  <a:lnTo>
                    <a:pt x="169" y="94"/>
                  </a:lnTo>
                  <a:lnTo>
                    <a:pt x="143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97800" y="2755800"/>
              <a:ext cx="78120" cy="60840"/>
            </a:xfrm>
            <a:custGeom>
              <a:avLst/>
              <a:gdLst/>
              <a:ahLst/>
              <a:rect l="0" t="0" r="r" b="b"/>
              <a:pathLst>
                <a:path fill="none" w="217" h="169">
                  <a:moveTo>
                    <a:pt x="0" y="0"/>
                  </a:moveTo>
                  <a:lnTo>
                    <a:pt x="0" y="71"/>
                  </a:lnTo>
                  <a:lnTo>
                    <a:pt x="48" y="93"/>
                  </a:lnTo>
                  <a:lnTo>
                    <a:pt x="70" y="143"/>
                  </a:lnTo>
                  <a:lnTo>
                    <a:pt x="142" y="143"/>
                  </a:lnTo>
                  <a:lnTo>
                    <a:pt x="168" y="169"/>
                  </a:lnTo>
                  <a:lnTo>
                    <a:pt x="217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97800" y="2824200"/>
              <a:ext cx="78120" cy="43200"/>
            </a:xfrm>
            <a:custGeom>
              <a:avLst/>
              <a:gdLst/>
              <a:ahLst/>
              <a:rect l="0" t="0" r="r" b="b"/>
              <a:pathLst>
                <a:path fill="none" w="217" h="120">
                  <a:moveTo>
                    <a:pt x="0" y="0"/>
                  </a:moveTo>
                  <a:lnTo>
                    <a:pt x="48" y="48"/>
                  </a:lnTo>
                  <a:lnTo>
                    <a:pt x="70" y="93"/>
                  </a:lnTo>
                  <a:lnTo>
                    <a:pt x="142" y="93"/>
                  </a:lnTo>
                  <a:lnTo>
                    <a:pt x="168" y="120"/>
                  </a:lnTo>
                  <a:lnTo>
                    <a:pt x="217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97800" y="2816280"/>
              <a:ext cx="78120" cy="33840"/>
            </a:xfrm>
            <a:custGeom>
              <a:avLst/>
              <a:gdLst/>
              <a:ahLst/>
              <a:rect l="0" t="0" r="r" b="b"/>
              <a:pathLst>
                <a:path fill="none" w="217" h="94">
                  <a:moveTo>
                    <a:pt x="0" y="22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42" y="45"/>
                  </a:lnTo>
                  <a:lnTo>
                    <a:pt x="190" y="72"/>
                  </a:lnTo>
                  <a:lnTo>
                    <a:pt x="217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97800" y="285768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0"/>
                  </a:moveTo>
                  <a:lnTo>
                    <a:pt x="48" y="26"/>
                  </a:lnTo>
                  <a:lnTo>
                    <a:pt x="70" y="48"/>
                  </a:lnTo>
                  <a:lnTo>
                    <a:pt x="142" y="75"/>
                  </a:lnTo>
                  <a:lnTo>
                    <a:pt x="168" y="98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97800" y="2892600"/>
              <a:ext cx="78120" cy="25920"/>
            </a:xfrm>
            <a:custGeom>
              <a:avLst/>
              <a:gdLst/>
              <a:ahLst/>
              <a:rect l="0" t="0" r="r" b="b"/>
              <a:pathLst>
                <a:path fill="none" w="217" h="72">
                  <a:moveTo>
                    <a:pt x="0" y="0"/>
                  </a:moveTo>
                  <a:lnTo>
                    <a:pt x="48" y="23"/>
                  </a:lnTo>
                  <a:lnTo>
                    <a:pt x="70" y="49"/>
                  </a:lnTo>
                  <a:lnTo>
                    <a:pt x="142" y="72"/>
                  </a:lnTo>
                  <a:lnTo>
                    <a:pt x="168" y="72"/>
                  </a:lnTo>
                  <a:lnTo>
                    <a:pt x="21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7800" y="2925720"/>
              <a:ext cx="103680" cy="27360"/>
            </a:xfrm>
            <a:custGeom>
              <a:avLst/>
              <a:gdLst/>
              <a:ahLst/>
              <a:rect l="0" t="0" r="r" b="b"/>
              <a:pathLst>
                <a:path fill="none" w="288" h="76">
                  <a:moveTo>
                    <a:pt x="0" y="0"/>
                  </a:moveTo>
                  <a:lnTo>
                    <a:pt x="48" y="27"/>
                  </a:lnTo>
                  <a:lnTo>
                    <a:pt x="98" y="49"/>
                  </a:lnTo>
                  <a:lnTo>
                    <a:pt x="142" y="76"/>
                  </a:lnTo>
                  <a:lnTo>
                    <a:pt x="190" y="76"/>
                  </a:lnTo>
                  <a:lnTo>
                    <a:pt x="218" y="49"/>
                  </a:lnTo>
                  <a:lnTo>
                    <a:pt x="28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97800" y="2960640"/>
              <a:ext cx="111600" cy="25920"/>
            </a:xfrm>
            <a:custGeom>
              <a:avLst/>
              <a:gdLst/>
              <a:ahLst/>
              <a:rect l="0" t="0" r="r" b="b"/>
              <a:pathLst>
                <a:path fill="none" w="310" h="72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49"/>
                  </a:lnTo>
                  <a:lnTo>
                    <a:pt x="168" y="72"/>
                  </a:lnTo>
                  <a:lnTo>
                    <a:pt x="217" y="72"/>
                  </a:lnTo>
                  <a:lnTo>
                    <a:pt x="262" y="49"/>
                  </a:lnTo>
                  <a:lnTo>
                    <a:pt x="288" y="23"/>
                  </a:lnTo>
                  <a:lnTo>
                    <a:pt x="31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9780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0" y="0"/>
                  </a:moveTo>
                  <a:lnTo>
                    <a:pt x="48" y="23"/>
                  </a:lnTo>
                  <a:lnTo>
                    <a:pt x="98" y="50"/>
                  </a:lnTo>
                  <a:lnTo>
                    <a:pt x="142" y="50"/>
                  </a:lnTo>
                  <a:lnTo>
                    <a:pt x="190" y="50"/>
                  </a:lnTo>
                  <a:lnTo>
                    <a:pt x="217" y="50"/>
                  </a:lnTo>
                  <a:lnTo>
                    <a:pt x="288" y="50"/>
                  </a:lnTo>
                  <a:lnTo>
                    <a:pt x="310" y="50"/>
                  </a:lnTo>
                  <a:lnTo>
                    <a:pt x="33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97800" y="3021120"/>
              <a:ext cx="111600" cy="8280"/>
            </a:xfrm>
            <a:custGeom>
              <a:avLst/>
              <a:gdLst/>
              <a:ahLst/>
              <a:rect l="0" t="0" r="r" b="b"/>
              <a:pathLst>
                <a:path fill="none" w="310" h="23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23"/>
                  </a:lnTo>
                  <a:lnTo>
                    <a:pt x="168" y="0"/>
                  </a:lnTo>
                  <a:lnTo>
                    <a:pt x="217" y="23"/>
                  </a:lnTo>
                  <a:lnTo>
                    <a:pt x="262" y="23"/>
                  </a:lnTo>
                  <a:lnTo>
                    <a:pt x="288" y="23"/>
                  </a:lnTo>
                  <a:lnTo>
                    <a:pt x="3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272280" y="2619360"/>
            <a:ext cx="238680" cy="478080"/>
            <a:chOff x="6272280" y="2619360"/>
            <a:chExt cx="238680" cy="478080"/>
          </a:xfrm>
        </p:grpSpPr>
        <p:sp>
          <p:nvSpPr>
            <p:cNvPr id="423" name=""/>
            <p:cNvSpPr/>
            <p:nvPr/>
          </p:nvSpPr>
          <p:spPr>
            <a:xfrm>
              <a:off x="6375240" y="2619360"/>
              <a:ext cx="25920" cy="478080"/>
            </a:xfrm>
            <a:custGeom>
              <a:avLst/>
              <a:gdLst/>
              <a:ahLst/>
              <a:rect l="0" t="0" r="r" b="b"/>
              <a:pathLst>
                <a:path fill="none" w="72" h="1328">
                  <a:moveTo>
                    <a:pt x="45" y="22"/>
                  </a:moveTo>
                  <a:lnTo>
                    <a:pt x="45" y="70"/>
                  </a:lnTo>
                  <a:lnTo>
                    <a:pt x="45" y="141"/>
                  </a:lnTo>
                  <a:lnTo>
                    <a:pt x="45" y="211"/>
                  </a:lnTo>
                  <a:lnTo>
                    <a:pt x="45" y="282"/>
                  </a:lnTo>
                  <a:lnTo>
                    <a:pt x="45" y="379"/>
                  </a:lnTo>
                  <a:lnTo>
                    <a:pt x="45" y="449"/>
                  </a:lnTo>
                  <a:lnTo>
                    <a:pt x="45" y="520"/>
                  </a:lnTo>
                  <a:lnTo>
                    <a:pt x="45" y="590"/>
                  </a:lnTo>
                  <a:lnTo>
                    <a:pt x="45" y="661"/>
                  </a:lnTo>
                  <a:lnTo>
                    <a:pt x="45" y="737"/>
                  </a:lnTo>
                  <a:lnTo>
                    <a:pt x="45" y="807"/>
                  </a:lnTo>
                  <a:lnTo>
                    <a:pt x="45" y="852"/>
                  </a:lnTo>
                  <a:lnTo>
                    <a:pt x="45" y="927"/>
                  </a:lnTo>
                  <a:lnTo>
                    <a:pt x="23" y="971"/>
                  </a:lnTo>
                  <a:lnTo>
                    <a:pt x="23" y="1041"/>
                  </a:lnTo>
                  <a:lnTo>
                    <a:pt x="0" y="1116"/>
                  </a:lnTo>
                  <a:lnTo>
                    <a:pt x="0" y="1160"/>
                  </a:lnTo>
                  <a:lnTo>
                    <a:pt x="0" y="1231"/>
                  </a:lnTo>
                  <a:lnTo>
                    <a:pt x="0" y="1279"/>
                  </a:lnTo>
                  <a:lnTo>
                    <a:pt x="45" y="1328"/>
                  </a:lnTo>
                  <a:lnTo>
                    <a:pt x="72" y="1257"/>
                  </a:lnTo>
                  <a:lnTo>
                    <a:pt x="45" y="1209"/>
                  </a:lnTo>
                  <a:lnTo>
                    <a:pt x="45" y="1138"/>
                  </a:lnTo>
                  <a:lnTo>
                    <a:pt x="45" y="1090"/>
                  </a:lnTo>
                  <a:lnTo>
                    <a:pt x="45" y="1019"/>
                  </a:lnTo>
                  <a:lnTo>
                    <a:pt x="45" y="949"/>
                  </a:lnTo>
                  <a:lnTo>
                    <a:pt x="45" y="900"/>
                  </a:lnTo>
                  <a:lnTo>
                    <a:pt x="45" y="830"/>
                  </a:lnTo>
                  <a:lnTo>
                    <a:pt x="45" y="781"/>
                  </a:lnTo>
                  <a:lnTo>
                    <a:pt x="72" y="710"/>
                  </a:lnTo>
                  <a:lnTo>
                    <a:pt x="72" y="661"/>
                  </a:lnTo>
                  <a:lnTo>
                    <a:pt x="72" y="590"/>
                  </a:lnTo>
                  <a:lnTo>
                    <a:pt x="45" y="520"/>
                  </a:lnTo>
                  <a:lnTo>
                    <a:pt x="45" y="471"/>
                  </a:lnTo>
                  <a:lnTo>
                    <a:pt x="45" y="401"/>
                  </a:lnTo>
                  <a:lnTo>
                    <a:pt x="45" y="357"/>
                  </a:lnTo>
                  <a:lnTo>
                    <a:pt x="45" y="282"/>
                  </a:lnTo>
                  <a:lnTo>
                    <a:pt x="45" y="211"/>
                  </a:lnTo>
                  <a:lnTo>
                    <a:pt x="45" y="163"/>
                  </a:lnTo>
                  <a:lnTo>
                    <a:pt x="45" y="92"/>
                  </a:lnTo>
                  <a:lnTo>
                    <a:pt x="45" y="48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57960" y="2627280"/>
              <a:ext cx="33840" cy="60840"/>
            </a:xfrm>
            <a:custGeom>
              <a:avLst/>
              <a:gdLst/>
              <a:ahLst/>
              <a:rect l="0" t="0" r="r" b="b"/>
              <a:pathLst>
                <a:path fill="none" w="94" h="169">
                  <a:moveTo>
                    <a:pt x="94" y="0"/>
                  </a:moveTo>
                  <a:lnTo>
                    <a:pt x="49" y="49"/>
                  </a:lnTo>
                  <a:lnTo>
                    <a:pt x="22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4032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9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0" y="191"/>
                  </a:lnTo>
                  <a:lnTo>
                    <a:pt x="22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4032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142" y="0"/>
                  </a:moveTo>
                  <a:lnTo>
                    <a:pt x="142" y="49"/>
                  </a:lnTo>
                  <a:lnTo>
                    <a:pt x="70" y="71"/>
                  </a:lnTo>
                  <a:lnTo>
                    <a:pt x="48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32400" y="2755800"/>
              <a:ext cx="59040" cy="33840"/>
            </a:xfrm>
            <a:custGeom>
              <a:avLst/>
              <a:gdLst/>
              <a:ahLst/>
              <a:rect l="0" t="0" r="r" b="b"/>
              <a:pathLst>
                <a:path fill="none" w="164" h="94">
                  <a:moveTo>
                    <a:pt x="164" y="0"/>
                  </a:moveTo>
                  <a:lnTo>
                    <a:pt x="120" y="0"/>
                  </a:lnTo>
                  <a:lnTo>
                    <a:pt x="93" y="22"/>
                  </a:lnTo>
                  <a:lnTo>
                    <a:pt x="22" y="72"/>
                  </a:lnTo>
                  <a:lnTo>
                    <a:pt x="0" y="94"/>
                  </a:lnTo>
                  <a:lnTo>
                    <a:pt x="22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15120" y="2755800"/>
              <a:ext cx="76680" cy="60840"/>
            </a:xfrm>
            <a:custGeom>
              <a:avLst/>
              <a:gdLst/>
              <a:ahLst/>
              <a:rect l="0" t="0" r="r" b="b"/>
              <a:pathLst>
                <a:path fill="none" w="213" h="169">
                  <a:moveTo>
                    <a:pt x="213" y="0"/>
                  </a:moveTo>
                  <a:lnTo>
                    <a:pt x="213" y="71"/>
                  </a:lnTo>
                  <a:lnTo>
                    <a:pt x="169" y="93"/>
                  </a:lnTo>
                  <a:lnTo>
                    <a:pt x="142" y="143"/>
                  </a:lnTo>
                  <a:lnTo>
                    <a:pt x="71" y="143"/>
                  </a:lnTo>
                  <a:lnTo>
                    <a:pt x="48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15120" y="282420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213" y="0"/>
                  </a:moveTo>
                  <a:lnTo>
                    <a:pt x="169" y="48"/>
                  </a:lnTo>
                  <a:lnTo>
                    <a:pt x="142" y="93"/>
                  </a:lnTo>
                  <a:lnTo>
                    <a:pt x="71" y="93"/>
                  </a:lnTo>
                  <a:lnTo>
                    <a:pt x="48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15120" y="2816280"/>
              <a:ext cx="76680" cy="33840"/>
            </a:xfrm>
            <a:custGeom>
              <a:avLst/>
              <a:gdLst/>
              <a:ahLst/>
              <a:rect l="0" t="0" r="r" b="b"/>
              <a:pathLst>
                <a:path fill="none" w="213" h="94">
                  <a:moveTo>
                    <a:pt x="213" y="22"/>
                  </a:moveTo>
                  <a:lnTo>
                    <a:pt x="142" y="0"/>
                  </a:lnTo>
                  <a:lnTo>
                    <a:pt x="120" y="22"/>
                  </a:lnTo>
                  <a:lnTo>
                    <a:pt x="71" y="45"/>
                  </a:lnTo>
                  <a:lnTo>
                    <a:pt x="22" y="72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15120" y="285768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0"/>
                  </a:moveTo>
                  <a:lnTo>
                    <a:pt x="169" y="26"/>
                  </a:lnTo>
                  <a:lnTo>
                    <a:pt x="142" y="48"/>
                  </a:lnTo>
                  <a:lnTo>
                    <a:pt x="71" y="75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15120" y="2892600"/>
              <a:ext cx="76680" cy="25920"/>
            </a:xfrm>
            <a:custGeom>
              <a:avLst/>
              <a:gdLst/>
              <a:ahLst/>
              <a:rect l="0" t="0" r="r" b="b"/>
              <a:pathLst>
                <a:path fill="none" w="213" h="72">
                  <a:moveTo>
                    <a:pt x="213" y="0"/>
                  </a:moveTo>
                  <a:lnTo>
                    <a:pt x="169" y="23"/>
                  </a:lnTo>
                  <a:lnTo>
                    <a:pt x="142" y="49"/>
                  </a:lnTo>
                  <a:lnTo>
                    <a:pt x="7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89560" y="2925720"/>
              <a:ext cx="101880" cy="27360"/>
            </a:xfrm>
            <a:custGeom>
              <a:avLst/>
              <a:gdLst/>
              <a:ahLst/>
              <a:rect l="0" t="0" r="r" b="b"/>
              <a:pathLst>
                <a:path fill="none" w="283" h="76">
                  <a:moveTo>
                    <a:pt x="283" y="0"/>
                  </a:moveTo>
                  <a:lnTo>
                    <a:pt x="239" y="27"/>
                  </a:lnTo>
                  <a:lnTo>
                    <a:pt x="190" y="49"/>
                  </a:lnTo>
                  <a:lnTo>
                    <a:pt x="142" y="76"/>
                  </a:lnTo>
                  <a:lnTo>
                    <a:pt x="92" y="76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81640" y="2960640"/>
              <a:ext cx="109800" cy="25920"/>
            </a:xfrm>
            <a:custGeom>
              <a:avLst/>
              <a:gdLst/>
              <a:ahLst/>
              <a:rect l="0" t="0" r="r" b="b"/>
              <a:pathLst>
                <a:path fill="none" w="305" h="72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49"/>
                  </a:lnTo>
                  <a:lnTo>
                    <a:pt x="141" y="72"/>
                  </a:lnTo>
                  <a:lnTo>
                    <a:pt x="92" y="72"/>
                  </a:lnTo>
                  <a:lnTo>
                    <a:pt x="44" y="49"/>
                  </a:lnTo>
                  <a:lnTo>
                    <a:pt x="22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7228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332" y="0"/>
                  </a:moveTo>
                  <a:lnTo>
                    <a:pt x="288" y="23"/>
                  </a:lnTo>
                  <a:lnTo>
                    <a:pt x="239" y="50"/>
                  </a:lnTo>
                  <a:lnTo>
                    <a:pt x="190" y="50"/>
                  </a:lnTo>
                  <a:lnTo>
                    <a:pt x="142" y="50"/>
                  </a:lnTo>
                  <a:lnTo>
                    <a:pt x="120" y="50"/>
                  </a:lnTo>
                  <a:lnTo>
                    <a:pt x="48" y="50"/>
                  </a:lnTo>
                  <a:lnTo>
                    <a:pt x="26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81640" y="3021120"/>
              <a:ext cx="109800" cy="8280"/>
            </a:xfrm>
            <a:custGeom>
              <a:avLst/>
              <a:gdLst/>
              <a:ahLst/>
              <a:rect l="0" t="0" r="r" b="b"/>
              <a:pathLst>
                <a:path fill="none" w="305" h="23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23"/>
                  </a:lnTo>
                  <a:lnTo>
                    <a:pt x="141" y="0"/>
                  </a:lnTo>
                  <a:lnTo>
                    <a:pt x="92" y="23"/>
                  </a:lnTo>
                  <a:lnTo>
                    <a:pt x="44" y="23"/>
                  </a:lnTo>
                  <a:lnTo>
                    <a:pt x="22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1440" y="2627280"/>
              <a:ext cx="35280" cy="60840"/>
            </a:xfrm>
            <a:custGeom>
              <a:avLst/>
              <a:gdLst/>
              <a:ahLst/>
              <a:rect l="0" t="0" r="r" b="b"/>
              <a:pathLst>
                <a:path fill="none" w="98" h="169">
                  <a:moveTo>
                    <a:pt x="0" y="0"/>
                  </a:moveTo>
                  <a:lnTo>
                    <a:pt x="48" y="49"/>
                  </a:lnTo>
                  <a:lnTo>
                    <a:pt x="71" y="120"/>
                  </a:lnTo>
                  <a:lnTo>
                    <a:pt x="9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9144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0" y="0"/>
                  </a:moveTo>
                  <a:lnTo>
                    <a:pt x="4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142" y="191"/>
                  </a:lnTo>
                  <a:lnTo>
                    <a:pt x="12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9144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0" y="0"/>
                  </a:moveTo>
                  <a:lnTo>
                    <a:pt x="0" y="49"/>
                  </a:lnTo>
                  <a:lnTo>
                    <a:pt x="70" y="71"/>
                  </a:lnTo>
                  <a:lnTo>
                    <a:pt x="98" y="120"/>
                  </a:lnTo>
                  <a:lnTo>
                    <a:pt x="142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91440" y="2755800"/>
              <a:ext cx="60840" cy="33840"/>
            </a:xfrm>
            <a:custGeom>
              <a:avLst/>
              <a:gdLst/>
              <a:ahLst/>
              <a:rect l="0" t="0" r="r" b="b"/>
              <a:pathLst>
                <a:path fill="none" w="169" h="94">
                  <a:moveTo>
                    <a:pt x="0" y="0"/>
                  </a:moveTo>
                  <a:lnTo>
                    <a:pt x="49" y="0"/>
                  </a:lnTo>
                  <a:lnTo>
                    <a:pt x="71" y="22"/>
                  </a:lnTo>
                  <a:lnTo>
                    <a:pt x="143" y="72"/>
                  </a:lnTo>
                  <a:lnTo>
                    <a:pt x="169" y="94"/>
                  </a:lnTo>
                  <a:lnTo>
                    <a:pt x="143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91440" y="2755800"/>
              <a:ext cx="78120" cy="60840"/>
            </a:xfrm>
            <a:custGeom>
              <a:avLst/>
              <a:gdLst/>
              <a:ahLst/>
              <a:rect l="0" t="0" r="r" b="b"/>
              <a:pathLst>
                <a:path fill="none" w="217" h="169">
                  <a:moveTo>
                    <a:pt x="0" y="0"/>
                  </a:moveTo>
                  <a:lnTo>
                    <a:pt x="0" y="71"/>
                  </a:lnTo>
                  <a:lnTo>
                    <a:pt x="48" y="93"/>
                  </a:lnTo>
                  <a:lnTo>
                    <a:pt x="70" y="143"/>
                  </a:lnTo>
                  <a:lnTo>
                    <a:pt x="142" y="143"/>
                  </a:lnTo>
                  <a:lnTo>
                    <a:pt x="168" y="169"/>
                  </a:lnTo>
                  <a:lnTo>
                    <a:pt x="217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440" y="2824200"/>
              <a:ext cx="78120" cy="43200"/>
            </a:xfrm>
            <a:custGeom>
              <a:avLst/>
              <a:gdLst/>
              <a:ahLst/>
              <a:rect l="0" t="0" r="r" b="b"/>
              <a:pathLst>
                <a:path fill="none" w="217" h="120">
                  <a:moveTo>
                    <a:pt x="0" y="0"/>
                  </a:moveTo>
                  <a:lnTo>
                    <a:pt x="48" y="48"/>
                  </a:lnTo>
                  <a:lnTo>
                    <a:pt x="70" y="93"/>
                  </a:lnTo>
                  <a:lnTo>
                    <a:pt x="142" y="93"/>
                  </a:lnTo>
                  <a:lnTo>
                    <a:pt x="168" y="120"/>
                  </a:lnTo>
                  <a:lnTo>
                    <a:pt x="217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91440" y="2816280"/>
              <a:ext cx="78120" cy="33840"/>
            </a:xfrm>
            <a:custGeom>
              <a:avLst/>
              <a:gdLst/>
              <a:ahLst/>
              <a:rect l="0" t="0" r="r" b="b"/>
              <a:pathLst>
                <a:path fill="none" w="217" h="94">
                  <a:moveTo>
                    <a:pt x="0" y="22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42" y="45"/>
                  </a:lnTo>
                  <a:lnTo>
                    <a:pt x="190" y="72"/>
                  </a:lnTo>
                  <a:lnTo>
                    <a:pt x="217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91440" y="285768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0"/>
                  </a:moveTo>
                  <a:lnTo>
                    <a:pt x="48" y="26"/>
                  </a:lnTo>
                  <a:lnTo>
                    <a:pt x="70" y="48"/>
                  </a:lnTo>
                  <a:lnTo>
                    <a:pt x="142" y="75"/>
                  </a:lnTo>
                  <a:lnTo>
                    <a:pt x="168" y="98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91440" y="2892600"/>
              <a:ext cx="78120" cy="25920"/>
            </a:xfrm>
            <a:custGeom>
              <a:avLst/>
              <a:gdLst/>
              <a:ahLst/>
              <a:rect l="0" t="0" r="r" b="b"/>
              <a:pathLst>
                <a:path fill="none" w="217" h="72">
                  <a:moveTo>
                    <a:pt x="0" y="0"/>
                  </a:moveTo>
                  <a:lnTo>
                    <a:pt x="48" y="23"/>
                  </a:lnTo>
                  <a:lnTo>
                    <a:pt x="70" y="49"/>
                  </a:lnTo>
                  <a:lnTo>
                    <a:pt x="142" y="72"/>
                  </a:lnTo>
                  <a:lnTo>
                    <a:pt x="168" y="72"/>
                  </a:lnTo>
                  <a:lnTo>
                    <a:pt x="21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91440" y="2925720"/>
              <a:ext cx="103680" cy="27360"/>
            </a:xfrm>
            <a:custGeom>
              <a:avLst/>
              <a:gdLst/>
              <a:ahLst/>
              <a:rect l="0" t="0" r="r" b="b"/>
              <a:pathLst>
                <a:path fill="none" w="288" h="76">
                  <a:moveTo>
                    <a:pt x="0" y="0"/>
                  </a:moveTo>
                  <a:lnTo>
                    <a:pt x="48" y="27"/>
                  </a:lnTo>
                  <a:lnTo>
                    <a:pt x="98" y="49"/>
                  </a:lnTo>
                  <a:lnTo>
                    <a:pt x="142" y="76"/>
                  </a:lnTo>
                  <a:lnTo>
                    <a:pt x="190" y="76"/>
                  </a:lnTo>
                  <a:lnTo>
                    <a:pt x="218" y="49"/>
                  </a:lnTo>
                  <a:lnTo>
                    <a:pt x="28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91440" y="2960640"/>
              <a:ext cx="111600" cy="25920"/>
            </a:xfrm>
            <a:custGeom>
              <a:avLst/>
              <a:gdLst/>
              <a:ahLst/>
              <a:rect l="0" t="0" r="r" b="b"/>
              <a:pathLst>
                <a:path fill="none" w="310" h="72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49"/>
                  </a:lnTo>
                  <a:lnTo>
                    <a:pt x="168" y="72"/>
                  </a:lnTo>
                  <a:lnTo>
                    <a:pt x="217" y="72"/>
                  </a:lnTo>
                  <a:lnTo>
                    <a:pt x="262" y="49"/>
                  </a:lnTo>
                  <a:lnTo>
                    <a:pt x="288" y="23"/>
                  </a:lnTo>
                  <a:lnTo>
                    <a:pt x="31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9144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0" y="0"/>
                  </a:moveTo>
                  <a:lnTo>
                    <a:pt x="48" y="23"/>
                  </a:lnTo>
                  <a:lnTo>
                    <a:pt x="98" y="50"/>
                  </a:lnTo>
                  <a:lnTo>
                    <a:pt x="142" y="50"/>
                  </a:lnTo>
                  <a:lnTo>
                    <a:pt x="190" y="50"/>
                  </a:lnTo>
                  <a:lnTo>
                    <a:pt x="217" y="50"/>
                  </a:lnTo>
                  <a:lnTo>
                    <a:pt x="288" y="50"/>
                  </a:lnTo>
                  <a:lnTo>
                    <a:pt x="310" y="50"/>
                  </a:lnTo>
                  <a:lnTo>
                    <a:pt x="33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1440" y="3021120"/>
              <a:ext cx="111600" cy="8280"/>
            </a:xfrm>
            <a:custGeom>
              <a:avLst/>
              <a:gdLst/>
              <a:ahLst/>
              <a:rect l="0" t="0" r="r" b="b"/>
              <a:pathLst>
                <a:path fill="none" w="310" h="23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23"/>
                  </a:lnTo>
                  <a:lnTo>
                    <a:pt x="168" y="0"/>
                  </a:lnTo>
                  <a:lnTo>
                    <a:pt x="217" y="23"/>
                  </a:lnTo>
                  <a:lnTo>
                    <a:pt x="262" y="23"/>
                  </a:lnTo>
                  <a:lnTo>
                    <a:pt x="288" y="23"/>
                  </a:lnTo>
                  <a:lnTo>
                    <a:pt x="3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85000" y="2541600"/>
            <a:ext cx="238680" cy="479880"/>
            <a:chOff x="6885000" y="2541600"/>
            <a:chExt cx="238680" cy="479880"/>
          </a:xfrm>
        </p:grpSpPr>
        <p:sp>
          <p:nvSpPr>
            <p:cNvPr id="451" name=""/>
            <p:cNvSpPr/>
            <p:nvPr/>
          </p:nvSpPr>
          <p:spPr>
            <a:xfrm>
              <a:off x="6988320" y="2541600"/>
              <a:ext cx="25920" cy="479880"/>
            </a:xfrm>
            <a:custGeom>
              <a:avLst/>
              <a:gdLst/>
              <a:ahLst/>
              <a:rect l="0" t="0" r="r" b="b"/>
              <a:pathLst>
                <a:path fill="none" w="72" h="1333">
                  <a:moveTo>
                    <a:pt x="45" y="26"/>
                  </a:moveTo>
                  <a:lnTo>
                    <a:pt x="45" y="74"/>
                  </a:lnTo>
                  <a:lnTo>
                    <a:pt x="45" y="145"/>
                  </a:lnTo>
                  <a:lnTo>
                    <a:pt x="45" y="216"/>
                  </a:lnTo>
                  <a:lnTo>
                    <a:pt x="45" y="286"/>
                  </a:lnTo>
                  <a:lnTo>
                    <a:pt x="45" y="380"/>
                  </a:lnTo>
                  <a:lnTo>
                    <a:pt x="45" y="455"/>
                  </a:lnTo>
                  <a:lnTo>
                    <a:pt x="45" y="525"/>
                  </a:lnTo>
                  <a:lnTo>
                    <a:pt x="45" y="596"/>
                  </a:lnTo>
                  <a:lnTo>
                    <a:pt x="45" y="666"/>
                  </a:lnTo>
                  <a:lnTo>
                    <a:pt x="45" y="737"/>
                  </a:lnTo>
                  <a:lnTo>
                    <a:pt x="45" y="807"/>
                  </a:lnTo>
                  <a:lnTo>
                    <a:pt x="45" y="856"/>
                  </a:lnTo>
                  <a:lnTo>
                    <a:pt x="45" y="927"/>
                  </a:lnTo>
                  <a:lnTo>
                    <a:pt x="23" y="975"/>
                  </a:lnTo>
                  <a:lnTo>
                    <a:pt x="23" y="1047"/>
                  </a:lnTo>
                  <a:lnTo>
                    <a:pt x="0" y="1117"/>
                  </a:lnTo>
                  <a:lnTo>
                    <a:pt x="0" y="1166"/>
                  </a:lnTo>
                  <a:lnTo>
                    <a:pt x="0" y="1236"/>
                  </a:lnTo>
                  <a:lnTo>
                    <a:pt x="0" y="1285"/>
                  </a:lnTo>
                  <a:lnTo>
                    <a:pt x="45" y="1333"/>
                  </a:lnTo>
                  <a:lnTo>
                    <a:pt x="72" y="1258"/>
                  </a:lnTo>
                  <a:lnTo>
                    <a:pt x="45" y="1214"/>
                  </a:lnTo>
                  <a:lnTo>
                    <a:pt x="45" y="1144"/>
                  </a:lnTo>
                  <a:lnTo>
                    <a:pt x="45" y="1095"/>
                  </a:lnTo>
                  <a:lnTo>
                    <a:pt x="45" y="1025"/>
                  </a:lnTo>
                  <a:lnTo>
                    <a:pt x="45" y="953"/>
                  </a:lnTo>
                  <a:lnTo>
                    <a:pt x="45" y="904"/>
                  </a:lnTo>
                  <a:lnTo>
                    <a:pt x="45" y="834"/>
                  </a:lnTo>
                  <a:lnTo>
                    <a:pt x="45" y="785"/>
                  </a:lnTo>
                  <a:lnTo>
                    <a:pt x="72" y="715"/>
                  </a:lnTo>
                  <a:lnTo>
                    <a:pt x="72" y="666"/>
                  </a:lnTo>
                  <a:lnTo>
                    <a:pt x="72" y="596"/>
                  </a:lnTo>
                  <a:lnTo>
                    <a:pt x="45" y="525"/>
                  </a:lnTo>
                  <a:lnTo>
                    <a:pt x="45" y="477"/>
                  </a:lnTo>
                  <a:lnTo>
                    <a:pt x="45" y="406"/>
                  </a:lnTo>
                  <a:lnTo>
                    <a:pt x="45" y="358"/>
                  </a:lnTo>
                  <a:lnTo>
                    <a:pt x="45" y="286"/>
                  </a:lnTo>
                  <a:lnTo>
                    <a:pt x="45" y="216"/>
                  </a:lnTo>
                  <a:lnTo>
                    <a:pt x="45" y="167"/>
                  </a:lnTo>
                  <a:lnTo>
                    <a:pt x="45" y="97"/>
                  </a:lnTo>
                  <a:lnTo>
                    <a:pt x="45" y="48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70680" y="2550960"/>
              <a:ext cx="33840" cy="59040"/>
            </a:xfrm>
            <a:custGeom>
              <a:avLst/>
              <a:gdLst/>
              <a:ahLst/>
              <a:rect l="0" t="0" r="r" b="b"/>
              <a:pathLst>
                <a:path fill="none" w="94" h="164">
                  <a:moveTo>
                    <a:pt x="94" y="0"/>
                  </a:moveTo>
                  <a:lnTo>
                    <a:pt x="49" y="48"/>
                  </a:lnTo>
                  <a:lnTo>
                    <a:pt x="22" y="120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3400" y="257652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9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0" y="191"/>
                  </a:lnTo>
                  <a:lnTo>
                    <a:pt x="26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53400" y="261936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42" y="0"/>
                  </a:moveTo>
                  <a:lnTo>
                    <a:pt x="142" y="48"/>
                  </a:lnTo>
                  <a:lnTo>
                    <a:pt x="70" y="70"/>
                  </a:lnTo>
                  <a:lnTo>
                    <a:pt x="48" y="120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45480" y="2678040"/>
              <a:ext cx="59040" cy="35280"/>
            </a:xfrm>
            <a:custGeom>
              <a:avLst/>
              <a:gdLst/>
              <a:ahLst/>
              <a:rect l="0" t="0" r="r" b="b"/>
              <a:pathLst>
                <a:path fill="none" w="164" h="98">
                  <a:moveTo>
                    <a:pt x="164" y="0"/>
                  </a:moveTo>
                  <a:lnTo>
                    <a:pt x="120" y="0"/>
                  </a:lnTo>
                  <a:lnTo>
                    <a:pt x="93" y="26"/>
                  </a:lnTo>
                  <a:lnTo>
                    <a:pt x="22" y="75"/>
                  </a:lnTo>
                  <a:lnTo>
                    <a:pt x="0" y="98"/>
                  </a:lnTo>
                  <a:lnTo>
                    <a:pt x="22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27840" y="2678040"/>
              <a:ext cx="76680" cy="60840"/>
            </a:xfrm>
            <a:custGeom>
              <a:avLst/>
              <a:gdLst/>
              <a:ahLst/>
              <a:rect l="0" t="0" r="r" b="b"/>
              <a:pathLst>
                <a:path fill="none" w="213" h="169">
                  <a:moveTo>
                    <a:pt x="213" y="0"/>
                  </a:moveTo>
                  <a:lnTo>
                    <a:pt x="213" y="75"/>
                  </a:lnTo>
                  <a:lnTo>
                    <a:pt x="169" y="98"/>
                  </a:lnTo>
                  <a:lnTo>
                    <a:pt x="142" y="147"/>
                  </a:lnTo>
                  <a:lnTo>
                    <a:pt x="71" y="147"/>
                  </a:lnTo>
                  <a:lnTo>
                    <a:pt x="48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27840" y="2747880"/>
              <a:ext cx="76680" cy="41760"/>
            </a:xfrm>
            <a:custGeom>
              <a:avLst/>
              <a:gdLst/>
              <a:ahLst/>
              <a:rect l="0" t="0" r="r" b="b"/>
              <a:pathLst>
                <a:path fill="none" w="213" h="116">
                  <a:moveTo>
                    <a:pt x="213" y="0"/>
                  </a:moveTo>
                  <a:lnTo>
                    <a:pt x="169" y="45"/>
                  </a:lnTo>
                  <a:lnTo>
                    <a:pt x="142" y="94"/>
                  </a:lnTo>
                  <a:lnTo>
                    <a:pt x="71" y="94"/>
                  </a:lnTo>
                  <a:lnTo>
                    <a:pt x="48" y="116"/>
                  </a:lnTo>
                  <a:lnTo>
                    <a:pt x="0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27840" y="273852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26"/>
                  </a:moveTo>
                  <a:lnTo>
                    <a:pt x="142" y="0"/>
                  </a:lnTo>
                  <a:lnTo>
                    <a:pt x="120" y="26"/>
                  </a:lnTo>
                  <a:lnTo>
                    <a:pt x="71" y="48"/>
                  </a:lnTo>
                  <a:lnTo>
                    <a:pt x="22" y="71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27840" y="278136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0"/>
                  </a:moveTo>
                  <a:lnTo>
                    <a:pt x="169" y="22"/>
                  </a:lnTo>
                  <a:lnTo>
                    <a:pt x="142" y="48"/>
                  </a:lnTo>
                  <a:lnTo>
                    <a:pt x="71" y="71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7840" y="2816280"/>
              <a:ext cx="76680" cy="25920"/>
            </a:xfrm>
            <a:custGeom>
              <a:avLst/>
              <a:gdLst/>
              <a:ahLst/>
              <a:rect l="0" t="0" r="r" b="b"/>
              <a:pathLst>
                <a:path fill="none" w="213" h="72">
                  <a:moveTo>
                    <a:pt x="213" y="0"/>
                  </a:moveTo>
                  <a:lnTo>
                    <a:pt x="169" y="23"/>
                  </a:lnTo>
                  <a:lnTo>
                    <a:pt x="142" y="45"/>
                  </a:lnTo>
                  <a:lnTo>
                    <a:pt x="7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02280" y="2849400"/>
              <a:ext cx="101880" cy="25920"/>
            </a:xfrm>
            <a:custGeom>
              <a:avLst/>
              <a:gdLst/>
              <a:ahLst/>
              <a:rect l="0" t="0" r="r" b="b"/>
              <a:pathLst>
                <a:path fill="none" w="283" h="72">
                  <a:moveTo>
                    <a:pt x="283" y="0"/>
                  </a:moveTo>
                  <a:lnTo>
                    <a:pt x="239" y="23"/>
                  </a:lnTo>
                  <a:lnTo>
                    <a:pt x="190" y="49"/>
                  </a:lnTo>
                  <a:lnTo>
                    <a:pt x="142" y="72"/>
                  </a:lnTo>
                  <a:lnTo>
                    <a:pt x="92" y="72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4360" y="2884320"/>
              <a:ext cx="109800" cy="25920"/>
            </a:xfrm>
            <a:custGeom>
              <a:avLst/>
              <a:gdLst/>
              <a:ahLst/>
              <a:rect l="0" t="0" r="r" b="b"/>
              <a:pathLst>
                <a:path fill="none" w="305" h="72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45"/>
                  </a:lnTo>
                  <a:lnTo>
                    <a:pt x="141" y="72"/>
                  </a:lnTo>
                  <a:lnTo>
                    <a:pt x="92" y="72"/>
                  </a:lnTo>
                  <a:lnTo>
                    <a:pt x="44" y="45"/>
                  </a:lnTo>
                  <a:lnTo>
                    <a:pt x="22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85000" y="2909880"/>
              <a:ext cx="119520" cy="16200"/>
            </a:xfrm>
            <a:custGeom>
              <a:avLst/>
              <a:gdLst/>
              <a:ahLst/>
              <a:rect l="0" t="0" r="r" b="b"/>
              <a:pathLst>
                <a:path fill="none" w="332" h="45">
                  <a:moveTo>
                    <a:pt x="332" y="0"/>
                  </a:moveTo>
                  <a:lnTo>
                    <a:pt x="288" y="23"/>
                  </a:lnTo>
                  <a:lnTo>
                    <a:pt x="239" y="45"/>
                  </a:lnTo>
                  <a:lnTo>
                    <a:pt x="190" y="45"/>
                  </a:lnTo>
                  <a:lnTo>
                    <a:pt x="142" y="45"/>
                  </a:lnTo>
                  <a:lnTo>
                    <a:pt x="120" y="45"/>
                  </a:lnTo>
                  <a:lnTo>
                    <a:pt x="48" y="45"/>
                  </a:lnTo>
                  <a:lnTo>
                    <a:pt x="26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94360" y="2943360"/>
              <a:ext cx="109800" cy="9720"/>
            </a:xfrm>
            <a:custGeom>
              <a:avLst/>
              <a:gdLst/>
              <a:ahLst/>
              <a:rect l="0" t="0" r="r" b="b"/>
              <a:pathLst>
                <a:path fill="none" w="305" h="27">
                  <a:moveTo>
                    <a:pt x="305" y="0"/>
                  </a:moveTo>
                  <a:lnTo>
                    <a:pt x="261" y="0"/>
                  </a:lnTo>
                  <a:lnTo>
                    <a:pt x="234" y="27"/>
                  </a:lnTo>
                  <a:lnTo>
                    <a:pt x="164" y="27"/>
                  </a:lnTo>
                  <a:lnTo>
                    <a:pt x="141" y="0"/>
                  </a:lnTo>
                  <a:lnTo>
                    <a:pt x="92" y="27"/>
                  </a:lnTo>
                  <a:lnTo>
                    <a:pt x="44" y="27"/>
                  </a:lnTo>
                  <a:lnTo>
                    <a:pt x="22" y="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04160" y="2550960"/>
              <a:ext cx="35280" cy="59040"/>
            </a:xfrm>
            <a:custGeom>
              <a:avLst/>
              <a:gdLst/>
              <a:ahLst/>
              <a:rect l="0" t="0" r="r" b="b"/>
              <a:pathLst>
                <a:path fill="none" w="98" h="164">
                  <a:moveTo>
                    <a:pt x="0" y="0"/>
                  </a:moveTo>
                  <a:lnTo>
                    <a:pt x="48" y="48"/>
                  </a:lnTo>
                  <a:lnTo>
                    <a:pt x="71" y="120"/>
                  </a:lnTo>
                  <a:lnTo>
                    <a:pt x="98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4160" y="2576520"/>
              <a:ext cx="52920" cy="68760"/>
            </a:xfrm>
            <a:custGeom>
              <a:avLst/>
              <a:gdLst/>
              <a:ahLst/>
              <a:rect l="0" t="0" r="r" b="b"/>
              <a:pathLst>
                <a:path fill="none" w="147" h="191">
                  <a:moveTo>
                    <a:pt x="0" y="0"/>
                  </a:moveTo>
                  <a:lnTo>
                    <a:pt x="49" y="49"/>
                  </a:lnTo>
                  <a:lnTo>
                    <a:pt x="71" y="120"/>
                  </a:lnTo>
                  <a:lnTo>
                    <a:pt x="71" y="169"/>
                  </a:lnTo>
                  <a:lnTo>
                    <a:pt x="147" y="191"/>
                  </a:lnTo>
                  <a:lnTo>
                    <a:pt x="12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04160" y="261936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0" y="0"/>
                  </a:moveTo>
                  <a:lnTo>
                    <a:pt x="0" y="48"/>
                  </a:lnTo>
                  <a:lnTo>
                    <a:pt x="71" y="70"/>
                  </a:lnTo>
                  <a:lnTo>
                    <a:pt x="98" y="120"/>
                  </a:lnTo>
                  <a:lnTo>
                    <a:pt x="147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4160" y="2678040"/>
              <a:ext cx="60840" cy="35280"/>
            </a:xfrm>
            <a:custGeom>
              <a:avLst/>
              <a:gdLst/>
              <a:ahLst/>
              <a:rect l="0" t="0" r="r" b="b"/>
              <a:pathLst>
                <a:path fill="none" w="169" h="98">
                  <a:moveTo>
                    <a:pt x="0" y="0"/>
                  </a:moveTo>
                  <a:lnTo>
                    <a:pt x="49" y="0"/>
                  </a:lnTo>
                  <a:lnTo>
                    <a:pt x="71" y="26"/>
                  </a:lnTo>
                  <a:lnTo>
                    <a:pt x="147" y="75"/>
                  </a:lnTo>
                  <a:lnTo>
                    <a:pt x="169" y="98"/>
                  </a:lnTo>
                  <a:lnTo>
                    <a:pt x="147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04160" y="2678040"/>
              <a:ext cx="78120" cy="60840"/>
            </a:xfrm>
            <a:custGeom>
              <a:avLst/>
              <a:gdLst/>
              <a:ahLst/>
              <a:rect l="0" t="0" r="r" b="b"/>
              <a:pathLst>
                <a:path fill="none" w="217" h="169">
                  <a:moveTo>
                    <a:pt x="0" y="0"/>
                  </a:moveTo>
                  <a:lnTo>
                    <a:pt x="0" y="75"/>
                  </a:lnTo>
                  <a:lnTo>
                    <a:pt x="48" y="98"/>
                  </a:lnTo>
                  <a:lnTo>
                    <a:pt x="70" y="147"/>
                  </a:lnTo>
                  <a:lnTo>
                    <a:pt x="146" y="147"/>
                  </a:lnTo>
                  <a:lnTo>
                    <a:pt x="168" y="169"/>
                  </a:lnTo>
                  <a:lnTo>
                    <a:pt x="217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04160" y="2747880"/>
              <a:ext cx="78120" cy="41760"/>
            </a:xfrm>
            <a:custGeom>
              <a:avLst/>
              <a:gdLst/>
              <a:ahLst/>
              <a:rect l="0" t="0" r="r" b="b"/>
              <a:pathLst>
                <a:path fill="none" w="217" h="116">
                  <a:moveTo>
                    <a:pt x="0" y="0"/>
                  </a:moveTo>
                  <a:lnTo>
                    <a:pt x="48" y="45"/>
                  </a:lnTo>
                  <a:lnTo>
                    <a:pt x="70" y="94"/>
                  </a:lnTo>
                  <a:lnTo>
                    <a:pt x="146" y="94"/>
                  </a:lnTo>
                  <a:lnTo>
                    <a:pt x="168" y="116"/>
                  </a:lnTo>
                  <a:lnTo>
                    <a:pt x="217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04160" y="273852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26"/>
                  </a:moveTo>
                  <a:lnTo>
                    <a:pt x="70" y="0"/>
                  </a:lnTo>
                  <a:lnTo>
                    <a:pt x="97" y="26"/>
                  </a:lnTo>
                  <a:lnTo>
                    <a:pt x="146" y="48"/>
                  </a:lnTo>
                  <a:lnTo>
                    <a:pt x="190" y="71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04160" y="278136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0"/>
                  </a:moveTo>
                  <a:lnTo>
                    <a:pt x="48" y="22"/>
                  </a:lnTo>
                  <a:lnTo>
                    <a:pt x="70" y="48"/>
                  </a:lnTo>
                  <a:lnTo>
                    <a:pt x="146" y="71"/>
                  </a:lnTo>
                  <a:lnTo>
                    <a:pt x="168" y="98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04160" y="2816280"/>
              <a:ext cx="78120" cy="25920"/>
            </a:xfrm>
            <a:custGeom>
              <a:avLst/>
              <a:gdLst/>
              <a:ahLst/>
              <a:rect l="0" t="0" r="r" b="b"/>
              <a:pathLst>
                <a:path fill="none" w="217" h="72">
                  <a:moveTo>
                    <a:pt x="0" y="0"/>
                  </a:moveTo>
                  <a:lnTo>
                    <a:pt x="48" y="23"/>
                  </a:lnTo>
                  <a:lnTo>
                    <a:pt x="70" y="45"/>
                  </a:lnTo>
                  <a:lnTo>
                    <a:pt x="146" y="72"/>
                  </a:lnTo>
                  <a:lnTo>
                    <a:pt x="168" y="72"/>
                  </a:lnTo>
                  <a:lnTo>
                    <a:pt x="21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04160" y="2849400"/>
              <a:ext cx="103680" cy="25920"/>
            </a:xfrm>
            <a:custGeom>
              <a:avLst/>
              <a:gdLst/>
              <a:ahLst/>
              <a:rect l="0" t="0" r="r" b="b"/>
              <a:pathLst>
                <a:path fill="none" w="288" h="72">
                  <a:moveTo>
                    <a:pt x="0" y="0"/>
                  </a:moveTo>
                  <a:lnTo>
                    <a:pt x="48" y="23"/>
                  </a:lnTo>
                  <a:lnTo>
                    <a:pt x="98" y="49"/>
                  </a:lnTo>
                  <a:lnTo>
                    <a:pt x="146" y="72"/>
                  </a:lnTo>
                  <a:lnTo>
                    <a:pt x="190" y="72"/>
                  </a:lnTo>
                  <a:lnTo>
                    <a:pt x="218" y="49"/>
                  </a:lnTo>
                  <a:lnTo>
                    <a:pt x="28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04160" y="2884320"/>
              <a:ext cx="111600" cy="25920"/>
            </a:xfrm>
            <a:custGeom>
              <a:avLst/>
              <a:gdLst/>
              <a:ahLst/>
              <a:rect l="0" t="0" r="r" b="b"/>
              <a:pathLst>
                <a:path fill="none" w="310" h="72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6" y="45"/>
                  </a:lnTo>
                  <a:lnTo>
                    <a:pt x="168" y="72"/>
                  </a:lnTo>
                  <a:lnTo>
                    <a:pt x="217" y="72"/>
                  </a:lnTo>
                  <a:lnTo>
                    <a:pt x="262" y="45"/>
                  </a:lnTo>
                  <a:lnTo>
                    <a:pt x="288" y="23"/>
                  </a:lnTo>
                  <a:lnTo>
                    <a:pt x="31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04160" y="2909880"/>
              <a:ext cx="119520" cy="16200"/>
            </a:xfrm>
            <a:custGeom>
              <a:avLst/>
              <a:gdLst/>
              <a:ahLst/>
              <a:rect l="0" t="0" r="r" b="b"/>
              <a:pathLst>
                <a:path fill="none" w="332" h="45">
                  <a:moveTo>
                    <a:pt x="0" y="0"/>
                  </a:moveTo>
                  <a:lnTo>
                    <a:pt x="48" y="23"/>
                  </a:lnTo>
                  <a:lnTo>
                    <a:pt x="98" y="45"/>
                  </a:lnTo>
                  <a:lnTo>
                    <a:pt x="146" y="45"/>
                  </a:lnTo>
                  <a:lnTo>
                    <a:pt x="190" y="45"/>
                  </a:lnTo>
                  <a:lnTo>
                    <a:pt x="217" y="45"/>
                  </a:lnTo>
                  <a:lnTo>
                    <a:pt x="288" y="45"/>
                  </a:lnTo>
                  <a:lnTo>
                    <a:pt x="310" y="45"/>
                  </a:lnTo>
                  <a:lnTo>
                    <a:pt x="33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04160" y="2943360"/>
              <a:ext cx="111600" cy="9720"/>
            </a:xfrm>
            <a:custGeom>
              <a:avLst/>
              <a:gdLst/>
              <a:ahLst/>
              <a:rect l="0" t="0" r="r" b="b"/>
              <a:pathLst>
                <a:path fill="none" w="310" h="27">
                  <a:moveTo>
                    <a:pt x="0" y="0"/>
                  </a:moveTo>
                  <a:lnTo>
                    <a:pt x="48" y="0"/>
                  </a:lnTo>
                  <a:lnTo>
                    <a:pt x="70" y="27"/>
                  </a:lnTo>
                  <a:lnTo>
                    <a:pt x="146" y="27"/>
                  </a:lnTo>
                  <a:lnTo>
                    <a:pt x="168" y="0"/>
                  </a:lnTo>
                  <a:lnTo>
                    <a:pt x="217" y="27"/>
                  </a:lnTo>
                  <a:lnTo>
                    <a:pt x="262" y="27"/>
                  </a:lnTo>
                  <a:lnTo>
                    <a:pt x="288" y="27"/>
                  </a:lnTo>
                  <a:lnTo>
                    <a:pt x="3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426360" y="2849400"/>
            <a:ext cx="314640" cy="632160"/>
            <a:chOff x="6426360" y="2849400"/>
            <a:chExt cx="314640" cy="632160"/>
          </a:xfrm>
        </p:grpSpPr>
        <p:sp>
          <p:nvSpPr>
            <p:cNvPr id="479" name=""/>
            <p:cNvSpPr/>
            <p:nvPr/>
          </p:nvSpPr>
          <p:spPr>
            <a:xfrm>
              <a:off x="6562800" y="2849400"/>
              <a:ext cx="33840" cy="632160"/>
            </a:xfrm>
            <a:custGeom>
              <a:avLst/>
              <a:gdLst/>
              <a:ahLst/>
              <a:rect l="0" t="0" r="r" b="b"/>
              <a:pathLst>
                <a:path fill="none" w="94" h="1756">
                  <a:moveTo>
                    <a:pt x="45" y="22"/>
                  </a:moveTo>
                  <a:lnTo>
                    <a:pt x="45" y="97"/>
                  </a:lnTo>
                  <a:lnTo>
                    <a:pt x="45" y="189"/>
                  </a:lnTo>
                  <a:lnTo>
                    <a:pt x="45" y="286"/>
                  </a:lnTo>
                  <a:lnTo>
                    <a:pt x="45" y="379"/>
                  </a:lnTo>
                  <a:lnTo>
                    <a:pt x="45" y="498"/>
                  </a:lnTo>
                  <a:lnTo>
                    <a:pt x="45" y="590"/>
                  </a:lnTo>
                  <a:lnTo>
                    <a:pt x="45" y="687"/>
                  </a:lnTo>
                  <a:lnTo>
                    <a:pt x="45" y="784"/>
                  </a:lnTo>
                  <a:lnTo>
                    <a:pt x="45" y="877"/>
                  </a:lnTo>
                  <a:lnTo>
                    <a:pt x="45" y="975"/>
                  </a:lnTo>
                  <a:lnTo>
                    <a:pt x="45" y="1068"/>
                  </a:lnTo>
                  <a:lnTo>
                    <a:pt x="45" y="1138"/>
                  </a:lnTo>
                  <a:lnTo>
                    <a:pt x="45" y="1235"/>
                  </a:lnTo>
                  <a:lnTo>
                    <a:pt x="22" y="1279"/>
                  </a:lnTo>
                  <a:lnTo>
                    <a:pt x="22" y="1376"/>
                  </a:lnTo>
                  <a:lnTo>
                    <a:pt x="0" y="1469"/>
                  </a:lnTo>
                  <a:lnTo>
                    <a:pt x="0" y="1544"/>
                  </a:lnTo>
                  <a:lnTo>
                    <a:pt x="0" y="1637"/>
                  </a:lnTo>
                  <a:lnTo>
                    <a:pt x="0" y="1685"/>
                  </a:lnTo>
                  <a:lnTo>
                    <a:pt x="45" y="1756"/>
                  </a:lnTo>
                  <a:lnTo>
                    <a:pt x="94" y="1659"/>
                  </a:lnTo>
                  <a:lnTo>
                    <a:pt x="45" y="1588"/>
                  </a:lnTo>
                  <a:lnTo>
                    <a:pt x="45" y="1495"/>
                  </a:lnTo>
                  <a:lnTo>
                    <a:pt x="45" y="1447"/>
                  </a:lnTo>
                  <a:lnTo>
                    <a:pt x="45" y="1354"/>
                  </a:lnTo>
                  <a:lnTo>
                    <a:pt x="45" y="1257"/>
                  </a:lnTo>
                  <a:lnTo>
                    <a:pt x="45" y="1187"/>
                  </a:lnTo>
                  <a:lnTo>
                    <a:pt x="45" y="1090"/>
                  </a:lnTo>
                  <a:lnTo>
                    <a:pt x="45" y="1046"/>
                  </a:lnTo>
                  <a:lnTo>
                    <a:pt x="94" y="949"/>
                  </a:lnTo>
                  <a:lnTo>
                    <a:pt x="94" y="877"/>
                  </a:lnTo>
                  <a:lnTo>
                    <a:pt x="94" y="784"/>
                  </a:lnTo>
                  <a:lnTo>
                    <a:pt x="45" y="687"/>
                  </a:lnTo>
                  <a:lnTo>
                    <a:pt x="45" y="617"/>
                  </a:lnTo>
                  <a:lnTo>
                    <a:pt x="45" y="520"/>
                  </a:lnTo>
                  <a:lnTo>
                    <a:pt x="45" y="476"/>
                  </a:lnTo>
                  <a:lnTo>
                    <a:pt x="45" y="379"/>
                  </a:lnTo>
                  <a:lnTo>
                    <a:pt x="45" y="286"/>
                  </a:lnTo>
                  <a:lnTo>
                    <a:pt x="45" y="211"/>
                  </a:lnTo>
                  <a:lnTo>
                    <a:pt x="45" y="119"/>
                  </a:lnTo>
                  <a:lnTo>
                    <a:pt x="45" y="70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35800" y="2857680"/>
              <a:ext cx="43200" cy="86040"/>
            </a:xfrm>
            <a:custGeom>
              <a:avLst/>
              <a:gdLst/>
              <a:ahLst/>
              <a:rect l="0" t="0" r="r" b="b"/>
              <a:pathLst>
                <a:path fill="none" w="120" h="239">
                  <a:moveTo>
                    <a:pt x="120" y="0"/>
                  </a:moveTo>
                  <a:lnTo>
                    <a:pt x="75" y="74"/>
                  </a:lnTo>
                  <a:lnTo>
                    <a:pt x="48" y="168"/>
                  </a:lnTo>
                  <a:lnTo>
                    <a:pt x="0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19960" y="2892600"/>
              <a:ext cx="59040" cy="93960"/>
            </a:xfrm>
            <a:custGeom>
              <a:avLst/>
              <a:gdLst/>
              <a:ahLst/>
              <a:rect l="0" t="0" r="r" b="b"/>
              <a:pathLst>
                <a:path fill="none" w="164" h="261">
                  <a:moveTo>
                    <a:pt x="164" y="0"/>
                  </a:moveTo>
                  <a:lnTo>
                    <a:pt x="120" y="70"/>
                  </a:lnTo>
                  <a:lnTo>
                    <a:pt x="93" y="168"/>
                  </a:lnTo>
                  <a:lnTo>
                    <a:pt x="93" y="239"/>
                  </a:lnTo>
                  <a:lnTo>
                    <a:pt x="0" y="261"/>
                  </a:lnTo>
                  <a:lnTo>
                    <a:pt x="22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9960" y="2952720"/>
              <a:ext cx="59040" cy="76680"/>
            </a:xfrm>
            <a:custGeom>
              <a:avLst/>
              <a:gdLst/>
              <a:ahLst/>
              <a:rect l="0" t="0" r="r" b="b"/>
              <a:pathLst>
                <a:path fill="none" w="164" h="213">
                  <a:moveTo>
                    <a:pt x="164" y="0"/>
                  </a:moveTo>
                  <a:lnTo>
                    <a:pt x="164" y="71"/>
                  </a:lnTo>
                  <a:lnTo>
                    <a:pt x="93" y="93"/>
                  </a:lnTo>
                  <a:lnTo>
                    <a:pt x="44" y="165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02320" y="302904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213" y="0"/>
                  </a:moveTo>
                  <a:lnTo>
                    <a:pt x="169" y="0"/>
                  </a:lnTo>
                  <a:lnTo>
                    <a:pt x="142" y="22"/>
                  </a:lnTo>
                  <a:lnTo>
                    <a:pt x="48" y="93"/>
                  </a:lnTo>
                  <a:lnTo>
                    <a:pt x="0" y="120"/>
                  </a:lnTo>
                  <a:lnTo>
                    <a:pt x="48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5040" y="3029040"/>
              <a:ext cx="93960" cy="76680"/>
            </a:xfrm>
            <a:custGeom>
              <a:avLst/>
              <a:gdLst/>
              <a:ahLst/>
              <a:rect l="0" t="0" r="r" b="b"/>
              <a:pathLst>
                <a:path fill="none" w="261" h="213">
                  <a:moveTo>
                    <a:pt x="261" y="0"/>
                  </a:moveTo>
                  <a:lnTo>
                    <a:pt x="261" y="93"/>
                  </a:lnTo>
                  <a:lnTo>
                    <a:pt x="217" y="120"/>
                  </a:lnTo>
                  <a:lnTo>
                    <a:pt x="190" y="191"/>
                  </a:lnTo>
                  <a:lnTo>
                    <a:pt x="97" y="191"/>
                  </a:lnTo>
                  <a:lnTo>
                    <a:pt x="48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85040" y="3122640"/>
              <a:ext cx="93960" cy="51120"/>
            </a:xfrm>
            <a:custGeom>
              <a:avLst/>
              <a:gdLst/>
              <a:ahLst/>
              <a:rect l="0" t="0" r="r" b="b"/>
              <a:pathLst>
                <a:path fill="none" w="261" h="142">
                  <a:moveTo>
                    <a:pt x="261" y="0"/>
                  </a:moveTo>
                  <a:lnTo>
                    <a:pt x="217" y="48"/>
                  </a:lnTo>
                  <a:lnTo>
                    <a:pt x="190" y="120"/>
                  </a:lnTo>
                  <a:lnTo>
                    <a:pt x="97" y="120"/>
                  </a:lnTo>
                  <a:lnTo>
                    <a:pt x="48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85040" y="3105000"/>
              <a:ext cx="93960" cy="52920"/>
            </a:xfrm>
            <a:custGeom>
              <a:avLst/>
              <a:gdLst/>
              <a:ahLst/>
              <a:rect l="0" t="0" r="r" b="b"/>
              <a:pathLst>
                <a:path fill="none" w="261" h="147">
                  <a:moveTo>
                    <a:pt x="261" y="49"/>
                  </a:moveTo>
                  <a:lnTo>
                    <a:pt x="190" y="0"/>
                  </a:lnTo>
                  <a:lnTo>
                    <a:pt x="142" y="49"/>
                  </a:lnTo>
                  <a:lnTo>
                    <a:pt x="97" y="75"/>
                  </a:lnTo>
                  <a:lnTo>
                    <a:pt x="26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85040" y="3165480"/>
              <a:ext cx="93960" cy="43200"/>
            </a:xfrm>
            <a:custGeom>
              <a:avLst/>
              <a:gdLst/>
              <a:ahLst/>
              <a:rect l="0" t="0" r="r" b="b"/>
              <a:pathLst>
                <a:path fill="none" w="261" h="120">
                  <a:moveTo>
                    <a:pt x="261" y="0"/>
                  </a:moveTo>
                  <a:lnTo>
                    <a:pt x="217" y="22"/>
                  </a:lnTo>
                  <a:lnTo>
                    <a:pt x="190" y="71"/>
                  </a:lnTo>
                  <a:lnTo>
                    <a:pt x="97" y="98"/>
                  </a:lnTo>
                  <a:lnTo>
                    <a:pt x="48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5040" y="3208320"/>
              <a:ext cx="93960" cy="33840"/>
            </a:xfrm>
            <a:custGeom>
              <a:avLst/>
              <a:gdLst/>
              <a:ahLst/>
              <a:rect l="0" t="0" r="r" b="b"/>
              <a:pathLst>
                <a:path fill="none" w="261" h="94">
                  <a:moveTo>
                    <a:pt x="261" y="0"/>
                  </a:moveTo>
                  <a:lnTo>
                    <a:pt x="217" y="49"/>
                  </a:lnTo>
                  <a:lnTo>
                    <a:pt x="190" y="72"/>
                  </a:lnTo>
                  <a:lnTo>
                    <a:pt x="97" y="94"/>
                  </a:lnTo>
                  <a:lnTo>
                    <a:pt x="48" y="94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51560" y="3259080"/>
              <a:ext cx="127440" cy="35280"/>
            </a:xfrm>
            <a:custGeom>
              <a:avLst/>
              <a:gdLst/>
              <a:ahLst/>
              <a:rect l="0" t="0" r="r" b="b"/>
              <a:pathLst>
                <a:path fill="none" w="354" h="98">
                  <a:moveTo>
                    <a:pt x="354" y="0"/>
                  </a:moveTo>
                  <a:lnTo>
                    <a:pt x="310" y="26"/>
                  </a:lnTo>
                  <a:lnTo>
                    <a:pt x="234" y="48"/>
                  </a:lnTo>
                  <a:lnTo>
                    <a:pt x="190" y="98"/>
                  </a:lnTo>
                  <a:lnTo>
                    <a:pt x="120" y="98"/>
                  </a:lnTo>
                  <a:lnTo>
                    <a:pt x="93" y="48"/>
                  </a:lnTo>
                  <a:lnTo>
                    <a:pt x="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34280" y="3301920"/>
              <a:ext cx="144720" cy="35280"/>
            </a:xfrm>
            <a:custGeom>
              <a:avLst/>
              <a:gdLst/>
              <a:ahLst/>
              <a:rect l="0" t="0" r="r" b="b"/>
              <a:pathLst>
                <a:path fill="none" w="402" h="98">
                  <a:moveTo>
                    <a:pt x="402" y="0"/>
                  </a:moveTo>
                  <a:lnTo>
                    <a:pt x="358" y="0"/>
                  </a:lnTo>
                  <a:lnTo>
                    <a:pt x="331" y="22"/>
                  </a:lnTo>
                  <a:lnTo>
                    <a:pt x="239" y="71"/>
                  </a:lnTo>
                  <a:lnTo>
                    <a:pt x="189" y="98"/>
                  </a:lnTo>
                  <a:lnTo>
                    <a:pt x="141" y="98"/>
                  </a:lnTo>
                  <a:lnTo>
                    <a:pt x="70" y="71"/>
                  </a:lnTo>
                  <a:lnTo>
                    <a:pt x="48" y="22"/>
                  </a:lnTo>
                  <a:lnTo>
                    <a:pt x="0" y="2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26360" y="3336840"/>
              <a:ext cx="152640" cy="16200"/>
            </a:xfrm>
            <a:custGeom>
              <a:avLst/>
              <a:gdLst/>
              <a:ahLst/>
              <a:rect l="0" t="0" r="r" b="b"/>
              <a:pathLst>
                <a:path fill="none" w="424" h="45">
                  <a:moveTo>
                    <a:pt x="424" y="0"/>
                  </a:moveTo>
                  <a:lnTo>
                    <a:pt x="380" y="23"/>
                  </a:lnTo>
                  <a:lnTo>
                    <a:pt x="305" y="45"/>
                  </a:lnTo>
                  <a:lnTo>
                    <a:pt x="261" y="45"/>
                  </a:lnTo>
                  <a:lnTo>
                    <a:pt x="189" y="45"/>
                  </a:lnTo>
                  <a:lnTo>
                    <a:pt x="163" y="45"/>
                  </a:lnTo>
                  <a:lnTo>
                    <a:pt x="70" y="45"/>
                  </a:lnTo>
                  <a:lnTo>
                    <a:pt x="22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34280" y="3378240"/>
              <a:ext cx="144720" cy="9720"/>
            </a:xfrm>
            <a:custGeom>
              <a:avLst/>
              <a:gdLst/>
              <a:ahLst/>
              <a:rect l="0" t="0" r="r" b="b"/>
              <a:pathLst>
                <a:path fill="none" w="402" h="27">
                  <a:moveTo>
                    <a:pt x="402" y="0"/>
                  </a:moveTo>
                  <a:lnTo>
                    <a:pt x="358" y="0"/>
                  </a:lnTo>
                  <a:lnTo>
                    <a:pt x="331" y="27"/>
                  </a:lnTo>
                  <a:lnTo>
                    <a:pt x="239" y="27"/>
                  </a:lnTo>
                  <a:lnTo>
                    <a:pt x="189" y="0"/>
                  </a:lnTo>
                  <a:lnTo>
                    <a:pt x="141" y="27"/>
                  </a:lnTo>
                  <a:lnTo>
                    <a:pt x="70" y="27"/>
                  </a:lnTo>
                  <a:lnTo>
                    <a:pt x="48" y="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78640" y="2857680"/>
              <a:ext cx="51120" cy="86040"/>
            </a:xfrm>
            <a:custGeom>
              <a:avLst/>
              <a:gdLst/>
              <a:ahLst/>
              <a:rect l="0" t="0" r="r" b="b"/>
              <a:pathLst>
                <a:path fill="none" w="142" h="239">
                  <a:moveTo>
                    <a:pt x="0" y="0"/>
                  </a:moveTo>
                  <a:lnTo>
                    <a:pt x="70" y="74"/>
                  </a:lnTo>
                  <a:lnTo>
                    <a:pt x="98" y="168"/>
                  </a:lnTo>
                  <a:lnTo>
                    <a:pt x="142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78640" y="2892600"/>
              <a:ext cx="68760" cy="93960"/>
            </a:xfrm>
            <a:custGeom>
              <a:avLst/>
              <a:gdLst/>
              <a:ahLst/>
              <a:rect l="0" t="0" r="r" b="b"/>
              <a:pathLst>
                <a:path fill="none" w="191" h="261">
                  <a:moveTo>
                    <a:pt x="0" y="0"/>
                  </a:moveTo>
                  <a:lnTo>
                    <a:pt x="71" y="70"/>
                  </a:lnTo>
                  <a:lnTo>
                    <a:pt x="98" y="168"/>
                  </a:lnTo>
                  <a:lnTo>
                    <a:pt x="98" y="239"/>
                  </a:lnTo>
                  <a:lnTo>
                    <a:pt x="191" y="261"/>
                  </a:lnTo>
                  <a:lnTo>
                    <a:pt x="169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78640" y="2952720"/>
              <a:ext cx="68760" cy="76680"/>
            </a:xfrm>
            <a:custGeom>
              <a:avLst/>
              <a:gdLst/>
              <a:ahLst/>
              <a:rect l="0" t="0" r="r" b="b"/>
              <a:pathLst>
                <a:path fill="none" w="191" h="213">
                  <a:moveTo>
                    <a:pt x="0" y="0"/>
                  </a:moveTo>
                  <a:lnTo>
                    <a:pt x="0" y="71"/>
                  </a:lnTo>
                  <a:lnTo>
                    <a:pt x="98" y="93"/>
                  </a:lnTo>
                  <a:lnTo>
                    <a:pt x="142" y="165"/>
                  </a:lnTo>
                  <a:lnTo>
                    <a:pt x="191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78640" y="3029040"/>
              <a:ext cx="86040" cy="43200"/>
            </a:xfrm>
            <a:custGeom>
              <a:avLst/>
              <a:gdLst/>
              <a:ahLst/>
              <a:rect l="0" t="0" r="r" b="b"/>
              <a:pathLst>
                <a:path fill="none" w="239" h="120">
                  <a:moveTo>
                    <a:pt x="0" y="0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90" y="93"/>
                  </a:lnTo>
                  <a:lnTo>
                    <a:pt x="239" y="120"/>
                  </a:lnTo>
                  <a:lnTo>
                    <a:pt x="19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78640" y="3029040"/>
              <a:ext cx="103680" cy="76680"/>
            </a:xfrm>
            <a:custGeom>
              <a:avLst/>
              <a:gdLst/>
              <a:ahLst/>
              <a:rect l="0" t="0" r="r" b="b"/>
              <a:pathLst>
                <a:path fill="none" w="288" h="213">
                  <a:moveTo>
                    <a:pt x="0" y="0"/>
                  </a:moveTo>
                  <a:lnTo>
                    <a:pt x="0" y="93"/>
                  </a:lnTo>
                  <a:lnTo>
                    <a:pt x="70" y="120"/>
                  </a:lnTo>
                  <a:lnTo>
                    <a:pt x="98" y="191"/>
                  </a:lnTo>
                  <a:lnTo>
                    <a:pt x="190" y="191"/>
                  </a:lnTo>
                  <a:lnTo>
                    <a:pt x="240" y="213"/>
                  </a:lnTo>
                  <a:lnTo>
                    <a:pt x="288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78640" y="3122640"/>
              <a:ext cx="103680" cy="51120"/>
            </a:xfrm>
            <a:custGeom>
              <a:avLst/>
              <a:gdLst/>
              <a:ahLst/>
              <a:rect l="0" t="0" r="r" b="b"/>
              <a:pathLst>
                <a:path fill="none" w="288" h="142">
                  <a:moveTo>
                    <a:pt x="0" y="0"/>
                  </a:moveTo>
                  <a:lnTo>
                    <a:pt x="70" y="48"/>
                  </a:lnTo>
                  <a:lnTo>
                    <a:pt x="98" y="120"/>
                  </a:lnTo>
                  <a:lnTo>
                    <a:pt x="190" y="120"/>
                  </a:lnTo>
                  <a:lnTo>
                    <a:pt x="240" y="142"/>
                  </a:lnTo>
                  <a:lnTo>
                    <a:pt x="288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78640" y="3105000"/>
              <a:ext cx="103680" cy="52920"/>
            </a:xfrm>
            <a:custGeom>
              <a:avLst/>
              <a:gdLst/>
              <a:ahLst/>
              <a:rect l="0" t="0" r="r" b="b"/>
              <a:pathLst>
                <a:path fill="none" w="288" h="147">
                  <a:moveTo>
                    <a:pt x="0" y="49"/>
                  </a:moveTo>
                  <a:lnTo>
                    <a:pt x="98" y="0"/>
                  </a:lnTo>
                  <a:lnTo>
                    <a:pt x="142" y="49"/>
                  </a:lnTo>
                  <a:lnTo>
                    <a:pt x="190" y="75"/>
                  </a:lnTo>
                  <a:lnTo>
                    <a:pt x="262" y="98"/>
                  </a:lnTo>
                  <a:lnTo>
                    <a:pt x="288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78640" y="3165480"/>
              <a:ext cx="103680" cy="43200"/>
            </a:xfrm>
            <a:custGeom>
              <a:avLst/>
              <a:gdLst/>
              <a:ahLst/>
              <a:rect l="0" t="0" r="r" b="b"/>
              <a:pathLst>
                <a:path fill="none" w="288" h="120">
                  <a:moveTo>
                    <a:pt x="0" y="0"/>
                  </a:moveTo>
                  <a:lnTo>
                    <a:pt x="70" y="22"/>
                  </a:lnTo>
                  <a:lnTo>
                    <a:pt x="98" y="71"/>
                  </a:lnTo>
                  <a:lnTo>
                    <a:pt x="190" y="98"/>
                  </a:lnTo>
                  <a:lnTo>
                    <a:pt x="240" y="120"/>
                  </a:lnTo>
                  <a:lnTo>
                    <a:pt x="28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78640" y="3208320"/>
              <a:ext cx="103680" cy="33840"/>
            </a:xfrm>
            <a:custGeom>
              <a:avLst/>
              <a:gdLst/>
              <a:ahLst/>
              <a:rect l="0" t="0" r="r" b="b"/>
              <a:pathLst>
                <a:path fill="none" w="288" h="94">
                  <a:moveTo>
                    <a:pt x="0" y="0"/>
                  </a:moveTo>
                  <a:lnTo>
                    <a:pt x="70" y="49"/>
                  </a:lnTo>
                  <a:lnTo>
                    <a:pt x="98" y="72"/>
                  </a:lnTo>
                  <a:lnTo>
                    <a:pt x="190" y="94"/>
                  </a:lnTo>
                  <a:lnTo>
                    <a:pt x="240" y="94"/>
                  </a:lnTo>
                  <a:lnTo>
                    <a:pt x="288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78640" y="3259080"/>
              <a:ext cx="136800" cy="35280"/>
            </a:xfrm>
            <a:custGeom>
              <a:avLst/>
              <a:gdLst/>
              <a:ahLst/>
              <a:rect l="0" t="0" r="r" b="b"/>
              <a:pathLst>
                <a:path fill="none" w="380" h="98">
                  <a:moveTo>
                    <a:pt x="0" y="0"/>
                  </a:moveTo>
                  <a:lnTo>
                    <a:pt x="70" y="26"/>
                  </a:lnTo>
                  <a:lnTo>
                    <a:pt x="141" y="48"/>
                  </a:lnTo>
                  <a:lnTo>
                    <a:pt x="189" y="98"/>
                  </a:lnTo>
                  <a:lnTo>
                    <a:pt x="261" y="98"/>
                  </a:lnTo>
                  <a:lnTo>
                    <a:pt x="287" y="48"/>
                  </a:lnTo>
                  <a:lnTo>
                    <a:pt x="38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78640" y="3301920"/>
              <a:ext cx="154440" cy="35280"/>
            </a:xfrm>
            <a:custGeom>
              <a:avLst/>
              <a:gdLst/>
              <a:ahLst/>
              <a:rect l="0" t="0" r="r" b="b"/>
              <a:pathLst>
                <a:path fill="none" w="429" h="98">
                  <a:moveTo>
                    <a:pt x="0" y="0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90" y="71"/>
                  </a:lnTo>
                  <a:lnTo>
                    <a:pt x="239" y="98"/>
                  </a:lnTo>
                  <a:lnTo>
                    <a:pt x="287" y="98"/>
                  </a:lnTo>
                  <a:lnTo>
                    <a:pt x="359" y="71"/>
                  </a:lnTo>
                  <a:lnTo>
                    <a:pt x="381" y="22"/>
                  </a:lnTo>
                  <a:lnTo>
                    <a:pt x="429" y="2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78640" y="3336840"/>
              <a:ext cx="162360" cy="16200"/>
            </a:xfrm>
            <a:custGeom>
              <a:avLst/>
              <a:gdLst/>
              <a:ahLst/>
              <a:rect l="0" t="0" r="r" b="b"/>
              <a:pathLst>
                <a:path fill="none" w="451" h="45">
                  <a:moveTo>
                    <a:pt x="0" y="0"/>
                  </a:moveTo>
                  <a:lnTo>
                    <a:pt x="70" y="23"/>
                  </a:lnTo>
                  <a:lnTo>
                    <a:pt x="142" y="45"/>
                  </a:lnTo>
                  <a:lnTo>
                    <a:pt x="190" y="45"/>
                  </a:lnTo>
                  <a:lnTo>
                    <a:pt x="261" y="45"/>
                  </a:lnTo>
                  <a:lnTo>
                    <a:pt x="287" y="45"/>
                  </a:lnTo>
                  <a:lnTo>
                    <a:pt x="381" y="45"/>
                  </a:lnTo>
                  <a:lnTo>
                    <a:pt x="429" y="45"/>
                  </a:lnTo>
                  <a:lnTo>
                    <a:pt x="451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78640" y="3378240"/>
              <a:ext cx="154440" cy="9720"/>
            </a:xfrm>
            <a:custGeom>
              <a:avLst/>
              <a:gdLst/>
              <a:ahLst/>
              <a:rect l="0" t="0" r="r" b="b"/>
              <a:pathLst>
                <a:path fill="none" w="429" h="27">
                  <a:moveTo>
                    <a:pt x="0" y="0"/>
                  </a:moveTo>
                  <a:lnTo>
                    <a:pt x="70" y="0"/>
                  </a:lnTo>
                  <a:lnTo>
                    <a:pt x="97" y="27"/>
                  </a:lnTo>
                  <a:lnTo>
                    <a:pt x="190" y="27"/>
                  </a:lnTo>
                  <a:lnTo>
                    <a:pt x="239" y="0"/>
                  </a:lnTo>
                  <a:lnTo>
                    <a:pt x="287" y="27"/>
                  </a:lnTo>
                  <a:lnTo>
                    <a:pt x="359" y="27"/>
                  </a:lnTo>
                  <a:lnTo>
                    <a:pt x="381" y="27"/>
                  </a:lnTo>
                  <a:lnTo>
                    <a:pt x="42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357800" y="2465280"/>
            <a:ext cx="160560" cy="324360"/>
            <a:chOff x="4357800" y="2465280"/>
            <a:chExt cx="160560" cy="324360"/>
          </a:xfrm>
        </p:grpSpPr>
        <p:sp>
          <p:nvSpPr>
            <p:cNvPr id="507" name=""/>
            <p:cNvSpPr/>
            <p:nvPr/>
          </p:nvSpPr>
          <p:spPr>
            <a:xfrm>
              <a:off x="4424400" y="2465280"/>
              <a:ext cx="18000" cy="324360"/>
            </a:xfrm>
            <a:custGeom>
              <a:avLst/>
              <a:gdLst/>
              <a:ahLst/>
              <a:rect l="0" t="0" r="r" b="b"/>
              <a:pathLst>
                <a:path fill="none" w="50" h="901">
                  <a:moveTo>
                    <a:pt x="50" y="22"/>
                  </a:moveTo>
                  <a:lnTo>
                    <a:pt x="50" y="48"/>
                  </a:lnTo>
                  <a:lnTo>
                    <a:pt x="50" y="97"/>
                  </a:lnTo>
                  <a:lnTo>
                    <a:pt x="27" y="141"/>
                  </a:lnTo>
                  <a:lnTo>
                    <a:pt x="27" y="189"/>
                  </a:lnTo>
                  <a:lnTo>
                    <a:pt x="27" y="261"/>
                  </a:lnTo>
                  <a:lnTo>
                    <a:pt x="27" y="309"/>
                  </a:lnTo>
                  <a:lnTo>
                    <a:pt x="27" y="358"/>
                  </a:lnTo>
                  <a:lnTo>
                    <a:pt x="27" y="402"/>
                  </a:lnTo>
                  <a:lnTo>
                    <a:pt x="27" y="450"/>
                  </a:lnTo>
                  <a:lnTo>
                    <a:pt x="27" y="499"/>
                  </a:lnTo>
                  <a:lnTo>
                    <a:pt x="27" y="547"/>
                  </a:lnTo>
                  <a:lnTo>
                    <a:pt x="27" y="569"/>
                  </a:lnTo>
                  <a:lnTo>
                    <a:pt x="27" y="640"/>
                  </a:lnTo>
                  <a:lnTo>
                    <a:pt x="27" y="666"/>
                  </a:lnTo>
                  <a:lnTo>
                    <a:pt x="27" y="711"/>
                  </a:lnTo>
                  <a:lnTo>
                    <a:pt x="0" y="760"/>
                  </a:lnTo>
                  <a:lnTo>
                    <a:pt x="0" y="786"/>
                  </a:lnTo>
                  <a:lnTo>
                    <a:pt x="0" y="831"/>
                  </a:lnTo>
                  <a:lnTo>
                    <a:pt x="0" y="879"/>
                  </a:lnTo>
                  <a:lnTo>
                    <a:pt x="50" y="901"/>
                  </a:lnTo>
                  <a:lnTo>
                    <a:pt x="50" y="857"/>
                  </a:lnTo>
                  <a:lnTo>
                    <a:pt x="50" y="831"/>
                  </a:lnTo>
                  <a:lnTo>
                    <a:pt x="50" y="760"/>
                  </a:lnTo>
                  <a:lnTo>
                    <a:pt x="50" y="738"/>
                  </a:lnTo>
                  <a:lnTo>
                    <a:pt x="50" y="689"/>
                  </a:lnTo>
                  <a:lnTo>
                    <a:pt x="50" y="640"/>
                  </a:lnTo>
                  <a:lnTo>
                    <a:pt x="50" y="618"/>
                  </a:lnTo>
                  <a:lnTo>
                    <a:pt x="50" y="569"/>
                  </a:lnTo>
                  <a:lnTo>
                    <a:pt x="50" y="521"/>
                  </a:lnTo>
                  <a:lnTo>
                    <a:pt x="50" y="477"/>
                  </a:lnTo>
                  <a:lnTo>
                    <a:pt x="50" y="450"/>
                  </a:lnTo>
                  <a:lnTo>
                    <a:pt x="50" y="402"/>
                  </a:lnTo>
                  <a:lnTo>
                    <a:pt x="50" y="358"/>
                  </a:lnTo>
                  <a:lnTo>
                    <a:pt x="50" y="331"/>
                  </a:lnTo>
                  <a:lnTo>
                    <a:pt x="50" y="261"/>
                  </a:lnTo>
                  <a:lnTo>
                    <a:pt x="50" y="239"/>
                  </a:lnTo>
                  <a:lnTo>
                    <a:pt x="50" y="189"/>
                  </a:lnTo>
                  <a:lnTo>
                    <a:pt x="50" y="141"/>
                  </a:lnTo>
                  <a:lnTo>
                    <a:pt x="50" y="119"/>
                  </a:lnTo>
                  <a:lnTo>
                    <a:pt x="50" y="70"/>
                  </a:lnTo>
                  <a:lnTo>
                    <a:pt x="50" y="22"/>
                  </a:lnTo>
                  <a:lnTo>
                    <a:pt x="5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6480" y="247320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72" y="0"/>
                  </a:moveTo>
                  <a:lnTo>
                    <a:pt x="23" y="26"/>
                  </a:lnTo>
                  <a:lnTo>
                    <a:pt x="0" y="75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08560" y="2490840"/>
              <a:ext cx="33840" cy="43200"/>
            </a:xfrm>
            <a:custGeom>
              <a:avLst/>
              <a:gdLst/>
              <a:ahLst/>
              <a:rect l="0" t="0" r="r" b="b"/>
              <a:pathLst>
                <a:path fill="none" w="94" h="120">
                  <a:moveTo>
                    <a:pt x="94" y="0"/>
                  </a:moveTo>
                  <a:lnTo>
                    <a:pt x="45" y="26"/>
                  </a:lnTo>
                  <a:lnTo>
                    <a:pt x="45" y="71"/>
                  </a:lnTo>
                  <a:lnTo>
                    <a:pt x="22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98840" y="2516040"/>
              <a:ext cx="43200" cy="43200"/>
            </a:xfrm>
            <a:custGeom>
              <a:avLst/>
              <a:gdLst/>
              <a:ahLst/>
              <a:rect l="0" t="0" r="r" b="b"/>
              <a:pathLst>
                <a:path fill="none" w="120" h="120">
                  <a:moveTo>
                    <a:pt x="120" y="0"/>
                  </a:moveTo>
                  <a:lnTo>
                    <a:pt x="98" y="26"/>
                  </a:lnTo>
                  <a:lnTo>
                    <a:pt x="71" y="48"/>
                  </a:lnTo>
                  <a:lnTo>
                    <a:pt x="48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8840" y="25588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120" y="0"/>
                  </a:moveTo>
                  <a:lnTo>
                    <a:pt x="71" y="0"/>
                  </a:lnTo>
                  <a:lnTo>
                    <a:pt x="48" y="0"/>
                  </a:lnTo>
                  <a:lnTo>
                    <a:pt x="26" y="49"/>
                  </a:lnTo>
                  <a:lnTo>
                    <a:pt x="0" y="72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90920" y="2558880"/>
              <a:ext cx="51120" cy="43200"/>
            </a:xfrm>
            <a:custGeom>
              <a:avLst/>
              <a:gdLst/>
              <a:ahLst/>
              <a:rect l="0" t="0" r="r" b="b"/>
              <a:pathLst>
                <a:path fill="none" w="142" h="120">
                  <a:moveTo>
                    <a:pt x="142" y="0"/>
                  </a:moveTo>
                  <a:lnTo>
                    <a:pt x="142" y="48"/>
                  </a:lnTo>
                  <a:lnTo>
                    <a:pt x="93" y="71"/>
                  </a:lnTo>
                  <a:lnTo>
                    <a:pt x="70" y="98"/>
                  </a:lnTo>
                  <a:lnTo>
                    <a:pt x="48" y="98"/>
                  </a:lnTo>
                  <a:lnTo>
                    <a:pt x="22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3000" y="2602080"/>
              <a:ext cx="59040" cy="35280"/>
            </a:xfrm>
            <a:custGeom>
              <a:avLst/>
              <a:gdLst/>
              <a:ahLst/>
              <a:rect l="0" t="0" r="r" b="b"/>
              <a:pathLst>
                <a:path fill="none" w="164" h="98">
                  <a:moveTo>
                    <a:pt x="164" y="0"/>
                  </a:moveTo>
                  <a:lnTo>
                    <a:pt x="115" y="48"/>
                  </a:lnTo>
                  <a:lnTo>
                    <a:pt x="93" y="71"/>
                  </a:lnTo>
                  <a:lnTo>
                    <a:pt x="70" y="71"/>
                  </a:lnTo>
                  <a:lnTo>
                    <a:pt x="44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83000" y="260208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15" y="0"/>
                  </a:lnTo>
                  <a:lnTo>
                    <a:pt x="93" y="0"/>
                  </a:lnTo>
                  <a:lnTo>
                    <a:pt x="44" y="23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83000" y="2627280"/>
              <a:ext cx="59040" cy="25920"/>
            </a:xfrm>
            <a:custGeom>
              <a:avLst/>
              <a:gdLst/>
              <a:ahLst/>
              <a:rect l="0" t="0" r="r" b="b"/>
              <a:pathLst>
                <a:path fill="none" w="164" h="72">
                  <a:moveTo>
                    <a:pt x="164" y="0"/>
                  </a:moveTo>
                  <a:lnTo>
                    <a:pt x="115" y="27"/>
                  </a:lnTo>
                  <a:lnTo>
                    <a:pt x="93" y="27"/>
                  </a:lnTo>
                  <a:lnTo>
                    <a:pt x="70" y="49"/>
                  </a:lnTo>
                  <a:lnTo>
                    <a:pt x="44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3000" y="265284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15" y="0"/>
                  </a:lnTo>
                  <a:lnTo>
                    <a:pt x="93" y="27"/>
                  </a:lnTo>
                  <a:lnTo>
                    <a:pt x="70" y="50"/>
                  </a:lnTo>
                  <a:lnTo>
                    <a:pt x="44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73640" y="2670120"/>
              <a:ext cx="68760" cy="25920"/>
            </a:xfrm>
            <a:custGeom>
              <a:avLst/>
              <a:gdLst/>
              <a:ahLst/>
              <a:rect l="0" t="0" r="r" b="b"/>
              <a:pathLst>
                <a:path fill="none" w="191" h="72">
                  <a:moveTo>
                    <a:pt x="191" y="0"/>
                  </a:moveTo>
                  <a:lnTo>
                    <a:pt x="142" y="23"/>
                  </a:lnTo>
                  <a:lnTo>
                    <a:pt x="120" y="49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65720" y="2695680"/>
              <a:ext cx="76680" cy="18000"/>
            </a:xfrm>
            <a:custGeom>
              <a:avLst/>
              <a:gdLst/>
              <a:ahLst/>
              <a:rect l="0" t="0" r="r" b="b"/>
              <a:pathLst>
                <a:path fill="none" w="213" h="50">
                  <a:moveTo>
                    <a:pt x="213" y="0"/>
                  </a:moveTo>
                  <a:lnTo>
                    <a:pt x="165" y="0"/>
                  </a:lnTo>
                  <a:lnTo>
                    <a:pt x="142" y="27"/>
                  </a:lnTo>
                  <a:lnTo>
                    <a:pt x="120" y="27"/>
                  </a:lnTo>
                  <a:lnTo>
                    <a:pt x="93" y="50"/>
                  </a:lnTo>
                  <a:lnTo>
                    <a:pt x="48" y="50"/>
                  </a:lnTo>
                  <a:lnTo>
                    <a:pt x="22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57800" y="2712960"/>
              <a:ext cx="84600" cy="18000"/>
            </a:xfrm>
            <a:custGeom>
              <a:avLst/>
              <a:gdLst/>
              <a:ahLst/>
              <a:rect l="0" t="0" r="r" b="b"/>
              <a:pathLst>
                <a:path fill="none" w="235" h="50">
                  <a:moveTo>
                    <a:pt x="235" y="0"/>
                  </a:moveTo>
                  <a:lnTo>
                    <a:pt x="187" y="23"/>
                  </a:lnTo>
                  <a:lnTo>
                    <a:pt x="164" y="50"/>
                  </a:lnTo>
                  <a:lnTo>
                    <a:pt x="115" y="50"/>
                  </a:lnTo>
                  <a:lnTo>
                    <a:pt x="93" y="50"/>
                  </a:lnTo>
                  <a:lnTo>
                    <a:pt x="71" y="50"/>
                  </a:lnTo>
                  <a:lnTo>
                    <a:pt x="44" y="50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65720" y="2738520"/>
              <a:ext cx="75960" cy="0"/>
            </a:xfrm>
            <a:custGeom>
              <a:avLst/>
              <a:gdLst/>
              <a:ahLst/>
              <a:rect l="0" t="0" r="r" b="b"/>
              <a:pathLst>
                <a:path fill="none" w="211" h="0">
                  <a:moveTo>
                    <a:pt x="211" y="0"/>
                  </a:moveTo>
                  <a:lnTo>
                    <a:pt x="163" y="0"/>
                  </a:lnTo>
                  <a:lnTo>
                    <a:pt x="141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48" y="0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41680" y="2473200"/>
              <a:ext cx="18000" cy="43200"/>
            </a:xfrm>
            <a:custGeom>
              <a:avLst/>
              <a:gdLst/>
              <a:ahLst/>
              <a:rect l="0" t="0" r="r" b="b"/>
              <a:pathLst>
                <a:path fill="none" w="50" h="120">
                  <a:moveTo>
                    <a:pt x="0" y="0"/>
                  </a:moveTo>
                  <a:lnTo>
                    <a:pt x="23" y="26"/>
                  </a:lnTo>
                  <a:lnTo>
                    <a:pt x="50" y="75"/>
                  </a:lnTo>
                  <a:lnTo>
                    <a:pt x="5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41680" y="249084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0" y="0"/>
                  </a:moveTo>
                  <a:lnTo>
                    <a:pt x="23" y="26"/>
                  </a:lnTo>
                  <a:lnTo>
                    <a:pt x="23" y="71"/>
                  </a:lnTo>
                  <a:lnTo>
                    <a:pt x="49" y="98"/>
                  </a:lnTo>
                  <a:lnTo>
                    <a:pt x="72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41680" y="2516040"/>
              <a:ext cx="35280" cy="43200"/>
            </a:xfrm>
            <a:custGeom>
              <a:avLst/>
              <a:gdLst/>
              <a:ahLst/>
              <a:rect l="0" t="0" r="r" b="b"/>
              <a:pathLst>
                <a:path fill="none" w="98" h="120">
                  <a:moveTo>
                    <a:pt x="0" y="0"/>
                  </a:moveTo>
                  <a:lnTo>
                    <a:pt x="0" y="26"/>
                  </a:lnTo>
                  <a:lnTo>
                    <a:pt x="22" y="48"/>
                  </a:lnTo>
                  <a:lnTo>
                    <a:pt x="48" y="98"/>
                  </a:lnTo>
                  <a:lnTo>
                    <a:pt x="9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41680" y="255888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0" y="0"/>
                  </a:moveTo>
                  <a:lnTo>
                    <a:pt x="22" y="0"/>
                  </a:lnTo>
                  <a:lnTo>
                    <a:pt x="48" y="0"/>
                  </a:lnTo>
                  <a:lnTo>
                    <a:pt x="71" y="49"/>
                  </a:lnTo>
                  <a:lnTo>
                    <a:pt x="98" y="72"/>
                  </a:lnTo>
                  <a:lnTo>
                    <a:pt x="9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41680" y="2558880"/>
              <a:ext cx="43200" cy="43200"/>
            </a:xfrm>
            <a:custGeom>
              <a:avLst/>
              <a:gdLst/>
              <a:ahLst/>
              <a:rect l="0" t="0" r="r" b="b"/>
              <a:pathLst>
                <a:path fill="none" w="120" h="120">
                  <a:moveTo>
                    <a:pt x="0" y="0"/>
                  </a:moveTo>
                  <a:lnTo>
                    <a:pt x="0" y="48"/>
                  </a:lnTo>
                  <a:lnTo>
                    <a:pt x="22" y="71"/>
                  </a:lnTo>
                  <a:lnTo>
                    <a:pt x="48" y="98"/>
                  </a:lnTo>
                  <a:lnTo>
                    <a:pt x="71" y="98"/>
                  </a:lnTo>
                  <a:lnTo>
                    <a:pt x="98" y="120"/>
                  </a:lnTo>
                  <a:lnTo>
                    <a:pt x="12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2602080"/>
              <a:ext cx="51120" cy="35280"/>
            </a:xfrm>
            <a:custGeom>
              <a:avLst/>
              <a:gdLst/>
              <a:ahLst/>
              <a:rect l="0" t="0" r="r" b="b"/>
              <a:pathLst>
                <a:path fill="none" w="142" h="98">
                  <a:moveTo>
                    <a:pt x="0" y="0"/>
                  </a:moveTo>
                  <a:lnTo>
                    <a:pt x="22" y="48"/>
                  </a:lnTo>
                  <a:lnTo>
                    <a:pt x="48" y="71"/>
                  </a:lnTo>
                  <a:lnTo>
                    <a:pt x="70" y="71"/>
                  </a:lnTo>
                  <a:lnTo>
                    <a:pt x="98" y="98"/>
                  </a:lnTo>
                  <a:lnTo>
                    <a:pt x="1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2602080"/>
              <a:ext cx="51120" cy="18000"/>
            </a:xfrm>
            <a:custGeom>
              <a:avLst/>
              <a:gdLst/>
              <a:ahLst/>
              <a:rect l="0" t="0" r="r" b="b"/>
              <a:pathLst>
                <a:path fill="none" w="142" h="50">
                  <a:moveTo>
                    <a:pt x="0" y="0"/>
                  </a:moveTo>
                  <a:lnTo>
                    <a:pt x="22" y="0"/>
                  </a:lnTo>
                  <a:lnTo>
                    <a:pt x="48" y="0"/>
                  </a:lnTo>
                  <a:lnTo>
                    <a:pt x="98" y="23"/>
                  </a:lnTo>
                  <a:lnTo>
                    <a:pt x="120" y="50"/>
                  </a:lnTo>
                  <a:lnTo>
                    <a:pt x="14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2627280"/>
              <a:ext cx="51120" cy="25920"/>
            </a:xfrm>
            <a:custGeom>
              <a:avLst/>
              <a:gdLst/>
              <a:ahLst/>
              <a:rect l="0" t="0" r="r" b="b"/>
              <a:pathLst>
                <a:path fill="none" w="142" h="72">
                  <a:moveTo>
                    <a:pt x="0" y="0"/>
                  </a:moveTo>
                  <a:lnTo>
                    <a:pt x="22" y="27"/>
                  </a:lnTo>
                  <a:lnTo>
                    <a:pt x="48" y="27"/>
                  </a:lnTo>
                  <a:lnTo>
                    <a:pt x="70" y="49"/>
                  </a:lnTo>
                  <a:lnTo>
                    <a:pt x="98" y="72"/>
                  </a:lnTo>
                  <a:lnTo>
                    <a:pt x="142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2652840"/>
              <a:ext cx="51120" cy="18000"/>
            </a:xfrm>
            <a:custGeom>
              <a:avLst/>
              <a:gdLst/>
              <a:ahLst/>
              <a:rect l="0" t="0" r="r" b="b"/>
              <a:pathLst>
                <a:path fill="none" w="142" h="50">
                  <a:moveTo>
                    <a:pt x="0" y="0"/>
                  </a:moveTo>
                  <a:lnTo>
                    <a:pt x="22" y="0"/>
                  </a:lnTo>
                  <a:lnTo>
                    <a:pt x="48" y="27"/>
                  </a:lnTo>
                  <a:lnTo>
                    <a:pt x="70" y="50"/>
                  </a:lnTo>
                  <a:lnTo>
                    <a:pt x="98" y="50"/>
                  </a:lnTo>
                  <a:lnTo>
                    <a:pt x="14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1680" y="2670120"/>
              <a:ext cx="60840" cy="25920"/>
            </a:xfrm>
            <a:custGeom>
              <a:avLst/>
              <a:gdLst/>
              <a:ahLst/>
              <a:rect l="0" t="0" r="r" b="b"/>
              <a:pathLst>
                <a:path fill="none" w="169" h="72">
                  <a:moveTo>
                    <a:pt x="0" y="0"/>
                  </a:moveTo>
                  <a:lnTo>
                    <a:pt x="22" y="23"/>
                  </a:lnTo>
                  <a:lnTo>
                    <a:pt x="49" y="49"/>
                  </a:lnTo>
                  <a:lnTo>
                    <a:pt x="98" y="72"/>
                  </a:lnTo>
                  <a:lnTo>
                    <a:pt x="120" y="72"/>
                  </a:lnTo>
                  <a:lnTo>
                    <a:pt x="143" y="49"/>
                  </a:lnTo>
                  <a:lnTo>
                    <a:pt x="169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1680" y="2695680"/>
              <a:ext cx="68760" cy="18000"/>
            </a:xfrm>
            <a:custGeom>
              <a:avLst/>
              <a:gdLst/>
              <a:ahLst/>
              <a:rect l="0" t="0" r="r" b="b"/>
              <a:pathLst>
                <a:path fill="none" w="191" h="50">
                  <a:moveTo>
                    <a:pt x="0" y="0"/>
                  </a:moveTo>
                  <a:lnTo>
                    <a:pt x="22" y="0"/>
                  </a:lnTo>
                  <a:lnTo>
                    <a:pt x="49" y="27"/>
                  </a:lnTo>
                  <a:lnTo>
                    <a:pt x="71" y="27"/>
                  </a:lnTo>
                  <a:lnTo>
                    <a:pt x="98" y="50"/>
                  </a:lnTo>
                  <a:lnTo>
                    <a:pt x="142" y="50"/>
                  </a:lnTo>
                  <a:lnTo>
                    <a:pt x="169" y="27"/>
                  </a:lnTo>
                  <a:lnTo>
                    <a:pt x="191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41680" y="2712960"/>
              <a:ext cx="76680" cy="18000"/>
            </a:xfrm>
            <a:custGeom>
              <a:avLst/>
              <a:gdLst/>
              <a:ahLst/>
              <a:rect l="0" t="0" r="r" b="b"/>
              <a:pathLst>
                <a:path fill="none" w="213" h="50">
                  <a:moveTo>
                    <a:pt x="0" y="0"/>
                  </a:moveTo>
                  <a:lnTo>
                    <a:pt x="22" y="23"/>
                  </a:lnTo>
                  <a:lnTo>
                    <a:pt x="48" y="50"/>
                  </a:lnTo>
                  <a:lnTo>
                    <a:pt x="98" y="50"/>
                  </a:lnTo>
                  <a:lnTo>
                    <a:pt x="120" y="50"/>
                  </a:lnTo>
                  <a:lnTo>
                    <a:pt x="142" y="50"/>
                  </a:lnTo>
                  <a:lnTo>
                    <a:pt x="169" y="50"/>
                  </a:lnTo>
                  <a:lnTo>
                    <a:pt x="191" y="50"/>
                  </a:lnTo>
                  <a:lnTo>
                    <a:pt x="213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41680" y="2738520"/>
              <a:ext cx="68040" cy="0"/>
            </a:xfrm>
            <a:custGeom>
              <a:avLst/>
              <a:gdLst/>
              <a:ahLst/>
              <a:rect l="0" t="0" r="r" b="b"/>
              <a:pathLst>
                <a:path fill="none" w="189" h="0">
                  <a:moveTo>
                    <a:pt x="0" y="0"/>
                  </a:moveTo>
                  <a:lnTo>
                    <a:pt x="22" y="0"/>
                  </a:lnTo>
                  <a:lnTo>
                    <a:pt x="48" y="0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41" y="0"/>
                  </a:lnTo>
                  <a:lnTo>
                    <a:pt x="167" y="0"/>
                  </a:lnTo>
                  <a:lnTo>
                    <a:pt x="1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426360" y="2465280"/>
            <a:ext cx="162000" cy="324360"/>
            <a:chOff x="6426360" y="2465280"/>
            <a:chExt cx="162000" cy="324360"/>
          </a:xfrm>
        </p:grpSpPr>
        <p:sp>
          <p:nvSpPr>
            <p:cNvPr id="535" name=""/>
            <p:cNvSpPr/>
            <p:nvPr/>
          </p:nvSpPr>
          <p:spPr>
            <a:xfrm>
              <a:off x="6494400" y="2465280"/>
              <a:ext cx="16200" cy="324360"/>
            </a:xfrm>
            <a:custGeom>
              <a:avLst/>
              <a:gdLst/>
              <a:ahLst/>
              <a:rect l="0" t="0" r="r" b="b"/>
              <a:pathLst>
                <a:path fill="none" w="45" h="901">
                  <a:moveTo>
                    <a:pt x="45" y="22"/>
                  </a:moveTo>
                  <a:lnTo>
                    <a:pt x="45" y="48"/>
                  </a:lnTo>
                  <a:lnTo>
                    <a:pt x="45" y="97"/>
                  </a:lnTo>
                  <a:lnTo>
                    <a:pt x="23" y="141"/>
                  </a:lnTo>
                  <a:lnTo>
                    <a:pt x="23" y="189"/>
                  </a:lnTo>
                  <a:lnTo>
                    <a:pt x="23" y="261"/>
                  </a:lnTo>
                  <a:lnTo>
                    <a:pt x="23" y="309"/>
                  </a:lnTo>
                  <a:lnTo>
                    <a:pt x="23" y="358"/>
                  </a:lnTo>
                  <a:lnTo>
                    <a:pt x="23" y="402"/>
                  </a:lnTo>
                  <a:lnTo>
                    <a:pt x="23" y="450"/>
                  </a:lnTo>
                  <a:lnTo>
                    <a:pt x="23" y="499"/>
                  </a:lnTo>
                  <a:lnTo>
                    <a:pt x="23" y="547"/>
                  </a:lnTo>
                  <a:lnTo>
                    <a:pt x="23" y="569"/>
                  </a:lnTo>
                  <a:lnTo>
                    <a:pt x="23" y="640"/>
                  </a:lnTo>
                  <a:lnTo>
                    <a:pt x="23" y="666"/>
                  </a:lnTo>
                  <a:lnTo>
                    <a:pt x="23" y="711"/>
                  </a:lnTo>
                  <a:lnTo>
                    <a:pt x="0" y="760"/>
                  </a:lnTo>
                  <a:lnTo>
                    <a:pt x="0" y="786"/>
                  </a:lnTo>
                  <a:lnTo>
                    <a:pt x="0" y="831"/>
                  </a:lnTo>
                  <a:lnTo>
                    <a:pt x="0" y="879"/>
                  </a:lnTo>
                  <a:lnTo>
                    <a:pt x="45" y="901"/>
                  </a:lnTo>
                  <a:lnTo>
                    <a:pt x="45" y="857"/>
                  </a:lnTo>
                  <a:lnTo>
                    <a:pt x="45" y="831"/>
                  </a:lnTo>
                  <a:lnTo>
                    <a:pt x="45" y="760"/>
                  </a:lnTo>
                  <a:lnTo>
                    <a:pt x="45" y="738"/>
                  </a:lnTo>
                  <a:lnTo>
                    <a:pt x="45" y="689"/>
                  </a:lnTo>
                  <a:lnTo>
                    <a:pt x="45" y="640"/>
                  </a:lnTo>
                  <a:lnTo>
                    <a:pt x="45" y="618"/>
                  </a:lnTo>
                  <a:lnTo>
                    <a:pt x="45" y="569"/>
                  </a:lnTo>
                  <a:lnTo>
                    <a:pt x="45" y="521"/>
                  </a:lnTo>
                  <a:lnTo>
                    <a:pt x="45" y="477"/>
                  </a:lnTo>
                  <a:lnTo>
                    <a:pt x="45" y="450"/>
                  </a:lnTo>
                  <a:lnTo>
                    <a:pt x="45" y="402"/>
                  </a:lnTo>
                  <a:lnTo>
                    <a:pt x="45" y="358"/>
                  </a:lnTo>
                  <a:lnTo>
                    <a:pt x="45" y="331"/>
                  </a:lnTo>
                  <a:lnTo>
                    <a:pt x="45" y="261"/>
                  </a:lnTo>
                  <a:lnTo>
                    <a:pt x="45" y="239"/>
                  </a:lnTo>
                  <a:lnTo>
                    <a:pt x="45" y="189"/>
                  </a:lnTo>
                  <a:lnTo>
                    <a:pt x="45" y="141"/>
                  </a:lnTo>
                  <a:lnTo>
                    <a:pt x="45" y="119"/>
                  </a:lnTo>
                  <a:lnTo>
                    <a:pt x="45" y="70"/>
                  </a:lnTo>
                  <a:lnTo>
                    <a:pt x="45" y="22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85040" y="247320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72" y="0"/>
                  </a:moveTo>
                  <a:lnTo>
                    <a:pt x="27" y="26"/>
                  </a:lnTo>
                  <a:lnTo>
                    <a:pt x="0" y="75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490840"/>
              <a:ext cx="33840" cy="43200"/>
            </a:xfrm>
            <a:custGeom>
              <a:avLst/>
              <a:gdLst/>
              <a:ahLst/>
              <a:rect l="0" t="0" r="r" b="b"/>
              <a:pathLst>
                <a:path fill="none" w="94" h="120">
                  <a:moveTo>
                    <a:pt x="94" y="0"/>
                  </a:moveTo>
                  <a:lnTo>
                    <a:pt x="49" y="26"/>
                  </a:lnTo>
                  <a:lnTo>
                    <a:pt x="49" y="71"/>
                  </a:lnTo>
                  <a:lnTo>
                    <a:pt x="22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69200" y="2516040"/>
              <a:ext cx="41760" cy="43200"/>
            </a:xfrm>
            <a:custGeom>
              <a:avLst/>
              <a:gdLst/>
              <a:ahLst/>
              <a:rect l="0" t="0" r="r" b="b"/>
              <a:pathLst>
                <a:path fill="none" w="116" h="120">
                  <a:moveTo>
                    <a:pt x="116" y="0"/>
                  </a:moveTo>
                  <a:lnTo>
                    <a:pt x="94" y="26"/>
                  </a:lnTo>
                  <a:lnTo>
                    <a:pt x="71" y="48"/>
                  </a:lnTo>
                  <a:lnTo>
                    <a:pt x="45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69200" y="25588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116" y="0"/>
                  </a:moveTo>
                  <a:lnTo>
                    <a:pt x="71" y="0"/>
                  </a:lnTo>
                  <a:lnTo>
                    <a:pt x="45" y="0"/>
                  </a:lnTo>
                  <a:lnTo>
                    <a:pt x="22" y="49"/>
                  </a:lnTo>
                  <a:lnTo>
                    <a:pt x="0" y="72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9480" y="2558880"/>
              <a:ext cx="51120" cy="43200"/>
            </a:xfrm>
            <a:custGeom>
              <a:avLst/>
              <a:gdLst/>
              <a:ahLst/>
              <a:rect l="0" t="0" r="r" b="b"/>
              <a:pathLst>
                <a:path fill="none" w="142" h="120">
                  <a:moveTo>
                    <a:pt x="142" y="0"/>
                  </a:moveTo>
                  <a:lnTo>
                    <a:pt x="142" y="48"/>
                  </a:lnTo>
                  <a:lnTo>
                    <a:pt x="98" y="71"/>
                  </a:lnTo>
                  <a:lnTo>
                    <a:pt x="70" y="98"/>
                  </a:lnTo>
                  <a:lnTo>
                    <a:pt x="48" y="98"/>
                  </a:lnTo>
                  <a:lnTo>
                    <a:pt x="26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51560" y="2602080"/>
              <a:ext cx="59040" cy="35280"/>
            </a:xfrm>
            <a:custGeom>
              <a:avLst/>
              <a:gdLst/>
              <a:ahLst/>
              <a:rect l="0" t="0" r="r" b="b"/>
              <a:pathLst>
                <a:path fill="none" w="164" h="98">
                  <a:moveTo>
                    <a:pt x="164" y="0"/>
                  </a:moveTo>
                  <a:lnTo>
                    <a:pt x="120" y="48"/>
                  </a:lnTo>
                  <a:lnTo>
                    <a:pt x="93" y="71"/>
                  </a:lnTo>
                  <a:lnTo>
                    <a:pt x="70" y="71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51560" y="260208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20" y="0"/>
                  </a:lnTo>
                  <a:lnTo>
                    <a:pt x="93" y="0"/>
                  </a:lnTo>
                  <a:lnTo>
                    <a:pt x="48" y="23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51560" y="2627280"/>
              <a:ext cx="59040" cy="25920"/>
            </a:xfrm>
            <a:custGeom>
              <a:avLst/>
              <a:gdLst/>
              <a:ahLst/>
              <a:rect l="0" t="0" r="r" b="b"/>
              <a:pathLst>
                <a:path fill="none" w="164" h="72">
                  <a:moveTo>
                    <a:pt x="164" y="0"/>
                  </a:moveTo>
                  <a:lnTo>
                    <a:pt x="120" y="27"/>
                  </a:lnTo>
                  <a:lnTo>
                    <a:pt x="93" y="27"/>
                  </a:lnTo>
                  <a:lnTo>
                    <a:pt x="70" y="49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51560" y="265284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20" y="0"/>
                  </a:lnTo>
                  <a:lnTo>
                    <a:pt x="93" y="27"/>
                  </a:lnTo>
                  <a:lnTo>
                    <a:pt x="70" y="50"/>
                  </a:lnTo>
                  <a:lnTo>
                    <a:pt x="48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2200" y="2670120"/>
              <a:ext cx="68760" cy="25920"/>
            </a:xfrm>
            <a:custGeom>
              <a:avLst/>
              <a:gdLst/>
              <a:ahLst/>
              <a:rect l="0" t="0" r="r" b="b"/>
              <a:pathLst>
                <a:path fill="none" w="191" h="72">
                  <a:moveTo>
                    <a:pt x="191" y="0"/>
                  </a:moveTo>
                  <a:lnTo>
                    <a:pt x="147" y="23"/>
                  </a:lnTo>
                  <a:lnTo>
                    <a:pt x="120" y="49"/>
                  </a:lnTo>
                  <a:lnTo>
                    <a:pt x="75" y="72"/>
                  </a:lnTo>
                  <a:lnTo>
                    <a:pt x="49" y="72"/>
                  </a:lnTo>
                  <a:lnTo>
                    <a:pt x="26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34280" y="2695680"/>
              <a:ext cx="76680" cy="18000"/>
            </a:xfrm>
            <a:custGeom>
              <a:avLst/>
              <a:gdLst/>
              <a:ahLst/>
              <a:rect l="0" t="0" r="r" b="b"/>
              <a:pathLst>
                <a:path fill="none" w="213" h="50">
                  <a:moveTo>
                    <a:pt x="213" y="0"/>
                  </a:moveTo>
                  <a:lnTo>
                    <a:pt x="169" y="0"/>
                  </a:lnTo>
                  <a:lnTo>
                    <a:pt x="142" y="27"/>
                  </a:lnTo>
                  <a:lnTo>
                    <a:pt x="120" y="27"/>
                  </a:lnTo>
                  <a:lnTo>
                    <a:pt x="98" y="50"/>
                  </a:lnTo>
                  <a:lnTo>
                    <a:pt x="48" y="50"/>
                  </a:lnTo>
                  <a:lnTo>
                    <a:pt x="22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6360" y="2712960"/>
              <a:ext cx="84600" cy="18000"/>
            </a:xfrm>
            <a:custGeom>
              <a:avLst/>
              <a:gdLst/>
              <a:ahLst/>
              <a:rect l="0" t="0" r="r" b="b"/>
              <a:pathLst>
                <a:path fill="none" w="235" h="50">
                  <a:moveTo>
                    <a:pt x="235" y="0"/>
                  </a:moveTo>
                  <a:lnTo>
                    <a:pt x="191" y="23"/>
                  </a:lnTo>
                  <a:lnTo>
                    <a:pt x="164" y="50"/>
                  </a:lnTo>
                  <a:lnTo>
                    <a:pt x="120" y="50"/>
                  </a:lnTo>
                  <a:lnTo>
                    <a:pt x="93" y="50"/>
                  </a:lnTo>
                  <a:lnTo>
                    <a:pt x="71" y="50"/>
                  </a:lnTo>
                  <a:lnTo>
                    <a:pt x="44" y="50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34280" y="2738520"/>
              <a:ext cx="75960" cy="0"/>
            </a:xfrm>
            <a:custGeom>
              <a:avLst/>
              <a:gdLst/>
              <a:ahLst/>
              <a:rect l="0" t="0" r="r" b="b"/>
              <a:pathLst>
                <a:path fill="none" w="211" h="0">
                  <a:moveTo>
                    <a:pt x="211" y="0"/>
                  </a:moveTo>
                  <a:lnTo>
                    <a:pt x="167" y="0"/>
                  </a:lnTo>
                  <a:lnTo>
                    <a:pt x="141" y="0"/>
                  </a:lnTo>
                  <a:lnTo>
                    <a:pt x="119" y="0"/>
                  </a:lnTo>
                  <a:lnTo>
                    <a:pt x="97" y="0"/>
                  </a:lnTo>
                  <a:lnTo>
                    <a:pt x="48" y="0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10240" y="2473200"/>
              <a:ext cx="18000" cy="43200"/>
            </a:xfrm>
            <a:custGeom>
              <a:avLst/>
              <a:gdLst/>
              <a:ahLst/>
              <a:rect l="0" t="0" r="r" b="b"/>
              <a:pathLst>
                <a:path fill="none" w="50" h="120">
                  <a:moveTo>
                    <a:pt x="0" y="0"/>
                  </a:moveTo>
                  <a:lnTo>
                    <a:pt x="27" y="26"/>
                  </a:lnTo>
                  <a:lnTo>
                    <a:pt x="50" y="75"/>
                  </a:lnTo>
                  <a:lnTo>
                    <a:pt x="5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10240" y="249084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0" y="0"/>
                  </a:moveTo>
                  <a:lnTo>
                    <a:pt x="27" y="26"/>
                  </a:lnTo>
                  <a:lnTo>
                    <a:pt x="27" y="71"/>
                  </a:lnTo>
                  <a:lnTo>
                    <a:pt x="49" y="98"/>
                  </a:lnTo>
                  <a:lnTo>
                    <a:pt x="72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10240" y="2516040"/>
              <a:ext cx="35280" cy="43200"/>
            </a:xfrm>
            <a:custGeom>
              <a:avLst/>
              <a:gdLst/>
              <a:ahLst/>
              <a:rect l="0" t="0" r="r" b="b"/>
              <a:pathLst>
                <a:path fill="none" w="98" h="120">
                  <a:moveTo>
                    <a:pt x="0" y="0"/>
                  </a:moveTo>
                  <a:lnTo>
                    <a:pt x="0" y="26"/>
                  </a:lnTo>
                  <a:lnTo>
                    <a:pt x="26" y="48"/>
                  </a:lnTo>
                  <a:lnTo>
                    <a:pt x="48" y="98"/>
                  </a:lnTo>
                  <a:lnTo>
                    <a:pt x="9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10240" y="255888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0" y="0"/>
                  </a:moveTo>
                  <a:lnTo>
                    <a:pt x="26" y="0"/>
                  </a:lnTo>
                  <a:lnTo>
                    <a:pt x="48" y="0"/>
                  </a:lnTo>
                  <a:lnTo>
                    <a:pt x="71" y="49"/>
                  </a:lnTo>
                  <a:lnTo>
                    <a:pt x="98" y="72"/>
                  </a:lnTo>
                  <a:lnTo>
                    <a:pt x="9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10240" y="2558880"/>
              <a:ext cx="43200" cy="43200"/>
            </a:xfrm>
            <a:custGeom>
              <a:avLst/>
              <a:gdLst/>
              <a:ahLst/>
              <a:rect l="0" t="0" r="r" b="b"/>
              <a:pathLst>
                <a:path fill="none" w="120" h="120">
                  <a:moveTo>
                    <a:pt x="0" y="0"/>
                  </a:moveTo>
                  <a:lnTo>
                    <a:pt x="0" y="48"/>
                  </a:lnTo>
                  <a:lnTo>
                    <a:pt x="26" y="71"/>
                  </a:lnTo>
                  <a:lnTo>
                    <a:pt x="48" y="98"/>
                  </a:lnTo>
                  <a:lnTo>
                    <a:pt x="71" y="98"/>
                  </a:lnTo>
                  <a:lnTo>
                    <a:pt x="98" y="120"/>
                  </a:lnTo>
                  <a:lnTo>
                    <a:pt x="12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10240" y="2602080"/>
              <a:ext cx="52920" cy="35280"/>
            </a:xfrm>
            <a:custGeom>
              <a:avLst/>
              <a:gdLst/>
              <a:ahLst/>
              <a:rect l="0" t="0" r="r" b="b"/>
              <a:pathLst>
                <a:path fill="none" w="147" h="98">
                  <a:moveTo>
                    <a:pt x="0" y="0"/>
                  </a:moveTo>
                  <a:lnTo>
                    <a:pt x="26" y="48"/>
                  </a:lnTo>
                  <a:lnTo>
                    <a:pt x="49" y="71"/>
                  </a:lnTo>
                  <a:lnTo>
                    <a:pt x="71" y="71"/>
                  </a:lnTo>
                  <a:lnTo>
                    <a:pt x="98" y="98"/>
                  </a:lnTo>
                  <a:lnTo>
                    <a:pt x="14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10240" y="2602080"/>
              <a:ext cx="52920" cy="18000"/>
            </a:xfrm>
            <a:custGeom>
              <a:avLst/>
              <a:gdLst/>
              <a:ahLst/>
              <a:rect l="0" t="0" r="r" b="b"/>
              <a:pathLst>
                <a:path fill="none" w="147" h="50">
                  <a:moveTo>
                    <a:pt x="0" y="0"/>
                  </a:moveTo>
                  <a:lnTo>
                    <a:pt x="26" y="0"/>
                  </a:lnTo>
                  <a:lnTo>
                    <a:pt x="49" y="0"/>
                  </a:lnTo>
                  <a:lnTo>
                    <a:pt x="98" y="23"/>
                  </a:lnTo>
                  <a:lnTo>
                    <a:pt x="121" y="50"/>
                  </a:lnTo>
                  <a:lnTo>
                    <a:pt x="147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10240" y="2627280"/>
              <a:ext cx="52920" cy="25920"/>
            </a:xfrm>
            <a:custGeom>
              <a:avLst/>
              <a:gdLst/>
              <a:ahLst/>
              <a:rect l="0" t="0" r="r" b="b"/>
              <a:pathLst>
                <a:path fill="none" w="147" h="72">
                  <a:moveTo>
                    <a:pt x="0" y="0"/>
                  </a:moveTo>
                  <a:lnTo>
                    <a:pt x="26" y="27"/>
                  </a:lnTo>
                  <a:lnTo>
                    <a:pt x="49" y="27"/>
                  </a:lnTo>
                  <a:lnTo>
                    <a:pt x="71" y="49"/>
                  </a:lnTo>
                  <a:lnTo>
                    <a:pt x="98" y="72"/>
                  </a:lnTo>
                  <a:lnTo>
                    <a:pt x="14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10240" y="2652840"/>
              <a:ext cx="52920" cy="18000"/>
            </a:xfrm>
            <a:custGeom>
              <a:avLst/>
              <a:gdLst/>
              <a:ahLst/>
              <a:rect l="0" t="0" r="r" b="b"/>
              <a:pathLst>
                <a:path fill="none" w="147" h="50">
                  <a:moveTo>
                    <a:pt x="0" y="0"/>
                  </a:moveTo>
                  <a:lnTo>
                    <a:pt x="26" y="0"/>
                  </a:lnTo>
                  <a:lnTo>
                    <a:pt x="49" y="27"/>
                  </a:lnTo>
                  <a:lnTo>
                    <a:pt x="71" y="50"/>
                  </a:lnTo>
                  <a:lnTo>
                    <a:pt x="98" y="50"/>
                  </a:lnTo>
                  <a:lnTo>
                    <a:pt x="147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10240" y="2670120"/>
              <a:ext cx="60840" cy="25920"/>
            </a:xfrm>
            <a:custGeom>
              <a:avLst/>
              <a:gdLst/>
              <a:ahLst/>
              <a:rect l="0" t="0" r="r" b="b"/>
              <a:pathLst>
                <a:path fill="none" w="169" h="72">
                  <a:moveTo>
                    <a:pt x="0" y="0"/>
                  </a:moveTo>
                  <a:lnTo>
                    <a:pt x="26" y="23"/>
                  </a:lnTo>
                  <a:lnTo>
                    <a:pt x="49" y="49"/>
                  </a:lnTo>
                  <a:lnTo>
                    <a:pt x="98" y="72"/>
                  </a:lnTo>
                  <a:lnTo>
                    <a:pt x="120" y="72"/>
                  </a:lnTo>
                  <a:lnTo>
                    <a:pt x="147" y="49"/>
                  </a:lnTo>
                  <a:lnTo>
                    <a:pt x="169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10240" y="2695680"/>
              <a:ext cx="68760" cy="18000"/>
            </a:xfrm>
            <a:custGeom>
              <a:avLst/>
              <a:gdLst/>
              <a:ahLst/>
              <a:rect l="0" t="0" r="r" b="b"/>
              <a:pathLst>
                <a:path fill="none" w="191" h="50">
                  <a:moveTo>
                    <a:pt x="0" y="0"/>
                  </a:moveTo>
                  <a:lnTo>
                    <a:pt x="26" y="0"/>
                  </a:lnTo>
                  <a:lnTo>
                    <a:pt x="49" y="27"/>
                  </a:lnTo>
                  <a:lnTo>
                    <a:pt x="71" y="27"/>
                  </a:lnTo>
                  <a:lnTo>
                    <a:pt x="98" y="50"/>
                  </a:lnTo>
                  <a:lnTo>
                    <a:pt x="147" y="50"/>
                  </a:lnTo>
                  <a:lnTo>
                    <a:pt x="169" y="27"/>
                  </a:lnTo>
                  <a:lnTo>
                    <a:pt x="191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10240" y="2712960"/>
              <a:ext cx="78120" cy="18000"/>
            </a:xfrm>
            <a:custGeom>
              <a:avLst/>
              <a:gdLst/>
              <a:ahLst/>
              <a:rect l="0" t="0" r="r" b="b"/>
              <a:pathLst>
                <a:path fill="none" w="217" h="50">
                  <a:moveTo>
                    <a:pt x="0" y="0"/>
                  </a:moveTo>
                  <a:lnTo>
                    <a:pt x="26" y="23"/>
                  </a:lnTo>
                  <a:lnTo>
                    <a:pt x="48" y="50"/>
                  </a:lnTo>
                  <a:lnTo>
                    <a:pt x="97" y="50"/>
                  </a:lnTo>
                  <a:lnTo>
                    <a:pt x="120" y="50"/>
                  </a:lnTo>
                  <a:lnTo>
                    <a:pt x="146" y="50"/>
                  </a:lnTo>
                  <a:lnTo>
                    <a:pt x="168" y="50"/>
                  </a:lnTo>
                  <a:lnTo>
                    <a:pt x="190" y="50"/>
                  </a:lnTo>
                  <a:lnTo>
                    <a:pt x="217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10240" y="2738520"/>
              <a:ext cx="68040" cy="0"/>
            </a:xfrm>
            <a:custGeom>
              <a:avLst/>
              <a:gdLst/>
              <a:ahLst/>
              <a:rect l="0" t="0" r="r" b="b"/>
              <a:pathLst>
                <a:path fill="none" w="189" h="0">
                  <a:moveTo>
                    <a:pt x="0" y="0"/>
                  </a:moveTo>
                  <a:lnTo>
                    <a:pt x="26" y="0"/>
                  </a:lnTo>
                  <a:lnTo>
                    <a:pt x="48" y="0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514840" y="5710320"/>
            <a:ext cx="225360" cy="22536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514840" y="5478480"/>
            <a:ext cx="314640" cy="315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745240" y="5556240"/>
            <a:ext cx="31428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46720" y="5769000"/>
            <a:ext cx="260280" cy="28584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6076800" y="5402160"/>
            <a:ext cx="36540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948280" y="5675400"/>
            <a:ext cx="289080" cy="29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14840" y="540864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514840" y="563868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29160" y="5402160"/>
            <a:ext cx="86040" cy="230400"/>
          </a:xfrm>
          <a:custGeom>
            <a:avLst/>
            <a:gdLst/>
            <a:ahLst/>
            <a:rect l="0" t="0" r="r" b="b"/>
            <a:pathLst>
              <a:path fill="none" w="239" h="640">
                <a:moveTo>
                  <a:pt x="239" y="0"/>
                </a:moveTo>
                <a:lnTo>
                  <a:pt x="97" y="119"/>
                </a:lnTo>
                <a:lnTo>
                  <a:pt x="0" y="260"/>
                </a:lnTo>
                <a:lnTo>
                  <a:pt x="0" y="402"/>
                </a:lnTo>
                <a:lnTo>
                  <a:pt x="97" y="547"/>
                </a:lnTo>
                <a:lnTo>
                  <a:pt x="239" y="640"/>
                </a:lnTo>
                <a:lnTo>
                  <a:pt x="190" y="5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53160" y="4932360"/>
            <a:ext cx="375120" cy="649800"/>
          </a:xfrm>
          <a:custGeom>
            <a:avLst/>
            <a:gdLst/>
            <a:ahLst/>
            <a:rect l="0" t="0" r="r" b="b"/>
            <a:pathLst>
              <a:path fill="none" w="1042" h="1805">
                <a:moveTo>
                  <a:pt x="189" y="1735"/>
                </a:moveTo>
                <a:lnTo>
                  <a:pt x="0" y="1377"/>
                </a:lnTo>
                <a:lnTo>
                  <a:pt x="0" y="1235"/>
                </a:lnTo>
                <a:lnTo>
                  <a:pt x="48" y="1094"/>
                </a:lnTo>
                <a:lnTo>
                  <a:pt x="92" y="949"/>
                </a:lnTo>
                <a:lnTo>
                  <a:pt x="238" y="856"/>
                </a:lnTo>
                <a:lnTo>
                  <a:pt x="92" y="856"/>
                </a:lnTo>
                <a:lnTo>
                  <a:pt x="92" y="715"/>
                </a:lnTo>
                <a:lnTo>
                  <a:pt x="141" y="569"/>
                </a:lnTo>
                <a:lnTo>
                  <a:pt x="141" y="427"/>
                </a:lnTo>
                <a:lnTo>
                  <a:pt x="189" y="569"/>
                </a:lnTo>
                <a:lnTo>
                  <a:pt x="283" y="759"/>
                </a:lnTo>
                <a:lnTo>
                  <a:pt x="428" y="759"/>
                </a:lnTo>
                <a:lnTo>
                  <a:pt x="472" y="569"/>
                </a:lnTo>
                <a:lnTo>
                  <a:pt x="472" y="427"/>
                </a:lnTo>
                <a:lnTo>
                  <a:pt x="428" y="286"/>
                </a:lnTo>
                <a:lnTo>
                  <a:pt x="380" y="141"/>
                </a:lnTo>
                <a:lnTo>
                  <a:pt x="380" y="0"/>
                </a:lnTo>
                <a:lnTo>
                  <a:pt x="428" y="189"/>
                </a:lnTo>
                <a:lnTo>
                  <a:pt x="472" y="379"/>
                </a:lnTo>
                <a:lnTo>
                  <a:pt x="569" y="525"/>
                </a:lnTo>
                <a:lnTo>
                  <a:pt x="710" y="618"/>
                </a:lnTo>
                <a:lnTo>
                  <a:pt x="710" y="759"/>
                </a:lnTo>
                <a:lnTo>
                  <a:pt x="569" y="904"/>
                </a:lnTo>
                <a:lnTo>
                  <a:pt x="521" y="1046"/>
                </a:lnTo>
                <a:lnTo>
                  <a:pt x="569" y="1187"/>
                </a:lnTo>
                <a:lnTo>
                  <a:pt x="710" y="1094"/>
                </a:lnTo>
                <a:lnTo>
                  <a:pt x="759" y="949"/>
                </a:lnTo>
                <a:lnTo>
                  <a:pt x="804" y="807"/>
                </a:lnTo>
                <a:lnTo>
                  <a:pt x="901" y="666"/>
                </a:lnTo>
                <a:lnTo>
                  <a:pt x="901" y="525"/>
                </a:lnTo>
                <a:lnTo>
                  <a:pt x="950" y="715"/>
                </a:lnTo>
                <a:lnTo>
                  <a:pt x="994" y="856"/>
                </a:lnTo>
                <a:lnTo>
                  <a:pt x="994" y="997"/>
                </a:lnTo>
                <a:lnTo>
                  <a:pt x="901" y="1138"/>
                </a:lnTo>
                <a:lnTo>
                  <a:pt x="804" y="1284"/>
                </a:lnTo>
                <a:lnTo>
                  <a:pt x="759" y="1426"/>
                </a:lnTo>
                <a:lnTo>
                  <a:pt x="901" y="1426"/>
                </a:lnTo>
                <a:lnTo>
                  <a:pt x="994" y="1284"/>
                </a:lnTo>
                <a:lnTo>
                  <a:pt x="1042" y="1426"/>
                </a:lnTo>
                <a:lnTo>
                  <a:pt x="994" y="1567"/>
                </a:lnTo>
                <a:lnTo>
                  <a:pt x="853" y="1708"/>
                </a:lnTo>
                <a:lnTo>
                  <a:pt x="710" y="1757"/>
                </a:lnTo>
                <a:lnTo>
                  <a:pt x="569" y="1805"/>
                </a:lnTo>
                <a:lnTo>
                  <a:pt x="428" y="1757"/>
                </a:lnTo>
                <a:lnTo>
                  <a:pt x="283" y="1757"/>
                </a:lnTo>
                <a:lnTo>
                  <a:pt x="238" y="1805"/>
                </a:lnTo>
                <a:lnTo>
                  <a:pt x="283" y="1805"/>
                </a:lnTo>
                <a:lnTo>
                  <a:pt x="189" y="17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86280" y="5316480"/>
            <a:ext cx="324360" cy="257400"/>
          </a:xfrm>
          <a:custGeom>
            <a:avLst/>
            <a:gdLst/>
            <a:ahLst/>
            <a:rect l="0" t="0" r="r" b="b"/>
            <a:pathLst>
              <a:path fill="none" w="901" h="715">
                <a:moveTo>
                  <a:pt x="97" y="640"/>
                </a:moveTo>
                <a:lnTo>
                  <a:pt x="48" y="380"/>
                </a:lnTo>
                <a:lnTo>
                  <a:pt x="0" y="238"/>
                </a:lnTo>
                <a:lnTo>
                  <a:pt x="145" y="238"/>
                </a:lnTo>
                <a:lnTo>
                  <a:pt x="189" y="428"/>
                </a:lnTo>
                <a:lnTo>
                  <a:pt x="189" y="569"/>
                </a:lnTo>
                <a:lnTo>
                  <a:pt x="189" y="428"/>
                </a:lnTo>
                <a:lnTo>
                  <a:pt x="145" y="286"/>
                </a:lnTo>
                <a:lnTo>
                  <a:pt x="145" y="141"/>
                </a:lnTo>
                <a:lnTo>
                  <a:pt x="145" y="0"/>
                </a:lnTo>
                <a:lnTo>
                  <a:pt x="189" y="238"/>
                </a:lnTo>
                <a:lnTo>
                  <a:pt x="239" y="428"/>
                </a:lnTo>
                <a:lnTo>
                  <a:pt x="239" y="238"/>
                </a:lnTo>
                <a:lnTo>
                  <a:pt x="336" y="428"/>
                </a:lnTo>
                <a:lnTo>
                  <a:pt x="336" y="618"/>
                </a:lnTo>
                <a:lnTo>
                  <a:pt x="477" y="428"/>
                </a:lnTo>
                <a:lnTo>
                  <a:pt x="569" y="286"/>
                </a:lnTo>
                <a:lnTo>
                  <a:pt x="521" y="525"/>
                </a:lnTo>
                <a:lnTo>
                  <a:pt x="666" y="428"/>
                </a:lnTo>
                <a:lnTo>
                  <a:pt x="569" y="618"/>
                </a:lnTo>
                <a:lnTo>
                  <a:pt x="760" y="569"/>
                </a:lnTo>
                <a:lnTo>
                  <a:pt x="618" y="666"/>
                </a:lnTo>
                <a:lnTo>
                  <a:pt x="477" y="666"/>
                </a:lnTo>
                <a:lnTo>
                  <a:pt x="336" y="569"/>
                </a:lnTo>
                <a:lnTo>
                  <a:pt x="239" y="715"/>
                </a:lnTo>
                <a:lnTo>
                  <a:pt x="239" y="569"/>
                </a:lnTo>
                <a:lnTo>
                  <a:pt x="380" y="666"/>
                </a:lnTo>
                <a:lnTo>
                  <a:pt x="521" y="715"/>
                </a:lnTo>
                <a:lnTo>
                  <a:pt x="666" y="666"/>
                </a:lnTo>
                <a:lnTo>
                  <a:pt x="808" y="569"/>
                </a:lnTo>
                <a:lnTo>
                  <a:pt x="857" y="428"/>
                </a:lnTo>
                <a:lnTo>
                  <a:pt x="857" y="286"/>
                </a:lnTo>
                <a:lnTo>
                  <a:pt x="901" y="28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32480" y="4130640"/>
            <a:ext cx="714600" cy="802080"/>
          </a:xfrm>
          <a:custGeom>
            <a:avLst/>
            <a:gdLst/>
            <a:ahLst/>
            <a:rect l="0" t="0" r="r" b="b"/>
            <a:pathLst>
              <a:path fill="none" w="1985" h="2228">
                <a:moveTo>
                  <a:pt x="374" y="542"/>
                </a:moveTo>
                <a:lnTo>
                  <a:pt x="564" y="1041"/>
                </a:lnTo>
                <a:lnTo>
                  <a:pt x="802" y="997"/>
                </a:lnTo>
                <a:lnTo>
                  <a:pt x="851" y="807"/>
                </a:lnTo>
                <a:lnTo>
                  <a:pt x="705" y="759"/>
                </a:lnTo>
                <a:lnTo>
                  <a:pt x="520" y="949"/>
                </a:lnTo>
                <a:lnTo>
                  <a:pt x="233" y="1231"/>
                </a:lnTo>
                <a:lnTo>
                  <a:pt x="233" y="1376"/>
                </a:lnTo>
                <a:lnTo>
                  <a:pt x="374" y="1420"/>
                </a:lnTo>
                <a:lnTo>
                  <a:pt x="520" y="1328"/>
                </a:lnTo>
                <a:lnTo>
                  <a:pt x="374" y="1469"/>
                </a:lnTo>
                <a:lnTo>
                  <a:pt x="374" y="1610"/>
                </a:lnTo>
                <a:lnTo>
                  <a:pt x="564" y="1659"/>
                </a:lnTo>
                <a:lnTo>
                  <a:pt x="754" y="1517"/>
                </a:lnTo>
                <a:lnTo>
                  <a:pt x="661" y="1659"/>
                </a:lnTo>
                <a:lnTo>
                  <a:pt x="661" y="1801"/>
                </a:lnTo>
                <a:lnTo>
                  <a:pt x="851" y="1849"/>
                </a:lnTo>
                <a:lnTo>
                  <a:pt x="993" y="1898"/>
                </a:lnTo>
                <a:lnTo>
                  <a:pt x="1134" y="1849"/>
                </a:lnTo>
                <a:lnTo>
                  <a:pt x="1226" y="1708"/>
                </a:lnTo>
                <a:lnTo>
                  <a:pt x="1085" y="1849"/>
                </a:lnTo>
                <a:lnTo>
                  <a:pt x="1041" y="2039"/>
                </a:lnTo>
                <a:lnTo>
                  <a:pt x="1182" y="2136"/>
                </a:lnTo>
                <a:lnTo>
                  <a:pt x="1323" y="2136"/>
                </a:lnTo>
                <a:lnTo>
                  <a:pt x="1465" y="1946"/>
                </a:lnTo>
                <a:lnTo>
                  <a:pt x="1513" y="1801"/>
                </a:lnTo>
                <a:lnTo>
                  <a:pt x="1416" y="2039"/>
                </a:lnTo>
                <a:lnTo>
                  <a:pt x="1562" y="2087"/>
                </a:lnTo>
                <a:lnTo>
                  <a:pt x="1703" y="1990"/>
                </a:lnTo>
                <a:lnTo>
                  <a:pt x="1844" y="1757"/>
                </a:lnTo>
                <a:lnTo>
                  <a:pt x="1844" y="1610"/>
                </a:lnTo>
                <a:lnTo>
                  <a:pt x="1654" y="1757"/>
                </a:lnTo>
                <a:lnTo>
                  <a:pt x="1654" y="1898"/>
                </a:lnTo>
                <a:lnTo>
                  <a:pt x="1795" y="1849"/>
                </a:lnTo>
                <a:lnTo>
                  <a:pt x="1892" y="1659"/>
                </a:lnTo>
                <a:lnTo>
                  <a:pt x="1892" y="1469"/>
                </a:lnTo>
                <a:lnTo>
                  <a:pt x="1844" y="1328"/>
                </a:lnTo>
                <a:lnTo>
                  <a:pt x="1703" y="1328"/>
                </a:lnTo>
                <a:lnTo>
                  <a:pt x="1703" y="1469"/>
                </a:lnTo>
                <a:lnTo>
                  <a:pt x="1892" y="1469"/>
                </a:lnTo>
                <a:lnTo>
                  <a:pt x="1985" y="1328"/>
                </a:lnTo>
                <a:lnTo>
                  <a:pt x="1985" y="1138"/>
                </a:lnTo>
                <a:lnTo>
                  <a:pt x="1936" y="997"/>
                </a:lnTo>
                <a:lnTo>
                  <a:pt x="1795" y="900"/>
                </a:lnTo>
                <a:lnTo>
                  <a:pt x="1606" y="852"/>
                </a:lnTo>
                <a:lnTo>
                  <a:pt x="1465" y="852"/>
                </a:lnTo>
                <a:lnTo>
                  <a:pt x="1416" y="997"/>
                </a:lnTo>
                <a:lnTo>
                  <a:pt x="1606" y="1041"/>
                </a:lnTo>
                <a:lnTo>
                  <a:pt x="1747" y="997"/>
                </a:lnTo>
                <a:lnTo>
                  <a:pt x="1936" y="618"/>
                </a:lnTo>
                <a:lnTo>
                  <a:pt x="1795" y="427"/>
                </a:lnTo>
                <a:lnTo>
                  <a:pt x="1654" y="379"/>
                </a:lnTo>
                <a:lnTo>
                  <a:pt x="1465" y="379"/>
                </a:lnTo>
                <a:lnTo>
                  <a:pt x="1323" y="379"/>
                </a:lnTo>
                <a:lnTo>
                  <a:pt x="1465" y="379"/>
                </a:lnTo>
                <a:lnTo>
                  <a:pt x="1513" y="189"/>
                </a:lnTo>
                <a:lnTo>
                  <a:pt x="1465" y="44"/>
                </a:lnTo>
                <a:lnTo>
                  <a:pt x="1275" y="0"/>
                </a:lnTo>
                <a:lnTo>
                  <a:pt x="895" y="189"/>
                </a:lnTo>
                <a:lnTo>
                  <a:pt x="895" y="330"/>
                </a:lnTo>
                <a:lnTo>
                  <a:pt x="754" y="282"/>
                </a:lnTo>
                <a:lnTo>
                  <a:pt x="612" y="471"/>
                </a:lnTo>
                <a:lnTo>
                  <a:pt x="661" y="618"/>
                </a:lnTo>
                <a:lnTo>
                  <a:pt x="851" y="618"/>
                </a:lnTo>
                <a:lnTo>
                  <a:pt x="895" y="427"/>
                </a:lnTo>
                <a:lnTo>
                  <a:pt x="661" y="330"/>
                </a:lnTo>
                <a:lnTo>
                  <a:pt x="471" y="330"/>
                </a:lnTo>
                <a:lnTo>
                  <a:pt x="282" y="471"/>
                </a:lnTo>
                <a:lnTo>
                  <a:pt x="282" y="662"/>
                </a:lnTo>
                <a:lnTo>
                  <a:pt x="423" y="759"/>
                </a:lnTo>
                <a:lnTo>
                  <a:pt x="233" y="852"/>
                </a:lnTo>
                <a:lnTo>
                  <a:pt x="44" y="1231"/>
                </a:lnTo>
                <a:lnTo>
                  <a:pt x="92" y="1420"/>
                </a:lnTo>
                <a:lnTo>
                  <a:pt x="282" y="1469"/>
                </a:lnTo>
                <a:lnTo>
                  <a:pt x="374" y="1328"/>
                </a:lnTo>
                <a:lnTo>
                  <a:pt x="185" y="1376"/>
                </a:lnTo>
                <a:lnTo>
                  <a:pt x="44" y="1469"/>
                </a:lnTo>
                <a:lnTo>
                  <a:pt x="0" y="1708"/>
                </a:lnTo>
                <a:lnTo>
                  <a:pt x="141" y="1849"/>
                </a:lnTo>
                <a:lnTo>
                  <a:pt x="44" y="1990"/>
                </a:lnTo>
                <a:lnTo>
                  <a:pt x="185" y="2087"/>
                </a:lnTo>
                <a:lnTo>
                  <a:pt x="330" y="1946"/>
                </a:lnTo>
                <a:lnTo>
                  <a:pt x="282" y="2136"/>
                </a:lnTo>
                <a:lnTo>
                  <a:pt x="471" y="2180"/>
                </a:lnTo>
                <a:lnTo>
                  <a:pt x="661" y="2136"/>
                </a:lnTo>
                <a:lnTo>
                  <a:pt x="802" y="2039"/>
                </a:lnTo>
                <a:lnTo>
                  <a:pt x="754" y="2180"/>
                </a:lnTo>
                <a:lnTo>
                  <a:pt x="895" y="2228"/>
                </a:lnTo>
                <a:lnTo>
                  <a:pt x="1275" y="2039"/>
                </a:lnTo>
                <a:lnTo>
                  <a:pt x="1372" y="2180"/>
                </a:lnTo>
                <a:lnTo>
                  <a:pt x="1562" y="2180"/>
                </a:lnTo>
                <a:lnTo>
                  <a:pt x="1703" y="1990"/>
                </a:lnTo>
                <a:lnTo>
                  <a:pt x="1844" y="1898"/>
                </a:lnTo>
                <a:lnTo>
                  <a:pt x="1844" y="1757"/>
                </a:lnTo>
                <a:lnTo>
                  <a:pt x="1795" y="1566"/>
                </a:lnTo>
                <a:lnTo>
                  <a:pt x="1654" y="1517"/>
                </a:lnTo>
                <a:lnTo>
                  <a:pt x="1795" y="1517"/>
                </a:lnTo>
                <a:lnTo>
                  <a:pt x="1795" y="1328"/>
                </a:lnTo>
                <a:lnTo>
                  <a:pt x="1562" y="1231"/>
                </a:lnTo>
                <a:lnTo>
                  <a:pt x="1416" y="1231"/>
                </a:lnTo>
                <a:lnTo>
                  <a:pt x="1275" y="1279"/>
                </a:lnTo>
                <a:lnTo>
                  <a:pt x="1226" y="1420"/>
                </a:lnTo>
                <a:lnTo>
                  <a:pt x="1372" y="1517"/>
                </a:lnTo>
                <a:lnTo>
                  <a:pt x="1513" y="1517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51640" y="4146480"/>
            <a:ext cx="476640" cy="700560"/>
          </a:xfrm>
          <a:custGeom>
            <a:avLst/>
            <a:gdLst/>
            <a:ahLst/>
            <a:rect l="0" t="0" r="r" b="b"/>
            <a:pathLst>
              <a:path fill="none" w="1324" h="1946">
                <a:moveTo>
                  <a:pt x="1183" y="1474"/>
                </a:moveTo>
                <a:lnTo>
                  <a:pt x="1324" y="1425"/>
                </a:lnTo>
                <a:lnTo>
                  <a:pt x="1276" y="1187"/>
                </a:lnTo>
                <a:lnTo>
                  <a:pt x="1135" y="1143"/>
                </a:lnTo>
                <a:lnTo>
                  <a:pt x="994" y="1094"/>
                </a:lnTo>
                <a:lnTo>
                  <a:pt x="521" y="1284"/>
                </a:lnTo>
                <a:lnTo>
                  <a:pt x="472" y="1474"/>
                </a:lnTo>
                <a:lnTo>
                  <a:pt x="662" y="1567"/>
                </a:lnTo>
                <a:lnTo>
                  <a:pt x="852" y="1523"/>
                </a:lnTo>
                <a:lnTo>
                  <a:pt x="896" y="1284"/>
                </a:lnTo>
                <a:lnTo>
                  <a:pt x="755" y="1235"/>
                </a:lnTo>
                <a:lnTo>
                  <a:pt x="282" y="1425"/>
                </a:lnTo>
                <a:lnTo>
                  <a:pt x="189" y="1567"/>
                </a:lnTo>
                <a:lnTo>
                  <a:pt x="330" y="1664"/>
                </a:lnTo>
                <a:lnTo>
                  <a:pt x="472" y="1523"/>
                </a:lnTo>
                <a:lnTo>
                  <a:pt x="472" y="1376"/>
                </a:lnTo>
                <a:lnTo>
                  <a:pt x="472" y="1235"/>
                </a:lnTo>
                <a:lnTo>
                  <a:pt x="375" y="1094"/>
                </a:lnTo>
                <a:lnTo>
                  <a:pt x="141" y="997"/>
                </a:lnTo>
                <a:lnTo>
                  <a:pt x="0" y="1094"/>
                </a:lnTo>
                <a:lnTo>
                  <a:pt x="44" y="1235"/>
                </a:lnTo>
                <a:lnTo>
                  <a:pt x="189" y="1235"/>
                </a:lnTo>
                <a:lnTo>
                  <a:pt x="424" y="1187"/>
                </a:lnTo>
                <a:lnTo>
                  <a:pt x="565" y="997"/>
                </a:lnTo>
                <a:lnTo>
                  <a:pt x="613" y="856"/>
                </a:lnTo>
                <a:lnTo>
                  <a:pt x="472" y="807"/>
                </a:lnTo>
                <a:lnTo>
                  <a:pt x="375" y="997"/>
                </a:lnTo>
                <a:lnTo>
                  <a:pt x="521" y="1046"/>
                </a:lnTo>
                <a:lnTo>
                  <a:pt x="662" y="997"/>
                </a:lnTo>
                <a:lnTo>
                  <a:pt x="803" y="856"/>
                </a:lnTo>
                <a:lnTo>
                  <a:pt x="755" y="666"/>
                </a:lnTo>
                <a:lnTo>
                  <a:pt x="565" y="618"/>
                </a:lnTo>
                <a:lnTo>
                  <a:pt x="472" y="807"/>
                </a:lnTo>
                <a:lnTo>
                  <a:pt x="613" y="953"/>
                </a:lnTo>
                <a:lnTo>
                  <a:pt x="755" y="953"/>
                </a:lnTo>
                <a:lnTo>
                  <a:pt x="896" y="953"/>
                </a:lnTo>
                <a:lnTo>
                  <a:pt x="1086" y="807"/>
                </a:lnTo>
                <a:lnTo>
                  <a:pt x="1086" y="666"/>
                </a:lnTo>
                <a:lnTo>
                  <a:pt x="1086" y="525"/>
                </a:lnTo>
                <a:lnTo>
                  <a:pt x="944" y="476"/>
                </a:lnTo>
                <a:lnTo>
                  <a:pt x="803" y="618"/>
                </a:lnTo>
                <a:lnTo>
                  <a:pt x="944" y="666"/>
                </a:lnTo>
                <a:lnTo>
                  <a:pt x="1135" y="525"/>
                </a:lnTo>
                <a:lnTo>
                  <a:pt x="1135" y="335"/>
                </a:lnTo>
                <a:lnTo>
                  <a:pt x="994" y="238"/>
                </a:lnTo>
                <a:lnTo>
                  <a:pt x="803" y="335"/>
                </a:lnTo>
                <a:lnTo>
                  <a:pt x="803" y="476"/>
                </a:lnTo>
                <a:lnTo>
                  <a:pt x="944" y="383"/>
                </a:lnTo>
                <a:lnTo>
                  <a:pt x="994" y="189"/>
                </a:lnTo>
                <a:lnTo>
                  <a:pt x="944" y="48"/>
                </a:lnTo>
                <a:lnTo>
                  <a:pt x="710" y="0"/>
                </a:lnTo>
                <a:lnTo>
                  <a:pt x="521" y="48"/>
                </a:lnTo>
                <a:lnTo>
                  <a:pt x="424" y="238"/>
                </a:lnTo>
                <a:lnTo>
                  <a:pt x="472" y="427"/>
                </a:lnTo>
                <a:lnTo>
                  <a:pt x="1042" y="904"/>
                </a:lnTo>
                <a:lnTo>
                  <a:pt x="803" y="997"/>
                </a:lnTo>
                <a:lnTo>
                  <a:pt x="613" y="1187"/>
                </a:lnTo>
                <a:lnTo>
                  <a:pt x="565" y="1332"/>
                </a:lnTo>
                <a:lnTo>
                  <a:pt x="521" y="1474"/>
                </a:lnTo>
                <a:lnTo>
                  <a:pt x="710" y="1615"/>
                </a:lnTo>
                <a:lnTo>
                  <a:pt x="852" y="1567"/>
                </a:lnTo>
                <a:lnTo>
                  <a:pt x="852" y="1376"/>
                </a:lnTo>
                <a:lnTo>
                  <a:pt x="755" y="1235"/>
                </a:lnTo>
                <a:lnTo>
                  <a:pt x="565" y="1187"/>
                </a:lnTo>
                <a:lnTo>
                  <a:pt x="424" y="1143"/>
                </a:lnTo>
                <a:lnTo>
                  <a:pt x="44" y="1332"/>
                </a:lnTo>
                <a:lnTo>
                  <a:pt x="44" y="1523"/>
                </a:lnTo>
                <a:lnTo>
                  <a:pt x="141" y="1712"/>
                </a:lnTo>
                <a:lnTo>
                  <a:pt x="282" y="1712"/>
                </a:lnTo>
                <a:lnTo>
                  <a:pt x="141" y="1615"/>
                </a:lnTo>
                <a:lnTo>
                  <a:pt x="189" y="1757"/>
                </a:lnTo>
                <a:lnTo>
                  <a:pt x="375" y="1854"/>
                </a:lnTo>
                <a:lnTo>
                  <a:pt x="521" y="1854"/>
                </a:lnTo>
                <a:lnTo>
                  <a:pt x="662" y="1805"/>
                </a:lnTo>
                <a:lnTo>
                  <a:pt x="521" y="1757"/>
                </a:lnTo>
                <a:lnTo>
                  <a:pt x="521" y="1902"/>
                </a:lnTo>
                <a:lnTo>
                  <a:pt x="755" y="1946"/>
                </a:lnTo>
                <a:lnTo>
                  <a:pt x="896" y="1902"/>
                </a:lnTo>
                <a:lnTo>
                  <a:pt x="896" y="1757"/>
                </a:lnTo>
                <a:lnTo>
                  <a:pt x="944" y="1902"/>
                </a:lnTo>
                <a:lnTo>
                  <a:pt x="1086" y="1902"/>
                </a:lnTo>
                <a:lnTo>
                  <a:pt x="1276" y="1805"/>
                </a:lnTo>
                <a:lnTo>
                  <a:pt x="1324" y="1664"/>
                </a:lnTo>
                <a:lnTo>
                  <a:pt x="1086" y="1567"/>
                </a:lnTo>
                <a:lnTo>
                  <a:pt x="944" y="1567"/>
                </a:lnTo>
                <a:lnTo>
                  <a:pt x="1135" y="1615"/>
                </a:lnTo>
                <a:lnTo>
                  <a:pt x="1183" y="1567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40600" y="4462560"/>
            <a:ext cx="800640" cy="973440"/>
          </a:xfrm>
          <a:custGeom>
            <a:avLst/>
            <a:gdLst/>
            <a:ahLst/>
            <a:rect l="0" t="0" r="r" b="b"/>
            <a:pathLst>
              <a:path fill="none" w="2224" h="2704">
                <a:moveTo>
                  <a:pt x="1682" y="167"/>
                </a:moveTo>
                <a:lnTo>
                  <a:pt x="1513" y="97"/>
                </a:lnTo>
                <a:lnTo>
                  <a:pt x="1323" y="97"/>
                </a:lnTo>
                <a:lnTo>
                  <a:pt x="1182" y="97"/>
                </a:lnTo>
                <a:lnTo>
                  <a:pt x="1041" y="145"/>
                </a:lnTo>
                <a:lnTo>
                  <a:pt x="900" y="189"/>
                </a:lnTo>
                <a:lnTo>
                  <a:pt x="759" y="335"/>
                </a:lnTo>
                <a:lnTo>
                  <a:pt x="710" y="476"/>
                </a:lnTo>
                <a:lnTo>
                  <a:pt x="662" y="617"/>
                </a:lnTo>
                <a:lnTo>
                  <a:pt x="569" y="758"/>
                </a:lnTo>
                <a:lnTo>
                  <a:pt x="569" y="617"/>
                </a:lnTo>
                <a:lnTo>
                  <a:pt x="618" y="476"/>
                </a:lnTo>
                <a:lnTo>
                  <a:pt x="759" y="379"/>
                </a:lnTo>
                <a:lnTo>
                  <a:pt x="900" y="286"/>
                </a:lnTo>
                <a:lnTo>
                  <a:pt x="1041" y="238"/>
                </a:lnTo>
                <a:lnTo>
                  <a:pt x="1182" y="238"/>
                </a:lnTo>
                <a:lnTo>
                  <a:pt x="1323" y="238"/>
                </a:lnTo>
                <a:lnTo>
                  <a:pt x="1469" y="238"/>
                </a:lnTo>
                <a:lnTo>
                  <a:pt x="1610" y="189"/>
                </a:lnTo>
                <a:lnTo>
                  <a:pt x="1469" y="189"/>
                </a:lnTo>
                <a:lnTo>
                  <a:pt x="1323" y="238"/>
                </a:lnTo>
                <a:lnTo>
                  <a:pt x="1182" y="286"/>
                </a:lnTo>
                <a:lnTo>
                  <a:pt x="1041" y="335"/>
                </a:lnTo>
                <a:lnTo>
                  <a:pt x="900" y="427"/>
                </a:lnTo>
                <a:lnTo>
                  <a:pt x="759" y="568"/>
                </a:lnTo>
                <a:lnTo>
                  <a:pt x="710" y="714"/>
                </a:lnTo>
                <a:lnTo>
                  <a:pt x="618" y="855"/>
                </a:lnTo>
                <a:lnTo>
                  <a:pt x="618" y="996"/>
                </a:lnTo>
                <a:lnTo>
                  <a:pt x="618" y="1137"/>
                </a:lnTo>
                <a:lnTo>
                  <a:pt x="569" y="1283"/>
                </a:lnTo>
                <a:lnTo>
                  <a:pt x="520" y="1425"/>
                </a:lnTo>
                <a:lnTo>
                  <a:pt x="471" y="1566"/>
                </a:lnTo>
                <a:lnTo>
                  <a:pt x="427" y="1711"/>
                </a:lnTo>
                <a:lnTo>
                  <a:pt x="379" y="1853"/>
                </a:lnTo>
                <a:lnTo>
                  <a:pt x="330" y="1994"/>
                </a:lnTo>
                <a:lnTo>
                  <a:pt x="282" y="2135"/>
                </a:lnTo>
                <a:lnTo>
                  <a:pt x="238" y="2280"/>
                </a:lnTo>
                <a:lnTo>
                  <a:pt x="189" y="2421"/>
                </a:lnTo>
                <a:lnTo>
                  <a:pt x="48" y="2563"/>
                </a:lnTo>
                <a:lnTo>
                  <a:pt x="0" y="2704"/>
                </a:lnTo>
                <a:lnTo>
                  <a:pt x="141" y="2660"/>
                </a:lnTo>
                <a:lnTo>
                  <a:pt x="282" y="2563"/>
                </a:lnTo>
                <a:lnTo>
                  <a:pt x="427" y="2470"/>
                </a:lnTo>
                <a:lnTo>
                  <a:pt x="569" y="2470"/>
                </a:lnTo>
                <a:lnTo>
                  <a:pt x="710" y="2514"/>
                </a:lnTo>
                <a:lnTo>
                  <a:pt x="852" y="2514"/>
                </a:lnTo>
                <a:lnTo>
                  <a:pt x="993" y="2514"/>
                </a:lnTo>
                <a:lnTo>
                  <a:pt x="1138" y="2514"/>
                </a:lnTo>
                <a:lnTo>
                  <a:pt x="1279" y="2514"/>
                </a:lnTo>
                <a:lnTo>
                  <a:pt x="1420" y="2514"/>
                </a:lnTo>
                <a:lnTo>
                  <a:pt x="1562" y="2514"/>
                </a:lnTo>
                <a:lnTo>
                  <a:pt x="1704" y="2514"/>
                </a:lnTo>
                <a:lnTo>
                  <a:pt x="1845" y="2470"/>
                </a:lnTo>
                <a:lnTo>
                  <a:pt x="1659" y="2421"/>
                </a:lnTo>
                <a:lnTo>
                  <a:pt x="1513" y="2421"/>
                </a:lnTo>
                <a:lnTo>
                  <a:pt x="1372" y="2421"/>
                </a:lnTo>
                <a:lnTo>
                  <a:pt x="1231" y="2421"/>
                </a:lnTo>
                <a:lnTo>
                  <a:pt x="1090" y="2373"/>
                </a:lnTo>
                <a:lnTo>
                  <a:pt x="949" y="2373"/>
                </a:lnTo>
                <a:lnTo>
                  <a:pt x="803" y="2373"/>
                </a:lnTo>
                <a:lnTo>
                  <a:pt x="662" y="2421"/>
                </a:lnTo>
                <a:lnTo>
                  <a:pt x="520" y="2421"/>
                </a:lnTo>
                <a:lnTo>
                  <a:pt x="379" y="2421"/>
                </a:lnTo>
                <a:lnTo>
                  <a:pt x="520" y="2280"/>
                </a:lnTo>
                <a:lnTo>
                  <a:pt x="662" y="2232"/>
                </a:lnTo>
                <a:lnTo>
                  <a:pt x="803" y="2232"/>
                </a:lnTo>
                <a:lnTo>
                  <a:pt x="949" y="2232"/>
                </a:lnTo>
                <a:lnTo>
                  <a:pt x="1090" y="2183"/>
                </a:lnTo>
                <a:lnTo>
                  <a:pt x="1231" y="2232"/>
                </a:lnTo>
                <a:lnTo>
                  <a:pt x="1372" y="2232"/>
                </a:lnTo>
                <a:lnTo>
                  <a:pt x="1513" y="2232"/>
                </a:lnTo>
                <a:lnTo>
                  <a:pt x="1659" y="2183"/>
                </a:lnTo>
                <a:lnTo>
                  <a:pt x="1801" y="2183"/>
                </a:lnTo>
                <a:lnTo>
                  <a:pt x="1942" y="2135"/>
                </a:lnTo>
                <a:lnTo>
                  <a:pt x="2083" y="2091"/>
                </a:lnTo>
                <a:lnTo>
                  <a:pt x="1990" y="2232"/>
                </a:lnTo>
                <a:lnTo>
                  <a:pt x="1942" y="2373"/>
                </a:lnTo>
                <a:lnTo>
                  <a:pt x="1801" y="2470"/>
                </a:lnTo>
                <a:lnTo>
                  <a:pt x="1659" y="2421"/>
                </a:lnTo>
                <a:lnTo>
                  <a:pt x="1513" y="2373"/>
                </a:lnTo>
                <a:lnTo>
                  <a:pt x="1372" y="2373"/>
                </a:lnTo>
                <a:lnTo>
                  <a:pt x="1231" y="2373"/>
                </a:lnTo>
                <a:lnTo>
                  <a:pt x="1372" y="2373"/>
                </a:lnTo>
                <a:lnTo>
                  <a:pt x="1562" y="2324"/>
                </a:lnTo>
                <a:lnTo>
                  <a:pt x="1704" y="2232"/>
                </a:lnTo>
                <a:lnTo>
                  <a:pt x="1704" y="2091"/>
                </a:lnTo>
                <a:lnTo>
                  <a:pt x="1513" y="2042"/>
                </a:lnTo>
                <a:lnTo>
                  <a:pt x="1372" y="2042"/>
                </a:lnTo>
                <a:lnTo>
                  <a:pt x="1231" y="2042"/>
                </a:lnTo>
                <a:lnTo>
                  <a:pt x="662" y="2232"/>
                </a:lnTo>
                <a:lnTo>
                  <a:pt x="852" y="2232"/>
                </a:lnTo>
                <a:lnTo>
                  <a:pt x="1138" y="1945"/>
                </a:lnTo>
                <a:lnTo>
                  <a:pt x="993" y="1901"/>
                </a:lnTo>
                <a:lnTo>
                  <a:pt x="803" y="2091"/>
                </a:lnTo>
                <a:lnTo>
                  <a:pt x="949" y="2091"/>
                </a:lnTo>
                <a:lnTo>
                  <a:pt x="1090" y="1901"/>
                </a:lnTo>
                <a:lnTo>
                  <a:pt x="949" y="1994"/>
                </a:lnTo>
                <a:lnTo>
                  <a:pt x="759" y="2183"/>
                </a:lnTo>
                <a:lnTo>
                  <a:pt x="803" y="2042"/>
                </a:lnTo>
                <a:lnTo>
                  <a:pt x="949" y="1853"/>
                </a:lnTo>
                <a:lnTo>
                  <a:pt x="1041" y="1711"/>
                </a:lnTo>
                <a:lnTo>
                  <a:pt x="852" y="1901"/>
                </a:lnTo>
                <a:lnTo>
                  <a:pt x="759" y="2042"/>
                </a:lnTo>
                <a:lnTo>
                  <a:pt x="662" y="2183"/>
                </a:lnTo>
                <a:lnTo>
                  <a:pt x="710" y="1994"/>
                </a:lnTo>
                <a:lnTo>
                  <a:pt x="803" y="1517"/>
                </a:lnTo>
                <a:lnTo>
                  <a:pt x="803" y="1663"/>
                </a:lnTo>
                <a:lnTo>
                  <a:pt x="662" y="1853"/>
                </a:lnTo>
                <a:lnTo>
                  <a:pt x="710" y="1711"/>
                </a:lnTo>
                <a:lnTo>
                  <a:pt x="618" y="1853"/>
                </a:lnTo>
                <a:lnTo>
                  <a:pt x="520" y="2042"/>
                </a:lnTo>
                <a:lnTo>
                  <a:pt x="569" y="2183"/>
                </a:lnTo>
                <a:lnTo>
                  <a:pt x="520" y="2324"/>
                </a:lnTo>
                <a:lnTo>
                  <a:pt x="520" y="2183"/>
                </a:lnTo>
                <a:lnTo>
                  <a:pt x="662" y="1945"/>
                </a:lnTo>
                <a:lnTo>
                  <a:pt x="759" y="1283"/>
                </a:lnTo>
                <a:lnTo>
                  <a:pt x="803" y="1137"/>
                </a:lnTo>
                <a:lnTo>
                  <a:pt x="852" y="996"/>
                </a:lnTo>
                <a:lnTo>
                  <a:pt x="759" y="806"/>
                </a:lnTo>
                <a:lnTo>
                  <a:pt x="662" y="948"/>
                </a:lnTo>
                <a:lnTo>
                  <a:pt x="618" y="1093"/>
                </a:lnTo>
                <a:lnTo>
                  <a:pt x="569" y="1234"/>
                </a:lnTo>
                <a:lnTo>
                  <a:pt x="520" y="1425"/>
                </a:lnTo>
                <a:lnTo>
                  <a:pt x="471" y="1614"/>
                </a:lnTo>
                <a:lnTo>
                  <a:pt x="427" y="1756"/>
                </a:lnTo>
                <a:lnTo>
                  <a:pt x="379" y="1901"/>
                </a:lnTo>
                <a:lnTo>
                  <a:pt x="427" y="2042"/>
                </a:lnTo>
                <a:lnTo>
                  <a:pt x="427" y="1901"/>
                </a:lnTo>
                <a:lnTo>
                  <a:pt x="520" y="1425"/>
                </a:lnTo>
                <a:lnTo>
                  <a:pt x="618" y="1283"/>
                </a:lnTo>
                <a:lnTo>
                  <a:pt x="710" y="1093"/>
                </a:lnTo>
                <a:lnTo>
                  <a:pt x="710" y="948"/>
                </a:lnTo>
                <a:lnTo>
                  <a:pt x="618" y="806"/>
                </a:lnTo>
                <a:lnTo>
                  <a:pt x="618" y="665"/>
                </a:lnTo>
                <a:lnTo>
                  <a:pt x="759" y="524"/>
                </a:lnTo>
                <a:lnTo>
                  <a:pt x="759" y="714"/>
                </a:lnTo>
                <a:lnTo>
                  <a:pt x="710" y="903"/>
                </a:lnTo>
                <a:lnTo>
                  <a:pt x="618" y="1045"/>
                </a:lnTo>
                <a:lnTo>
                  <a:pt x="569" y="1186"/>
                </a:lnTo>
                <a:lnTo>
                  <a:pt x="520" y="1045"/>
                </a:lnTo>
                <a:lnTo>
                  <a:pt x="520" y="855"/>
                </a:lnTo>
                <a:lnTo>
                  <a:pt x="710" y="379"/>
                </a:lnTo>
                <a:lnTo>
                  <a:pt x="852" y="238"/>
                </a:lnTo>
                <a:lnTo>
                  <a:pt x="852" y="427"/>
                </a:lnTo>
                <a:lnTo>
                  <a:pt x="662" y="1093"/>
                </a:lnTo>
                <a:lnTo>
                  <a:pt x="618" y="1234"/>
                </a:lnTo>
                <a:lnTo>
                  <a:pt x="569" y="1376"/>
                </a:lnTo>
                <a:lnTo>
                  <a:pt x="662" y="1137"/>
                </a:lnTo>
                <a:lnTo>
                  <a:pt x="759" y="948"/>
                </a:lnTo>
                <a:lnTo>
                  <a:pt x="900" y="806"/>
                </a:lnTo>
                <a:lnTo>
                  <a:pt x="852" y="1093"/>
                </a:lnTo>
                <a:lnTo>
                  <a:pt x="662" y="1756"/>
                </a:lnTo>
                <a:lnTo>
                  <a:pt x="759" y="1517"/>
                </a:lnTo>
                <a:lnTo>
                  <a:pt x="759" y="1327"/>
                </a:lnTo>
                <a:lnTo>
                  <a:pt x="759" y="1093"/>
                </a:lnTo>
                <a:lnTo>
                  <a:pt x="1138" y="617"/>
                </a:lnTo>
                <a:lnTo>
                  <a:pt x="1138" y="855"/>
                </a:lnTo>
                <a:lnTo>
                  <a:pt x="1090" y="1045"/>
                </a:lnTo>
                <a:lnTo>
                  <a:pt x="900" y="1425"/>
                </a:lnTo>
                <a:lnTo>
                  <a:pt x="803" y="1566"/>
                </a:lnTo>
                <a:lnTo>
                  <a:pt x="900" y="1283"/>
                </a:lnTo>
                <a:lnTo>
                  <a:pt x="900" y="1093"/>
                </a:lnTo>
                <a:lnTo>
                  <a:pt x="1182" y="617"/>
                </a:lnTo>
                <a:lnTo>
                  <a:pt x="1138" y="903"/>
                </a:lnTo>
                <a:lnTo>
                  <a:pt x="949" y="1566"/>
                </a:lnTo>
                <a:lnTo>
                  <a:pt x="1090" y="1425"/>
                </a:lnTo>
                <a:lnTo>
                  <a:pt x="1138" y="1234"/>
                </a:lnTo>
                <a:lnTo>
                  <a:pt x="1138" y="1093"/>
                </a:lnTo>
                <a:lnTo>
                  <a:pt x="1323" y="714"/>
                </a:lnTo>
                <a:lnTo>
                  <a:pt x="1182" y="758"/>
                </a:lnTo>
                <a:lnTo>
                  <a:pt x="1323" y="714"/>
                </a:lnTo>
                <a:lnTo>
                  <a:pt x="1420" y="524"/>
                </a:lnTo>
                <a:lnTo>
                  <a:pt x="1469" y="379"/>
                </a:lnTo>
                <a:lnTo>
                  <a:pt x="1279" y="379"/>
                </a:lnTo>
                <a:lnTo>
                  <a:pt x="1138" y="476"/>
                </a:lnTo>
                <a:lnTo>
                  <a:pt x="1138" y="617"/>
                </a:lnTo>
                <a:lnTo>
                  <a:pt x="1279" y="617"/>
                </a:lnTo>
                <a:lnTo>
                  <a:pt x="1420" y="524"/>
                </a:lnTo>
                <a:lnTo>
                  <a:pt x="1513" y="379"/>
                </a:lnTo>
                <a:lnTo>
                  <a:pt x="1323" y="379"/>
                </a:lnTo>
                <a:lnTo>
                  <a:pt x="1182" y="379"/>
                </a:lnTo>
                <a:lnTo>
                  <a:pt x="993" y="476"/>
                </a:lnTo>
                <a:lnTo>
                  <a:pt x="949" y="617"/>
                </a:lnTo>
                <a:lnTo>
                  <a:pt x="1090" y="665"/>
                </a:lnTo>
                <a:lnTo>
                  <a:pt x="1231" y="665"/>
                </a:lnTo>
                <a:lnTo>
                  <a:pt x="1372" y="568"/>
                </a:lnTo>
                <a:lnTo>
                  <a:pt x="1231" y="476"/>
                </a:lnTo>
                <a:lnTo>
                  <a:pt x="993" y="617"/>
                </a:lnTo>
                <a:lnTo>
                  <a:pt x="949" y="758"/>
                </a:lnTo>
                <a:lnTo>
                  <a:pt x="1182" y="758"/>
                </a:lnTo>
                <a:lnTo>
                  <a:pt x="1372" y="665"/>
                </a:lnTo>
                <a:lnTo>
                  <a:pt x="1513" y="568"/>
                </a:lnTo>
                <a:lnTo>
                  <a:pt x="1562" y="427"/>
                </a:lnTo>
                <a:lnTo>
                  <a:pt x="1610" y="286"/>
                </a:lnTo>
                <a:lnTo>
                  <a:pt x="1610" y="145"/>
                </a:lnTo>
                <a:lnTo>
                  <a:pt x="1659" y="0"/>
                </a:lnTo>
                <a:lnTo>
                  <a:pt x="1752" y="145"/>
                </a:lnTo>
                <a:lnTo>
                  <a:pt x="1845" y="286"/>
                </a:lnTo>
                <a:lnTo>
                  <a:pt x="1845" y="427"/>
                </a:lnTo>
                <a:lnTo>
                  <a:pt x="1893" y="568"/>
                </a:lnTo>
                <a:lnTo>
                  <a:pt x="1893" y="714"/>
                </a:lnTo>
                <a:lnTo>
                  <a:pt x="1893" y="855"/>
                </a:lnTo>
                <a:lnTo>
                  <a:pt x="1893" y="996"/>
                </a:lnTo>
                <a:lnTo>
                  <a:pt x="1942" y="1137"/>
                </a:lnTo>
                <a:lnTo>
                  <a:pt x="1942" y="1283"/>
                </a:lnTo>
                <a:lnTo>
                  <a:pt x="1990" y="1425"/>
                </a:lnTo>
                <a:lnTo>
                  <a:pt x="1990" y="1566"/>
                </a:lnTo>
                <a:lnTo>
                  <a:pt x="1990" y="1711"/>
                </a:lnTo>
                <a:lnTo>
                  <a:pt x="1990" y="1853"/>
                </a:lnTo>
                <a:lnTo>
                  <a:pt x="1990" y="1994"/>
                </a:lnTo>
                <a:lnTo>
                  <a:pt x="1990" y="2135"/>
                </a:lnTo>
                <a:lnTo>
                  <a:pt x="2131" y="2183"/>
                </a:lnTo>
                <a:lnTo>
                  <a:pt x="2224" y="2042"/>
                </a:lnTo>
                <a:lnTo>
                  <a:pt x="2224" y="1901"/>
                </a:lnTo>
                <a:lnTo>
                  <a:pt x="2083" y="1901"/>
                </a:lnTo>
                <a:lnTo>
                  <a:pt x="2131" y="1756"/>
                </a:lnTo>
                <a:lnTo>
                  <a:pt x="2131" y="1614"/>
                </a:lnTo>
                <a:lnTo>
                  <a:pt x="2034" y="1473"/>
                </a:lnTo>
                <a:lnTo>
                  <a:pt x="2034" y="1327"/>
                </a:lnTo>
                <a:lnTo>
                  <a:pt x="1990" y="1186"/>
                </a:lnTo>
                <a:lnTo>
                  <a:pt x="1990" y="1045"/>
                </a:lnTo>
                <a:lnTo>
                  <a:pt x="1990" y="903"/>
                </a:lnTo>
                <a:lnTo>
                  <a:pt x="1990" y="758"/>
                </a:lnTo>
                <a:lnTo>
                  <a:pt x="1942" y="617"/>
                </a:lnTo>
                <a:lnTo>
                  <a:pt x="1942" y="476"/>
                </a:lnTo>
                <a:lnTo>
                  <a:pt x="1845" y="617"/>
                </a:lnTo>
                <a:lnTo>
                  <a:pt x="1801" y="806"/>
                </a:lnTo>
                <a:lnTo>
                  <a:pt x="1801" y="948"/>
                </a:lnTo>
                <a:lnTo>
                  <a:pt x="1801" y="1093"/>
                </a:lnTo>
                <a:lnTo>
                  <a:pt x="1801" y="1234"/>
                </a:lnTo>
                <a:lnTo>
                  <a:pt x="1801" y="1376"/>
                </a:lnTo>
                <a:lnTo>
                  <a:pt x="1801" y="1517"/>
                </a:lnTo>
                <a:lnTo>
                  <a:pt x="1801" y="1663"/>
                </a:lnTo>
                <a:lnTo>
                  <a:pt x="1801" y="1804"/>
                </a:lnTo>
                <a:lnTo>
                  <a:pt x="1801" y="1945"/>
                </a:lnTo>
                <a:lnTo>
                  <a:pt x="1801" y="2091"/>
                </a:lnTo>
                <a:lnTo>
                  <a:pt x="1801" y="2232"/>
                </a:lnTo>
                <a:lnTo>
                  <a:pt x="1942" y="2135"/>
                </a:lnTo>
                <a:lnTo>
                  <a:pt x="2034" y="1994"/>
                </a:lnTo>
                <a:lnTo>
                  <a:pt x="2034" y="1853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54920" y="4497480"/>
            <a:ext cx="903600" cy="956160"/>
          </a:xfrm>
          <a:custGeom>
            <a:avLst/>
            <a:gdLst/>
            <a:ahLst/>
            <a:rect l="0" t="0" r="r" b="b"/>
            <a:pathLst>
              <a:path fill="none" w="2510" h="2656">
                <a:moveTo>
                  <a:pt x="2272" y="1756"/>
                </a:moveTo>
                <a:lnTo>
                  <a:pt x="2272" y="1614"/>
                </a:lnTo>
                <a:lnTo>
                  <a:pt x="2130" y="1469"/>
                </a:lnTo>
                <a:lnTo>
                  <a:pt x="2038" y="1614"/>
                </a:lnTo>
                <a:lnTo>
                  <a:pt x="2082" y="1756"/>
                </a:lnTo>
                <a:lnTo>
                  <a:pt x="2082" y="1897"/>
                </a:lnTo>
                <a:lnTo>
                  <a:pt x="2038" y="2039"/>
                </a:lnTo>
                <a:lnTo>
                  <a:pt x="1989" y="2184"/>
                </a:lnTo>
                <a:lnTo>
                  <a:pt x="1989" y="2039"/>
                </a:lnTo>
                <a:lnTo>
                  <a:pt x="2038" y="1897"/>
                </a:lnTo>
                <a:lnTo>
                  <a:pt x="2038" y="1659"/>
                </a:lnTo>
                <a:lnTo>
                  <a:pt x="2038" y="1420"/>
                </a:lnTo>
                <a:lnTo>
                  <a:pt x="1989" y="1231"/>
                </a:lnTo>
                <a:lnTo>
                  <a:pt x="1989" y="1090"/>
                </a:lnTo>
                <a:lnTo>
                  <a:pt x="1989" y="949"/>
                </a:lnTo>
                <a:lnTo>
                  <a:pt x="1897" y="807"/>
                </a:lnTo>
                <a:lnTo>
                  <a:pt x="1897" y="661"/>
                </a:lnTo>
                <a:lnTo>
                  <a:pt x="1897" y="520"/>
                </a:lnTo>
                <a:lnTo>
                  <a:pt x="1897" y="379"/>
                </a:lnTo>
                <a:lnTo>
                  <a:pt x="1989" y="238"/>
                </a:lnTo>
                <a:lnTo>
                  <a:pt x="1941" y="379"/>
                </a:lnTo>
                <a:lnTo>
                  <a:pt x="1941" y="520"/>
                </a:lnTo>
                <a:lnTo>
                  <a:pt x="1941" y="661"/>
                </a:lnTo>
                <a:lnTo>
                  <a:pt x="1848" y="807"/>
                </a:lnTo>
                <a:lnTo>
                  <a:pt x="1848" y="949"/>
                </a:lnTo>
                <a:lnTo>
                  <a:pt x="1800" y="1187"/>
                </a:lnTo>
                <a:lnTo>
                  <a:pt x="1800" y="1376"/>
                </a:lnTo>
                <a:lnTo>
                  <a:pt x="1800" y="1517"/>
                </a:lnTo>
                <a:lnTo>
                  <a:pt x="1800" y="1659"/>
                </a:lnTo>
                <a:lnTo>
                  <a:pt x="1941" y="1756"/>
                </a:lnTo>
                <a:lnTo>
                  <a:pt x="1989" y="1897"/>
                </a:lnTo>
                <a:lnTo>
                  <a:pt x="1989" y="1707"/>
                </a:lnTo>
                <a:lnTo>
                  <a:pt x="1941" y="1566"/>
                </a:lnTo>
                <a:lnTo>
                  <a:pt x="1941" y="1376"/>
                </a:lnTo>
                <a:lnTo>
                  <a:pt x="1941" y="1187"/>
                </a:lnTo>
                <a:lnTo>
                  <a:pt x="1897" y="1041"/>
                </a:lnTo>
                <a:lnTo>
                  <a:pt x="1897" y="900"/>
                </a:lnTo>
                <a:lnTo>
                  <a:pt x="1800" y="759"/>
                </a:lnTo>
                <a:lnTo>
                  <a:pt x="1800" y="617"/>
                </a:lnTo>
                <a:lnTo>
                  <a:pt x="1751" y="471"/>
                </a:lnTo>
                <a:lnTo>
                  <a:pt x="1751" y="617"/>
                </a:lnTo>
                <a:lnTo>
                  <a:pt x="1751" y="759"/>
                </a:lnTo>
                <a:lnTo>
                  <a:pt x="1751" y="900"/>
                </a:lnTo>
                <a:lnTo>
                  <a:pt x="1751" y="1041"/>
                </a:lnTo>
                <a:lnTo>
                  <a:pt x="1751" y="1187"/>
                </a:lnTo>
                <a:lnTo>
                  <a:pt x="1751" y="1376"/>
                </a:lnTo>
                <a:lnTo>
                  <a:pt x="1707" y="1566"/>
                </a:lnTo>
                <a:lnTo>
                  <a:pt x="1707" y="1707"/>
                </a:lnTo>
                <a:lnTo>
                  <a:pt x="1707" y="1848"/>
                </a:lnTo>
                <a:lnTo>
                  <a:pt x="1751" y="2039"/>
                </a:lnTo>
                <a:lnTo>
                  <a:pt x="1751" y="1897"/>
                </a:lnTo>
                <a:lnTo>
                  <a:pt x="1751" y="1707"/>
                </a:lnTo>
                <a:lnTo>
                  <a:pt x="1800" y="1469"/>
                </a:lnTo>
                <a:lnTo>
                  <a:pt x="1800" y="1328"/>
                </a:lnTo>
                <a:lnTo>
                  <a:pt x="1800" y="1187"/>
                </a:lnTo>
                <a:lnTo>
                  <a:pt x="1751" y="1041"/>
                </a:lnTo>
                <a:lnTo>
                  <a:pt x="1751" y="900"/>
                </a:lnTo>
                <a:lnTo>
                  <a:pt x="1659" y="1090"/>
                </a:lnTo>
                <a:lnTo>
                  <a:pt x="1659" y="1231"/>
                </a:lnTo>
                <a:lnTo>
                  <a:pt x="1659" y="1420"/>
                </a:lnTo>
                <a:lnTo>
                  <a:pt x="1610" y="1614"/>
                </a:lnTo>
                <a:lnTo>
                  <a:pt x="1610" y="1804"/>
                </a:lnTo>
                <a:lnTo>
                  <a:pt x="1562" y="1945"/>
                </a:lnTo>
                <a:lnTo>
                  <a:pt x="1562" y="1804"/>
                </a:lnTo>
                <a:lnTo>
                  <a:pt x="1562" y="1517"/>
                </a:lnTo>
                <a:lnTo>
                  <a:pt x="1751" y="1041"/>
                </a:lnTo>
                <a:lnTo>
                  <a:pt x="1800" y="900"/>
                </a:lnTo>
                <a:lnTo>
                  <a:pt x="1800" y="759"/>
                </a:lnTo>
                <a:lnTo>
                  <a:pt x="1800" y="617"/>
                </a:lnTo>
                <a:lnTo>
                  <a:pt x="1659" y="710"/>
                </a:lnTo>
                <a:lnTo>
                  <a:pt x="1610" y="900"/>
                </a:lnTo>
                <a:lnTo>
                  <a:pt x="1420" y="1376"/>
                </a:lnTo>
                <a:lnTo>
                  <a:pt x="1376" y="1566"/>
                </a:lnTo>
                <a:lnTo>
                  <a:pt x="1328" y="1707"/>
                </a:lnTo>
                <a:lnTo>
                  <a:pt x="1328" y="1566"/>
                </a:lnTo>
                <a:lnTo>
                  <a:pt x="1469" y="1328"/>
                </a:lnTo>
                <a:lnTo>
                  <a:pt x="1517" y="1187"/>
                </a:lnTo>
                <a:lnTo>
                  <a:pt x="1517" y="1041"/>
                </a:lnTo>
                <a:lnTo>
                  <a:pt x="1469" y="1279"/>
                </a:lnTo>
                <a:lnTo>
                  <a:pt x="1420" y="1517"/>
                </a:lnTo>
                <a:lnTo>
                  <a:pt x="1420" y="1707"/>
                </a:lnTo>
                <a:lnTo>
                  <a:pt x="1376" y="1848"/>
                </a:lnTo>
                <a:lnTo>
                  <a:pt x="1376" y="2039"/>
                </a:lnTo>
                <a:lnTo>
                  <a:pt x="1420" y="1897"/>
                </a:lnTo>
                <a:lnTo>
                  <a:pt x="1562" y="1804"/>
                </a:lnTo>
                <a:lnTo>
                  <a:pt x="1610" y="1945"/>
                </a:lnTo>
                <a:lnTo>
                  <a:pt x="1610" y="2087"/>
                </a:lnTo>
                <a:lnTo>
                  <a:pt x="1751" y="2039"/>
                </a:lnTo>
                <a:lnTo>
                  <a:pt x="1897" y="1995"/>
                </a:lnTo>
                <a:lnTo>
                  <a:pt x="2038" y="1848"/>
                </a:lnTo>
                <a:lnTo>
                  <a:pt x="1897" y="1848"/>
                </a:lnTo>
                <a:lnTo>
                  <a:pt x="1751" y="1897"/>
                </a:lnTo>
                <a:lnTo>
                  <a:pt x="1562" y="1897"/>
                </a:lnTo>
                <a:lnTo>
                  <a:pt x="1376" y="1945"/>
                </a:lnTo>
                <a:lnTo>
                  <a:pt x="1517" y="1945"/>
                </a:lnTo>
                <a:lnTo>
                  <a:pt x="1751" y="1848"/>
                </a:lnTo>
                <a:lnTo>
                  <a:pt x="1989" y="1756"/>
                </a:lnTo>
                <a:lnTo>
                  <a:pt x="2082" y="1614"/>
                </a:lnTo>
                <a:lnTo>
                  <a:pt x="2082" y="1469"/>
                </a:lnTo>
                <a:lnTo>
                  <a:pt x="1989" y="1328"/>
                </a:lnTo>
                <a:lnTo>
                  <a:pt x="1848" y="1517"/>
                </a:lnTo>
                <a:lnTo>
                  <a:pt x="1707" y="1614"/>
                </a:lnTo>
                <a:lnTo>
                  <a:pt x="1562" y="1707"/>
                </a:lnTo>
                <a:lnTo>
                  <a:pt x="1376" y="1756"/>
                </a:lnTo>
                <a:lnTo>
                  <a:pt x="1230" y="1804"/>
                </a:lnTo>
                <a:lnTo>
                  <a:pt x="1089" y="1848"/>
                </a:lnTo>
                <a:lnTo>
                  <a:pt x="948" y="1995"/>
                </a:lnTo>
                <a:lnTo>
                  <a:pt x="806" y="2039"/>
                </a:lnTo>
                <a:lnTo>
                  <a:pt x="855" y="1848"/>
                </a:lnTo>
                <a:lnTo>
                  <a:pt x="948" y="1614"/>
                </a:lnTo>
                <a:lnTo>
                  <a:pt x="996" y="1469"/>
                </a:lnTo>
                <a:lnTo>
                  <a:pt x="1040" y="1328"/>
                </a:lnTo>
                <a:lnTo>
                  <a:pt x="899" y="1420"/>
                </a:lnTo>
                <a:lnTo>
                  <a:pt x="806" y="1566"/>
                </a:lnTo>
                <a:lnTo>
                  <a:pt x="709" y="1707"/>
                </a:lnTo>
                <a:lnTo>
                  <a:pt x="568" y="1804"/>
                </a:lnTo>
                <a:lnTo>
                  <a:pt x="427" y="1897"/>
                </a:lnTo>
                <a:lnTo>
                  <a:pt x="335" y="2039"/>
                </a:lnTo>
                <a:lnTo>
                  <a:pt x="238" y="2184"/>
                </a:lnTo>
                <a:lnTo>
                  <a:pt x="189" y="2325"/>
                </a:lnTo>
                <a:lnTo>
                  <a:pt x="189" y="2467"/>
                </a:lnTo>
                <a:lnTo>
                  <a:pt x="145" y="2608"/>
                </a:lnTo>
                <a:lnTo>
                  <a:pt x="0" y="2656"/>
                </a:lnTo>
                <a:lnTo>
                  <a:pt x="145" y="2515"/>
                </a:lnTo>
                <a:lnTo>
                  <a:pt x="286" y="2374"/>
                </a:lnTo>
                <a:lnTo>
                  <a:pt x="427" y="2277"/>
                </a:lnTo>
                <a:lnTo>
                  <a:pt x="476" y="2136"/>
                </a:lnTo>
                <a:lnTo>
                  <a:pt x="476" y="1995"/>
                </a:lnTo>
                <a:lnTo>
                  <a:pt x="568" y="1848"/>
                </a:lnTo>
                <a:lnTo>
                  <a:pt x="617" y="1707"/>
                </a:lnTo>
                <a:lnTo>
                  <a:pt x="665" y="1566"/>
                </a:lnTo>
                <a:lnTo>
                  <a:pt x="665" y="1420"/>
                </a:lnTo>
                <a:lnTo>
                  <a:pt x="709" y="1279"/>
                </a:lnTo>
                <a:lnTo>
                  <a:pt x="709" y="1138"/>
                </a:lnTo>
                <a:lnTo>
                  <a:pt x="758" y="997"/>
                </a:lnTo>
                <a:lnTo>
                  <a:pt x="758" y="852"/>
                </a:lnTo>
                <a:lnTo>
                  <a:pt x="855" y="710"/>
                </a:lnTo>
                <a:lnTo>
                  <a:pt x="996" y="568"/>
                </a:lnTo>
                <a:lnTo>
                  <a:pt x="1137" y="471"/>
                </a:lnTo>
                <a:lnTo>
                  <a:pt x="1279" y="379"/>
                </a:lnTo>
                <a:lnTo>
                  <a:pt x="1420" y="282"/>
                </a:lnTo>
                <a:lnTo>
                  <a:pt x="1562" y="189"/>
                </a:lnTo>
                <a:lnTo>
                  <a:pt x="1707" y="92"/>
                </a:lnTo>
                <a:lnTo>
                  <a:pt x="1848" y="0"/>
                </a:lnTo>
                <a:lnTo>
                  <a:pt x="1989" y="48"/>
                </a:lnTo>
                <a:lnTo>
                  <a:pt x="2130" y="141"/>
                </a:lnTo>
                <a:lnTo>
                  <a:pt x="2179" y="282"/>
                </a:lnTo>
                <a:lnTo>
                  <a:pt x="2179" y="427"/>
                </a:lnTo>
                <a:lnTo>
                  <a:pt x="2227" y="568"/>
                </a:lnTo>
                <a:lnTo>
                  <a:pt x="2227" y="710"/>
                </a:lnTo>
                <a:lnTo>
                  <a:pt x="2227" y="852"/>
                </a:lnTo>
                <a:lnTo>
                  <a:pt x="2272" y="997"/>
                </a:lnTo>
                <a:lnTo>
                  <a:pt x="2272" y="1138"/>
                </a:lnTo>
                <a:lnTo>
                  <a:pt x="2320" y="1279"/>
                </a:lnTo>
                <a:lnTo>
                  <a:pt x="2413" y="1420"/>
                </a:lnTo>
                <a:lnTo>
                  <a:pt x="2461" y="1566"/>
                </a:lnTo>
                <a:lnTo>
                  <a:pt x="2461" y="1707"/>
                </a:lnTo>
                <a:lnTo>
                  <a:pt x="2510" y="1848"/>
                </a:lnTo>
                <a:lnTo>
                  <a:pt x="2510" y="1995"/>
                </a:lnTo>
                <a:lnTo>
                  <a:pt x="2461" y="2136"/>
                </a:lnTo>
                <a:lnTo>
                  <a:pt x="2320" y="2228"/>
                </a:lnTo>
                <a:lnTo>
                  <a:pt x="2179" y="2325"/>
                </a:lnTo>
                <a:lnTo>
                  <a:pt x="2038" y="2374"/>
                </a:lnTo>
                <a:lnTo>
                  <a:pt x="1897" y="2374"/>
                </a:lnTo>
                <a:lnTo>
                  <a:pt x="1707" y="2374"/>
                </a:lnTo>
                <a:lnTo>
                  <a:pt x="1469" y="2374"/>
                </a:lnTo>
                <a:lnTo>
                  <a:pt x="1279" y="2374"/>
                </a:lnTo>
                <a:lnTo>
                  <a:pt x="1137" y="2325"/>
                </a:lnTo>
                <a:lnTo>
                  <a:pt x="996" y="2325"/>
                </a:lnTo>
                <a:lnTo>
                  <a:pt x="855" y="2325"/>
                </a:lnTo>
                <a:lnTo>
                  <a:pt x="709" y="2325"/>
                </a:lnTo>
                <a:lnTo>
                  <a:pt x="617" y="2184"/>
                </a:lnTo>
                <a:lnTo>
                  <a:pt x="568" y="2039"/>
                </a:lnTo>
                <a:lnTo>
                  <a:pt x="709" y="1897"/>
                </a:lnTo>
                <a:lnTo>
                  <a:pt x="855" y="1848"/>
                </a:lnTo>
                <a:lnTo>
                  <a:pt x="996" y="1707"/>
                </a:lnTo>
                <a:lnTo>
                  <a:pt x="1137" y="1614"/>
                </a:lnTo>
                <a:lnTo>
                  <a:pt x="1279" y="1469"/>
                </a:lnTo>
                <a:lnTo>
                  <a:pt x="1376" y="1614"/>
                </a:lnTo>
                <a:lnTo>
                  <a:pt x="1420" y="1756"/>
                </a:lnTo>
                <a:lnTo>
                  <a:pt x="1610" y="2228"/>
                </a:lnTo>
                <a:lnTo>
                  <a:pt x="1751" y="2325"/>
                </a:lnTo>
                <a:lnTo>
                  <a:pt x="1897" y="2184"/>
                </a:lnTo>
                <a:lnTo>
                  <a:pt x="2038" y="2087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88240" y="5248440"/>
            <a:ext cx="33840" cy="51120"/>
          </a:xfrm>
          <a:custGeom>
            <a:avLst/>
            <a:gdLst/>
            <a:ahLst/>
            <a:rect l="0" t="0" r="r" b="b"/>
            <a:pathLst>
              <a:path fill="none" w="94" h="142">
                <a:moveTo>
                  <a:pt x="0" y="0"/>
                </a:moveTo>
                <a:lnTo>
                  <a:pt x="94" y="142"/>
                </a:lnTo>
                <a:lnTo>
                  <a:pt x="0" y="98"/>
                </a:lnTo>
                <a:lnTo>
                  <a:pt x="0" y="48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042320" y="5205240"/>
            <a:ext cx="85680" cy="279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128000" y="4449600"/>
            <a:ext cx="868680" cy="1503720"/>
          </a:xfrm>
          <a:custGeom>
            <a:avLst/>
            <a:gdLst/>
            <a:ahLst/>
            <a:rect l="0" t="0" r="r" b="b"/>
            <a:pathLst>
              <a:path fill="none" w="2413" h="4177">
                <a:moveTo>
                  <a:pt x="0" y="2135"/>
                </a:moveTo>
                <a:lnTo>
                  <a:pt x="471" y="1283"/>
                </a:lnTo>
                <a:lnTo>
                  <a:pt x="758" y="286"/>
                </a:lnTo>
                <a:lnTo>
                  <a:pt x="1323" y="0"/>
                </a:lnTo>
                <a:lnTo>
                  <a:pt x="1892" y="0"/>
                </a:lnTo>
                <a:lnTo>
                  <a:pt x="2223" y="996"/>
                </a:lnTo>
                <a:lnTo>
                  <a:pt x="2413" y="1993"/>
                </a:lnTo>
                <a:lnTo>
                  <a:pt x="1844" y="3418"/>
                </a:lnTo>
                <a:lnTo>
                  <a:pt x="1844" y="3846"/>
                </a:lnTo>
                <a:lnTo>
                  <a:pt x="2272" y="4177"/>
                </a:lnTo>
                <a:lnTo>
                  <a:pt x="2272" y="412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42320" y="4449600"/>
            <a:ext cx="929160" cy="1486440"/>
          </a:xfrm>
          <a:custGeom>
            <a:avLst/>
            <a:gdLst/>
            <a:ahLst/>
            <a:rect l="0" t="0" r="r" b="b"/>
            <a:pathLst>
              <a:path fill="none" w="2581" h="4129">
                <a:moveTo>
                  <a:pt x="0" y="2849"/>
                </a:moveTo>
                <a:lnTo>
                  <a:pt x="26" y="2801"/>
                </a:lnTo>
                <a:lnTo>
                  <a:pt x="48" y="2704"/>
                </a:lnTo>
                <a:lnTo>
                  <a:pt x="74" y="2633"/>
                </a:lnTo>
                <a:lnTo>
                  <a:pt x="97" y="2541"/>
                </a:lnTo>
                <a:lnTo>
                  <a:pt x="145" y="2470"/>
                </a:lnTo>
                <a:lnTo>
                  <a:pt x="167" y="2395"/>
                </a:lnTo>
                <a:lnTo>
                  <a:pt x="189" y="2324"/>
                </a:lnTo>
                <a:lnTo>
                  <a:pt x="216" y="2254"/>
                </a:lnTo>
                <a:lnTo>
                  <a:pt x="260" y="2183"/>
                </a:lnTo>
                <a:lnTo>
                  <a:pt x="286" y="2113"/>
                </a:lnTo>
                <a:lnTo>
                  <a:pt x="308" y="2042"/>
                </a:lnTo>
                <a:lnTo>
                  <a:pt x="335" y="1972"/>
                </a:lnTo>
                <a:lnTo>
                  <a:pt x="379" y="1901"/>
                </a:lnTo>
                <a:lnTo>
                  <a:pt x="405" y="1853"/>
                </a:lnTo>
                <a:lnTo>
                  <a:pt x="427" y="1782"/>
                </a:lnTo>
                <a:lnTo>
                  <a:pt x="449" y="1734"/>
                </a:lnTo>
                <a:lnTo>
                  <a:pt x="498" y="1685"/>
                </a:lnTo>
                <a:lnTo>
                  <a:pt x="520" y="1637"/>
                </a:lnTo>
                <a:lnTo>
                  <a:pt x="546" y="1566"/>
                </a:lnTo>
                <a:lnTo>
                  <a:pt x="568" y="1517"/>
                </a:lnTo>
                <a:lnTo>
                  <a:pt x="595" y="1473"/>
                </a:lnTo>
                <a:lnTo>
                  <a:pt x="617" y="1403"/>
                </a:lnTo>
                <a:lnTo>
                  <a:pt x="639" y="1354"/>
                </a:lnTo>
                <a:lnTo>
                  <a:pt x="688" y="1284"/>
                </a:lnTo>
                <a:lnTo>
                  <a:pt x="710" y="1235"/>
                </a:lnTo>
                <a:lnTo>
                  <a:pt x="710" y="1187"/>
                </a:lnTo>
                <a:lnTo>
                  <a:pt x="737" y="1116"/>
                </a:lnTo>
                <a:lnTo>
                  <a:pt x="759" y="1068"/>
                </a:lnTo>
                <a:lnTo>
                  <a:pt x="781" y="996"/>
                </a:lnTo>
                <a:lnTo>
                  <a:pt x="807" y="926"/>
                </a:lnTo>
                <a:lnTo>
                  <a:pt x="830" y="877"/>
                </a:lnTo>
                <a:lnTo>
                  <a:pt x="856" y="806"/>
                </a:lnTo>
                <a:lnTo>
                  <a:pt x="856" y="758"/>
                </a:lnTo>
                <a:lnTo>
                  <a:pt x="878" y="687"/>
                </a:lnTo>
                <a:lnTo>
                  <a:pt x="900" y="643"/>
                </a:lnTo>
                <a:lnTo>
                  <a:pt x="927" y="595"/>
                </a:lnTo>
                <a:lnTo>
                  <a:pt x="949" y="524"/>
                </a:lnTo>
                <a:lnTo>
                  <a:pt x="971" y="476"/>
                </a:lnTo>
                <a:lnTo>
                  <a:pt x="997" y="427"/>
                </a:lnTo>
                <a:lnTo>
                  <a:pt x="1019" y="405"/>
                </a:lnTo>
                <a:lnTo>
                  <a:pt x="1041" y="357"/>
                </a:lnTo>
                <a:lnTo>
                  <a:pt x="1068" y="308"/>
                </a:lnTo>
                <a:lnTo>
                  <a:pt x="1090" y="286"/>
                </a:lnTo>
                <a:lnTo>
                  <a:pt x="1138" y="260"/>
                </a:lnTo>
                <a:lnTo>
                  <a:pt x="1160" y="216"/>
                </a:lnTo>
                <a:lnTo>
                  <a:pt x="1187" y="189"/>
                </a:lnTo>
                <a:lnTo>
                  <a:pt x="1231" y="167"/>
                </a:lnTo>
                <a:lnTo>
                  <a:pt x="1257" y="145"/>
                </a:lnTo>
                <a:lnTo>
                  <a:pt x="1301" y="145"/>
                </a:lnTo>
                <a:lnTo>
                  <a:pt x="1328" y="119"/>
                </a:lnTo>
                <a:lnTo>
                  <a:pt x="1376" y="97"/>
                </a:lnTo>
                <a:lnTo>
                  <a:pt x="1398" y="97"/>
                </a:lnTo>
                <a:lnTo>
                  <a:pt x="1447" y="70"/>
                </a:lnTo>
                <a:lnTo>
                  <a:pt x="1469" y="70"/>
                </a:lnTo>
                <a:lnTo>
                  <a:pt x="1517" y="48"/>
                </a:lnTo>
                <a:lnTo>
                  <a:pt x="1539" y="48"/>
                </a:lnTo>
                <a:lnTo>
                  <a:pt x="1588" y="26"/>
                </a:lnTo>
                <a:lnTo>
                  <a:pt x="1610" y="26"/>
                </a:lnTo>
                <a:lnTo>
                  <a:pt x="1659" y="26"/>
                </a:lnTo>
                <a:lnTo>
                  <a:pt x="1681" y="0"/>
                </a:lnTo>
                <a:lnTo>
                  <a:pt x="1729" y="0"/>
                </a:lnTo>
                <a:lnTo>
                  <a:pt x="1751" y="0"/>
                </a:lnTo>
                <a:lnTo>
                  <a:pt x="1800" y="0"/>
                </a:lnTo>
                <a:lnTo>
                  <a:pt x="1822" y="0"/>
                </a:lnTo>
                <a:lnTo>
                  <a:pt x="1870" y="0"/>
                </a:lnTo>
                <a:lnTo>
                  <a:pt x="1897" y="0"/>
                </a:lnTo>
                <a:lnTo>
                  <a:pt x="1942" y="0"/>
                </a:lnTo>
                <a:lnTo>
                  <a:pt x="1968" y="26"/>
                </a:lnTo>
                <a:lnTo>
                  <a:pt x="1990" y="48"/>
                </a:lnTo>
                <a:lnTo>
                  <a:pt x="2039" y="48"/>
                </a:lnTo>
                <a:lnTo>
                  <a:pt x="2061" y="70"/>
                </a:lnTo>
                <a:lnTo>
                  <a:pt x="2083" y="119"/>
                </a:lnTo>
                <a:lnTo>
                  <a:pt x="2109" y="145"/>
                </a:lnTo>
                <a:lnTo>
                  <a:pt x="2131" y="167"/>
                </a:lnTo>
                <a:lnTo>
                  <a:pt x="2180" y="216"/>
                </a:lnTo>
                <a:lnTo>
                  <a:pt x="2202" y="260"/>
                </a:lnTo>
                <a:lnTo>
                  <a:pt x="2228" y="308"/>
                </a:lnTo>
                <a:lnTo>
                  <a:pt x="2250" y="357"/>
                </a:lnTo>
                <a:lnTo>
                  <a:pt x="2273" y="405"/>
                </a:lnTo>
                <a:lnTo>
                  <a:pt x="2299" y="476"/>
                </a:lnTo>
                <a:lnTo>
                  <a:pt x="2299" y="524"/>
                </a:lnTo>
                <a:lnTo>
                  <a:pt x="2321" y="595"/>
                </a:lnTo>
                <a:lnTo>
                  <a:pt x="2343" y="665"/>
                </a:lnTo>
                <a:lnTo>
                  <a:pt x="2370" y="714"/>
                </a:lnTo>
                <a:lnTo>
                  <a:pt x="2392" y="784"/>
                </a:lnTo>
                <a:lnTo>
                  <a:pt x="2392" y="833"/>
                </a:lnTo>
                <a:lnTo>
                  <a:pt x="2414" y="903"/>
                </a:lnTo>
                <a:lnTo>
                  <a:pt x="2440" y="974"/>
                </a:lnTo>
                <a:lnTo>
                  <a:pt x="2462" y="1023"/>
                </a:lnTo>
                <a:lnTo>
                  <a:pt x="2462" y="1094"/>
                </a:lnTo>
                <a:lnTo>
                  <a:pt x="2489" y="1165"/>
                </a:lnTo>
                <a:lnTo>
                  <a:pt x="2511" y="1213"/>
                </a:lnTo>
                <a:lnTo>
                  <a:pt x="2511" y="1284"/>
                </a:lnTo>
                <a:lnTo>
                  <a:pt x="2533" y="1328"/>
                </a:lnTo>
                <a:lnTo>
                  <a:pt x="2533" y="1403"/>
                </a:lnTo>
                <a:lnTo>
                  <a:pt x="2559" y="1473"/>
                </a:lnTo>
                <a:lnTo>
                  <a:pt x="2559" y="1517"/>
                </a:lnTo>
                <a:lnTo>
                  <a:pt x="2581" y="1592"/>
                </a:lnTo>
                <a:lnTo>
                  <a:pt x="2581" y="1663"/>
                </a:lnTo>
                <a:lnTo>
                  <a:pt x="2581" y="1734"/>
                </a:lnTo>
                <a:lnTo>
                  <a:pt x="2581" y="1804"/>
                </a:lnTo>
                <a:lnTo>
                  <a:pt x="2581" y="1853"/>
                </a:lnTo>
                <a:lnTo>
                  <a:pt x="2581" y="1945"/>
                </a:lnTo>
                <a:lnTo>
                  <a:pt x="2559" y="2016"/>
                </a:lnTo>
                <a:lnTo>
                  <a:pt x="2559" y="2091"/>
                </a:lnTo>
                <a:lnTo>
                  <a:pt x="2533" y="2161"/>
                </a:lnTo>
                <a:lnTo>
                  <a:pt x="2511" y="2232"/>
                </a:lnTo>
                <a:lnTo>
                  <a:pt x="2511" y="2324"/>
                </a:lnTo>
                <a:lnTo>
                  <a:pt x="2489" y="2395"/>
                </a:lnTo>
                <a:lnTo>
                  <a:pt x="2440" y="2492"/>
                </a:lnTo>
                <a:lnTo>
                  <a:pt x="2414" y="2563"/>
                </a:lnTo>
                <a:lnTo>
                  <a:pt x="2392" y="2660"/>
                </a:lnTo>
                <a:lnTo>
                  <a:pt x="2343" y="2752"/>
                </a:lnTo>
                <a:lnTo>
                  <a:pt x="2321" y="2823"/>
                </a:lnTo>
                <a:lnTo>
                  <a:pt x="2299" y="2920"/>
                </a:lnTo>
                <a:lnTo>
                  <a:pt x="2250" y="2990"/>
                </a:lnTo>
                <a:lnTo>
                  <a:pt x="2228" y="3061"/>
                </a:lnTo>
                <a:lnTo>
                  <a:pt x="2202" y="3132"/>
                </a:lnTo>
                <a:lnTo>
                  <a:pt x="2180" y="3203"/>
                </a:lnTo>
                <a:lnTo>
                  <a:pt x="2158" y="3274"/>
                </a:lnTo>
                <a:lnTo>
                  <a:pt x="2158" y="3322"/>
                </a:lnTo>
                <a:lnTo>
                  <a:pt x="2131" y="3371"/>
                </a:lnTo>
                <a:lnTo>
                  <a:pt x="2109" y="3419"/>
                </a:lnTo>
                <a:lnTo>
                  <a:pt x="2109" y="3463"/>
                </a:lnTo>
                <a:lnTo>
                  <a:pt x="2109" y="3512"/>
                </a:lnTo>
                <a:lnTo>
                  <a:pt x="2083" y="3560"/>
                </a:lnTo>
                <a:lnTo>
                  <a:pt x="2083" y="3582"/>
                </a:lnTo>
                <a:lnTo>
                  <a:pt x="2083" y="3609"/>
                </a:lnTo>
                <a:lnTo>
                  <a:pt x="2083" y="3653"/>
                </a:lnTo>
                <a:lnTo>
                  <a:pt x="2083" y="3679"/>
                </a:lnTo>
                <a:lnTo>
                  <a:pt x="2083" y="3701"/>
                </a:lnTo>
                <a:lnTo>
                  <a:pt x="2083" y="3728"/>
                </a:lnTo>
                <a:lnTo>
                  <a:pt x="2109" y="3750"/>
                </a:lnTo>
                <a:lnTo>
                  <a:pt x="2109" y="3772"/>
                </a:lnTo>
                <a:lnTo>
                  <a:pt x="2109" y="3798"/>
                </a:lnTo>
                <a:lnTo>
                  <a:pt x="2131" y="3820"/>
                </a:lnTo>
                <a:lnTo>
                  <a:pt x="2158" y="3847"/>
                </a:lnTo>
                <a:lnTo>
                  <a:pt x="2158" y="3869"/>
                </a:lnTo>
                <a:lnTo>
                  <a:pt x="2180" y="3891"/>
                </a:lnTo>
                <a:lnTo>
                  <a:pt x="2202" y="3917"/>
                </a:lnTo>
                <a:lnTo>
                  <a:pt x="2202" y="3939"/>
                </a:lnTo>
                <a:lnTo>
                  <a:pt x="2228" y="3961"/>
                </a:lnTo>
                <a:lnTo>
                  <a:pt x="2250" y="3988"/>
                </a:lnTo>
                <a:lnTo>
                  <a:pt x="2273" y="4010"/>
                </a:lnTo>
                <a:lnTo>
                  <a:pt x="2321" y="4010"/>
                </a:lnTo>
                <a:lnTo>
                  <a:pt x="2343" y="4036"/>
                </a:lnTo>
                <a:lnTo>
                  <a:pt x="2370" y="4058"/>
                </a:lnTo>
                <a:lnTo>
                  <a:pt x="2392" y="4080"/>
                </a:lnTo>
                <a:lnTo>
                  <a:pt x="2414" y="4107"/>
                </a:lnTo>
                <a:lnTo>
                  <a:pt x="2440" y="4107"/>
                </a:lnTo>
                <a:lnTo>
                  <a:pt x="2440" y="4129"/>
                </a:lnTo>
                <a:lnTo>
                  <a:pt x="2462" y="4129"/>
                </a:lnTo>
                <a:lnTo>
                  <a:pt x="2489" y="4129"/>
                </a:lnTo>
                <a:lnTo>
                  <a:pt x="2511" y="412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269120" y="1347840"/>
            <a:ext cx="387360" cy="36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39080" y="1525680"/>
            <a:ext cx="332280" cy="27360"/>
          </a:xfrm>
          <a:custGeom>
            <a:avLst/>
            <a:gdLst/>
            <a:ahLst/>
            <a:rect l="0" t="0" r="r" b="b"/>
            <a:pathLst>
              <a:path fill="none" w="923" h="76">
                <a:moveTo>
                  <a:pt x="0" y="76"/>
                </a:moveTo>
                <a:lnTo>
                  <a:pt x="119" y="0"/>
                </a:lnTo>
                <a:lnTo>
                  <a:pt x="261" y="0"/>
                </a:lnTo>
                <a:lnTo>
                  <a:pt x="450" y="0"/>
                </a:lnTo>
                <a:lnTo>
                  <a:pt x="591" y="0"/>
                </a:lnTo>
                <a:lnTo>
                  <a:pt x="782" y="0"/>
                </a:lnTo>
                <a:lnTo>
                  <a:pt x="923" y="0"/>
                </a:lnTo>
              </a:path>
            </a:pathLst>
          </a:custGeom>
          <a:ln w="12600">
            <a:solidFill>
              <a:srgbClr val="333333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56400" y="1449360"/>
            <a:ext cx="1472040" cy="197280"/>
          </a:xfrm>
          <a:custGeom>
            <a:avLst/>
            <a:gdLst/>
            <a:ahLst/>
            <a:rect l="0" t="0" r="r" b="b"/>
            <a:pathLst>
              <a:path fill="none" w="4089" h="548">
                <a:moveTo>
                  <a:pt x="1985" y="212"/>
                </a:moveTo>
                <a:lnTo>
                  <a:pt x="2104" y="212"/>
                </a:lnTo>
                <a:lnTo>
                  <a:pt x="2316" y="212"/>
                </a:lnTo>
                <a:lnTo>
                  <a:pt x="2435" y="212"/>
                </a:lnTo>
                <a:lnTo>
                  <a:pt x="2576" y="212"/>
                </a:lnTo>
                <a:lnTo>
                  <a:pt x="2695" y="142"/>
                </a:lnTo>
                <a:lnTo>
                  <a:pt x="2836" y="142"/>
                </a:lnTo>
                <a:lnTo>
                  <a:pt x="2977" y="142"/>
                </a:lnTo>
                <a:lnTo>
                  <a:pt x="3097" y="70"/>
                </a:lnTo>
                <a:lnTo>
                  <a:pt x="3238" y="70"/>
                </a:lnTo>
                <a:lnTo>
                  <a:pt x="3357" y="70"/>
                </a:lnTo>
                <a:lnTo>
                  <a:pt x="3569" y="142"/>
                </a:lnTo>
                <a:lnTo>
                  <a:pt x="3688" y="142"/>
                </a:lnTo>
                <a:lnTo>
                  <a:pt x="3640" y="261"/>
                </a:lnTo>
                <a:lnTo>
                  <a:pt x="3640" y="406"/>
                </a:lnTo>
                <a:lnTo>
                  <a:pt x="3498" y="331"/>
                </a:lnTo>
                <a:lnTo>
                  <a:pt x="3309" y="331"/>
                </a:lnTo>
                <a:lnTo>
                  <a:pt x="3168" y="212"/>
                </a:lnTo>
                <a:lnTo>
                  <a:pt x="3026" y="212"/>
                </a:lnTo>
                <a:lnTo>
                  <a:pt x="2907" y="212"/>
                </a:lnTo>
                <a:lnTo>
                  <a:pt x="2765" y="212"/>
                </a:lnTo>
                <a:lnTo>
                  <a:pt x="2646" y="212"/>
                </a:lnTo>
                <a:lnTo>
                  <a:pt x="2435" y="212"/>
                </a:lnTo>
                <a:lnTo>
                  <a:pt x="2316" y="261"/>
                </a:lnTo>
                <a:lnTo>
                  <a:pt x="2174" y="331"/>
                </a:lnTo>
                <a:lnTo>
                  <a:pt x="2033" y="406"/>
                </a:lnTo>
                <a:lnTo>
                  <a:pt x="1914" y="406"/>
                </a:lnTo>
                <a:lnTo>
                  <a:pt x="1773" y="331"/>
                </a:lnTo>
                <a:lnTo>
                  <a:pt x="1703" y="212"/>
                </a:lnTo>
                <a:lnTo>
                  <a:pt x="1513" y="70"/>
                </a:lnTo>
                <a:lnTo>
                  <a:pt x="1323" y="0"/>
                </a:lnTo>
                <a:lnTo>
                  <a:pt x="1182" y="0"/>
                </a:lnTo>
                <a:lnTo>
                  <a:pt x="1037" y="70"/>
                </a:lnTo>
                <a:lnTo>
                  <a:pt x="851" y="142"/>
                </a:lnTo>
                <a:lnTo>
                  <a:pt x="705" y="142"/>
                </a:lnTo>
                <a:lnTo>
                  <a:pt x="515" y="142"/>
                </a:lnTo>
                <a:lnTo>
                  <a:pt x="401" y="142"/>
                </a:lnTo>
                <a:lnTo>
                  <a:pt x="255" y="212"/>
                </a:lnTo>
                <a:lnTo>
                  <a:pt x="114" y="212"/>
                </a:lnTo>
                <a:lnTo>
                  <a:pt x="0" y="212"/>
                </a:lnTo>
                <a:lnTo>
                  <a:pt x="114" y="212"/>
                </a:lnTo>
                <a:lnTo>
                  <a:pt x="255" y="212"/>
                </a:lnTo>
                <a:lnTo>
                  <a:pt x="330" y="331"/>
                </a:lnTo>
                <a:lnTo>
                  <a:pt x="445" y="331"/>
                </a:lnTo>
                <a:lnTo>
                  <a:pt x="590" y="261"/>
                </a:lnTo>
                <a:lnTo>
                  <a:pt x="661" y="142"/>
                </a:lnTo>
                <a:lnTo>
                  <a:pt x="776" y="142"/>
                </a:lnTo>
                <a:lnTo>
                  <a:pt x="921" y="142"/>
                </a:lnTo>
                <a:lnTo>
                  <a:pt x="1037" y="261"/>
                </a:lnTo>
                <a:lnTo>
                  <a:pt x="1182" y="261"/>
                </a:lnTo>
                <a:lnTo>
                  <a:pt x="1323" y="261"/>
                </a:lnTo>
                <a:lnTo>
                  <a:pt x="1442" y="406"/>
                </a:lnTo>
                <a:lnTo>
                  <a:pt x="1584" y="406"/>
                </a:lnTo>
                <a:lnTo>
                  <a:pt x="1703" y="331"/>
                </a:lnTo>
                <a:lnTo>
                  <a:pt x="1844" y="331"/>
                </a:lnTo>
                <a:lnTo>
                  <a:pt x="1985" y="261"/>
                </a:lnTo>
                <a:lnTo>
                  <a:pt x="2104" y="331"/>
                </a:lnTo>
                <a:lnTo>
                  <a:pt x="2316" y="406"/>
                </a:lnTo>
                <a:lnTo>
                  <a:pt x="2435" y="406"/>
                </a:lnTo>
                <a:lnTo>
                  <a:pt x="2576" y="331"/>
                </a:lnTo>
                <a:lnTo>
                  <a:pt x="2695" y="331"/>
                </a:lnTo>
                <a:lnTo>
                  <a:pt x="2836" y="331"/>
                </a:lnTo>
                <a:lnTo>
                  <a:pt x="3026" y="261"/>
                </a:lnTo>
                <a:lnTo>
                  <a:pt x="3238" y="212"/>
                </a:lnTo>
                <a:lnTo>
                  <a:pt x="3238" y="331"/>
                </a:lnTo>
                <a:lnTo>
                  <a:pt x="3357" y="331"/>
                </a:lnTo>
                <a:lnTo>
                  <a:pt x="3498" y="261"/>
                </a:lnTo>
                <a:lnTo>
                  <a:pt x="3640" y="142"/>
                </a:lnTo>
                <a:lnTo>
                  <a:pt x="3759" y="70"/>
                </a:lnTo>
                <a:lnTo>
                  <a:pt x="3900" y="142"/>
                </a:lnTo>
                <a:lnTo>
                  <a:pt x="4019" y="142"/>
                </a:lnTo>
                <a:lnTo>
                  <a:pt x="3970" y="261"/>
                </a:lnTo>
                <a:lnTo>
                  <a:pt x="3900" y="406"/>
                </a:lnTo>
                <a:lnTo>
                  <a:pt x="3829" y="548"/>
                </a:lnTo>
                <a:lnTo>
                  <a:pt x="3688" y="406"/>
                </a:lnTo>
                <a:lnTo>
                  <a:pt x="3640" y="261"/>
                </a:lnTo>
                <a:lnTo>
                  <a:pt x="3498" y="212"/>
                </a:lnTo>
                <a:lnTo>
                  <a:pt x="3357" y="142"/>
                </a:lnTo>
                <a:lnTo>
                  <a:pt x="3238" y="142"/>
                </a:lnTo>
                <a:lnTo>
                  <a:pt x="3097" y="212"/>
                </a:lnTo>
                <a:lnTo>
                  <a:pt x="2977" y="212"/>
                </a:lnTo>
                <a:lnTo>
                  <a:pt x="2836" y="261"/>
                </a:lnTo>
                <a:lnTo>
                  <a:pt x="2695" y="261"/>
                </a:lnTo>
                <a:lnTo>
                  <a:pt x="2576" y="331"/>
                </a:lnTo>
                <a:lnTo>
                  <a:pt x="2435" y="331"/>
                </a:lnTo>
                <a:lnTo>
                  <a:pt x="2316" y="261"/>
                </a:lnTo>
                <a:lnTo>
                  <a:pt x="2174" y="261"/>
                </a:lnTo>
                <a:lnTo>
                  <a:pt x="1985" y="331"/>
                </a:lnTo>
                <a:lnTo>
                  <a:pt x="1773" y="331"/>
                </a:lnTo>
                <a:lnTo>
                  <a:pt x="1654" y="212"/>
                </a:lnTo>
                <a:lnTo>
                  <a:pt x="1513" y="212"/>
                </a:lnTo>
                <a:lnTo>
                  <a:pt x="1372" y="212"/>
                </a:lnTo>
                <a:lnTo>
                  <a:pt x="1253" y="261"/>
                </a:lnTo>
                <a:lnTo>
                  <a:pt x="1112" y="261"/>
                </a:lnTo>
                <a:lnTo>
                  <a:pt x="992" y="142"/>
                </a:lnTo>
                <a:lnTo>
                  <a:pt x="851" y="142"/>
                </a:lnTo>
                <a:lnTo>
                  <a:pt x="661" y="212"/>
                </a:lnTo>
                <a:lnTo>
                  <a:pt x="515" y="212"/>
                </a:lnTo>
                <a:lnTo>
                  <a:pt x="445" y="70"/>
                </a:lnTo>
                <a:lnTo>
                  <a:pt x="330" y="142"/>
                </a:lnTo>
                <a:lnTo>
                  <a:pt x="185" y="212"/>
                </a:lnTo>
                <a:lnTo>
                  <a:pt x="70" y="261"/>
                </a:lnTo>
                <a:lnTo>
                  <a:pt x="185" y="331"/>
                </a:lnTo>
                <a:lnTo>
                  <a:pt x="330" y="261"/>
                </a:lnTo>
                <a:lnTo>
                  <a:pt x="445" y="212"/>
                </a:lnTo>
                <a:lnTo>
                  <a:pt x="590" y="142"/>
                </a:lnTo>
                <a:lnTo>
                  <a:pt x="661" y="261"/>
                </a:lnTo>
                <a:lnTo>
                  <a:pt x="661" y="406"/>
                </a:lnTo>
                <a:lnTo>
                  <a:pt x="776" y="331"/>
                </a:lnTo>
                <a:lnTo>
                  <a:pt x="921" y="212"/>
                </a:lnTo>
                <a:lnTo>
                  <a:pt x="921" y="331"/>
                </a:lnTo>
                <a:lnTo>
                  <a:pt x="1037" y="331"/>
                </a:lnTo>
                <a:lnTo>
                  <a:pt x="1182" y="261"/>
                </a:lnTo>
                <a:lnTo>
                  <a:pt x="1323" y="212"/>
                </a:lnTo>
                <a:lnTo>
                  <a:pt x="1323" y="331"/>
                </a:lnTo>
                <a:lnTo>
                  <a:pt x="1442" y="261"/>
                </a:lnTo>
                <a:lnTo>
                  <a:pt x="1654" y="212"/>
                </a:lnTo>
                <a:lnTo>
                  <a:pt x="1703" y="331"/>
                </a:lnTo>
                <a:lnTo>
                  <a:pt x="1914" y="331"/>
                </a:lnTo>
                <a:lnTo>
                  <a:pt x="2033" y="261"/>
                </a:lnTo>
                <a:lnTo>
                  <a:pt x="2104" y="406"/>
                </a:lnTo>
                <a:lnTo>
                  <a:pt x="2245" y="478"/>
                </a:lnTo>
                <a:lnTo>
                  <a:pt x="2435" y="331"/>
                </a:lnTo>
                <a:lnTo>
                  <a:pt x="2576" y="331"/>
                </a:lnTo>
                <a:lnTo>
                  <a:pt x="2695" y="261"/>
                </a:lnTo>
                <a:lnTo>
                  <a:pt x="2836" y="212"/>
                </a:lnTo>
                <a:lnTo>
                  <a:pt x="2977" y="331"/>
                </a:lnTo>
                <a:lnTo>
                  <a:pt x="3097" y="406"/>
                </a:lnTo>
                <a:lnTo>
                  <a:pt x="3309" y="331"/>
                </a:lnTo>
                <a:lnTo>
                  <a:pt x="3428" y="261"/>
                </a:lnTo>
                <a:lnTo>
                  <a:pt x="3428" y="406"/>
                </a:lnTo>
                <a:lnTo>
                  <a:pt x="3569" y="406"/>
                </a:lnTo>
                <a:lnTo>
                  <a:pt x="3640" y="261"/>
                </a:lnTo>
                <a:lnTo>
                  <a:pt x="3759" y="212"/>
                </a:lnTo>
                <a:lnTo>
                  <a:pt x="3900" y="70"/>
                </a:lnTo>
                <a:lnTo>
                  <a:pt x="3900" y="212"/>
                </a:lnTo>
                <a:lnTo>
                  <a:pt x="3900" y="331"/>
                </a:lnTo>
                <a:lnTo>
                  <a:pt x="3970" y="212"/>
                </a:lnTo>
                <a:lnTo>
                  <a:pt x="4019" y="212"/>
                </a:lnTo>
                <a:lnTo>
                  <a:pt x="4089" y="142"/>
                </a:lnTo>
              </a:path>
            </a:pathLst>
          </a:custGeom>
          <a:ln w="12600">
            <a:solidFill>
              <a:srgbClr val="33333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51800" y="1704960"/>
            <a:ext cx="93600" cy="9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651800" y="1244520"/>
            <a:ext cx="9360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91360" y="1244520"/>
            <a:ext cx="9540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91360" y="1704960"/>
            <a:ext cx="95400" cy="9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42680" y="1449360"/>
            <a:ext cx="83520" cy="32040"/>
          </a:xfrm>
          <a:custGeom>
            <a:avLst/>
            <a:gdLst/>
            <a:ahLst/>
            <a:rect l="0" t="0" r="r" b="b"/>
            <a:pathLst>
              <a:path fill="none" w="232" h="89">
                <a:moveTo>
                  <a:pt x="232" y="89"/>
                </a:moveTo>
                <a:lnTo>
                  <a:pt x="232" y="89"/>
                </a:lnTo>
                <a:lnTo>
                  <a:pt x="232" y="89"/>
                </a:lnTo>
                <a:cubicBezTo>
                  <a:pt x="232" y="73"/>
                  <a:pt x="221" y="58"/>
                  <a:pt x="201" y="44"/>
                </a:cubicBezTo>
                <a:cubicBezTo>
                  <a:pt x="181" y="31"/>
                  <a:pt x="151" y="20"/>
                  <a:pt x="116" y="12"/>
                </a:cubicBezTo>
                <a:cubicBezTo>
                  <a:pt x="81" y="4"/>
                  <a:pt x="41" y="0"/>
                  <a:pt x="0" y="0"/>
                </a:cubicBez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67440" y="1270080"/>
            <a:ext cx="128880" cy="43200"/>
          </a:xfrm>
          <a:custGeom>
            <a:avLst/>
            <a:gdLst/>
            <a:ahLst/>
            <a:rect l="0" t="0" r="r" b="b"/>
            <a:pathLst>
              <a:path fill="none" w="358" h="120">
                <a:moveTo>
                  <a:pt x="358" y="0"/>
                </a:moveTo>
                <a:lnTo>
                  <a:pt x="239" y="26"/>
                </a:lnTo>
                <a:lnTo>
                  <a:pt x="119" y="26"/>
                </a:lnTo>
                <a:lnTo>
                  <a:pt x="0" y="120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07240" y="1116000"/>
            <a:ext cx="93960" cy="68760"/>
          </a:xfrm>
          <a:custGeom>
            <a:avLst/>
            <a:gdLst/>
            <a:ahLst/>
            <a:rect l="0" t="0" r="r" b="b"/>
            <a:pathLst>
              <a:path fill="none" w="261" h="191">
                <a:moveTo>
                  <a:pt x="261" y="0"/>
                </a:moveTo>
                <a:lnTo>
                  <a:pt x="142" y="49"/>
                </a:lnTo>
                <a:lnTo>
                  <a:pt x="22" y="120"/>
                </a:lnTo>
                <a:lnTo>
                  <a:pt x="0" y="191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10320" y="1057320"/>
            <a:ext cx="0" cy="75960"/>
          </a:xfrm>
          <a:custGeom>
            <a:avLst/>
            <a:gdLst/>
            <a:ahLst/>
            <a:rect l="0" t="0" r="r" b="b"/>
            <a:pathLst>
              <a:path fill="none" w="0" h="211">
                <a:moveTo>
                  <a:pt x="0" y="0"/>
                </a:moveTo>
                <a:lnTo>
                  <a:pt x="0" y="119"/>
                </a:lnTo>
                <a:lnTo>
                  <a:pt x="0" y="211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19720" y="1108080"/>
            <a:ext cx="160560" cy="51120"/>
          </a:xfrm>
          <a:custGeom>
            <a:avLst/>
            <a:gdLst/>
            <a:ahLst/>
            <a:rect l="0" t="0" r="r" b="b"/>
            <a:pathLst>
              <a:path fill="none" w="446" h="142">
                <a:moveTo>
                  <a:pt x="0" y="0"/>
                </a:moveTo>
                <a:lnTo>
                  <a:pt x="114" y="22"/>
                </a:lnTo>
                <a:lnTo>
                  <a:pt x="261" y="22"/>
                </a:lnTo>
                <a:lnTo>
                  <a:pt x="375" y="70"/>
                </a:lnTo>
                <a:lnTo>
                  <a:pt x="446" y="142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91200" y="1252440"/>
            <a:ext cx="101880" cy="18000"/>
          </a:xfrm>
          <a:custGeom>
            <a:avLst/>
            <a:gdLst/>
            <a:ahLst/>
            <a:rect l="0" t="0" r="r" b="b"/>
            <a:pathLst>
              <a:path fill="none" w="283" h="50">
                <a:moveTo>
                  <a:pt x="0" y="27"/>
                </a:moveTo>
                <a:lnTo>
                  <a:pt x="119" y="0"/>
                </a:lnTo>
                <a:lnTo>
                  <a:pt x="239" y="27"/>
                </a:lnTo>
                <a:lnTo>
                  <a:pt x="283" y="50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83280" y="1441440"/>
            <a:ext cx="109800" cy="43200"/>
          </a:xfrm>
          <a:custGeom>
            <a:avLst/>
            <a:gdLst/>
            <a:ahLst/>
            <a:rect l="0" t="0" r="r" b="b"/>
            <a:pathLst>
              <a:path fill="none" w="305" h="120">
                <a:moveTo>
                  <a:pt x="0" y="120"/>
                </a:moveTo>
                <a:lnTo>
                  <a:pt x="119" y="22"/>
                </a:lnTo>
                <a:lnTo>
                  <a:pt x="234" y="0"/>
                </a:lnTo>
                <a:lnTo>
                  <a:pt x="305" y="0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59360" y="1936800"/>
            <a:ext cx="170280" cy="563760"/>
          </a:xfrm>
          <a:custGeom>
            <a:avLst/>
            <a:gdLst/>
            <a:ahLst/>
            <a:rect l="0" t="0" r="r" b="b"/>
            <a:pathLst>
              <a:path fill="none" w="473" h="1566">
                <a:moveTo>
                  <a:pt x="164" y="0"/>
                </a:moveTo>
                <a:lnTo>
                  <a:pt x="0" y="687"/>
                </a:lnTo>
                <a:lnTo>
                  <a:pt x="212" y="639"/>
                </a:lnTo>
                <a:lnTo>
                  <a:pt x="0" y="1566"/>
                </a:lnTo>
                <a:lnTo>
                  <a:pt x="473" y="423"/>
                </a:lnTo>
                <a:lnTo>
                  <a:pt x="142" y="520"/>
                </a:lnTo>
                <a:lnTo>
                  <a:pt x="473" y="4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365720" y="1962000"/>
            <a:ext cx="127440" cy="470160"/>
          </a:xfrm>
          <a:custGeom>
            <a:avLst/>
            <a:gdLst/>
            <a:ahLst/>
            <a:rect l="0" t="0" r="r" b="b"/>
            <a:pathLst>
              <a:path fill="none" w="354" h="1306">
                <a:moveTo>
                  <a:pt x="120" y="0"/>
                </a:moveTo>
                <a:lnTo>
                  <a:pt x="0" y="568"/>
                </a:lnTo>
                <a:lnTo>
                  <a:pt x="164" y="520"/>
                </a:lnTo>
                <a:lnTo>
                  <a:pt x="0" y="1306"/>
                </a:lnTo>
                <a:lnTo>
                  <a:pt x="354" y="352"/>
                </a:lnTo>
                <a:lnTo>
                  <a:pt x="120" y="427"/>
                </a:lnTo>
                <a:lnTo>
                  <a:pt x="354" y="4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83280" y="1790640"/>
            <a:ext cx="902160" cy="563760"/>
          </a:xfrm>
          <a:custGeom>
            <a:avLst/>
            <a:gdLst/>
            <a:ahLst/>
            <a:rect l="0" t="0" r="r" b="b"/>
            <a:pathLst>
              <a:path fill="none" w="2506" h="1566">
                <a:moveTo>
                  <a:pt x="684" y="0"/>
                </a:moveTo>
                <a:lnTo>
                  <a:pt x="564" y="97"/>
                </a:lnTo>
                <a:lnTo>
                  <a:pt x="493" y="216"/>
                </a:lnTo>
                <a:lnTo>
                  <a:pt x="423" y="330"/>
                </a:lnTo>
                <a:lnTo>
                  <a:pt x="352" y="449"/>
                </a:lnTo>
                <a:lnTo>
                  <a:pt x="233" y="546"/>
                </a:lnTo>
                <a:lnTo>
                  <a:pt x="119" y="617"/>
                </a:lnTo>
                <a:lnTo>
                  <a:pt x="0" y="714"/>
                </a:lnTo>
                <a:lnTo>
                  <a:pt x="119" y="807"/>
                </a:lnTo>
                <a:lnTo>
                  <a:pt x="233" y="714"/>
                </a:lnTo>
                <a:lnTo>
                  <a:pt x="352" y="687"/>
                </a:lnTo>
                <a:lnTo>
                  <a:pt x="423" y="807"/>
                </a:lnTo>
                <a:lnTo>
                  <a:pt x="401" y="927"/>
                </a:lnTo>
                <a:lnTo>
                  <a:pt x="352" y="1046"/>
                </a:lnTo>
                <a:lnTo>
                  <a:pt x="330" y="1165"/>
                </a:lnTo>
                <a:lnTo>
                  <a:pt x="260" y="1284"/>
                </a:lnTo>
                <a:lnTo>
                  <a:pt x="260" y="1398"/>
                </a:lnTo>
                <a:lnTo>
                  <a:pt x="379" y="1398"/>
                </a:lnTo>
                <a:lnTo>
                  <a:pt x="471" y="1284"/>
                </a:lnTo>
                <a:lnTo>
                  <a:pt x="493" y="1116"/>
                </a:lnTo>
                <a:lnTo>
                  <a:pt x="493" y="997"/>
                </a:lnTo>
                <a:lnTo>
                  <a:pt x="493" y="807"/>
                </a:lnTo>
                <a:lnTo>
                  <a:pt x="520" y="687"/>
                </a:lnTo>
                <a:lnTo>
                  <a:pt x="564" y="568"/>
                </a:lnTo>
                <a:lnTo>
                  <a:pt x="684" y="498"/>
                </a:lnTo>
                <a:lnTo>
                  <a:pt x="710" y="617"/>
                </a:lnTo>
                <a:lnTo>
                  <a:pt x="684" y="736"/>
                </a:lnTo>
                <a:lnTo>
                  <a:pt x="662" y="856"/>
                </a:lnTo>
                <a:lnTo>
                  <a:pt x="662" y="1068"/>
                </a:lnTo>
                <a:lnTo>
                  <a:pt x="825" y="1209"/>
                </a:lnTo>
                <a:lnTo>
                  <a:pt x="852" y="1328"/>
                </a:lnTo>
                <a:lnTo>
                  <a:pt x="852" y="1447"/>
                </a:lnTo>
                <a:lnTo>
                  <a:pt x="852" y="1566"/>
                </a:lnTo>
                <a:lnTo>
                  <a:pt x="971" y="1517"/>
                </a:lnTo>
                <a:lnTo>
                  <a:pt x="1015" y="1398"/>
                </a:lnTo>
                <a:lnTo>
                  <a:pt x="1015" y="1235"/>
                </a:lnTo>
                <a:lnTo>
                  <a:pt x="1041" y="1116"/>
                </a:lnTo>
                <a:lnTo>
                  <a:pt x="993" y="997"/>
                </a:lnTo>
                <a:lnTo>
                  <a:pt x="922" y="878"/>
                </a:lnTo>
                <a:lnTo>
                  <a:pt x="900" y="758"/>
                </a:lnTo>
                <a:lnTo>
                  <a:pt x="922" y="568"/>
                </a:lnTo>
                <a:lnTo>
                  <a:pt x="993" y="449"/>
                </a:lnTo>
                <a:lnTo>
                  <a:pt x="1112" y="476"/>
                </a:lnTo>
                <a:lnTo>
                  <a:pt x="1253" y="639"/>
                </a:lnTo>
                <a:lnTo>
                  <a:pt x="1275" y="807"/>
                </a:lnTo>
                <a:lnTo>
                  <a:pt x="1275" y="927"/>
                </a:lnTo>
                <a:lnTo>
                  <a:pt x="1275" y="1046"/>
                </a:lnTo>
                <a:lnTo>
                  <a:pt x="1275" y="1165"/>
                </a:lnTo>
                <a:lnTo>
                  <a:pt x="1345" y="1284"/>
                </a:lnTo>
                <a:lnTo>
                  <a:pt x="1491" y="1425"/>
                </a:lnTo>
                <a:lnTo>
                  <a:pt x="1513" y="1544"/>
                </a:lnTo>
                <a:lnTo>
                  <a:pt x="1632" y="1495"/>
                </a:lnTo>
                <a:lnTo>
                  <a:pt x="1654" y="1376"/>
                </a:lnTo>
                <a:lnTo>
                  <a:pt x="1606" y="1209"/>
                </a:lnTo>
                <a:lnTo>
                  <a:pt x="1562" y="1094"/>
                </a:lnTo>
                <a:lnTo>
                  <a:pt x="1535" y="975"/>
                </a:lnTo>
                <a:lnTo>
                  <a:pt x="1535" y="830"/>
                </a:lnTo>
                <a:lnTo>
                  <a:pt x="1562" y="714"/>
                </a:lnTo>
                <a:lnTo>
                  <a:pt x="1562" y="595"/>
                </a:lnTo>
                <a:lnTo>
                  <a:pt x="1676" y="568"/>
                </a:lnTo>
                <a:lnTo>
                  <a:pt x="1751" y="687"/>
                </a:lnTo>
                <a:lnTo>
                  <a:pt x="1725" y="807"/>
                </a:lnTo>
                <a:lnTo>
                  <a:pt x="1822" y="927"/>
                </a:lnTo>
                <a:lnTo>
                  <a:pt x="1893" y="1046"/>
                </a:lnTo>
                <a:lnTo>
                  <a:pt x="1915" y="1209"/>
                </a:lnTo>
                <a:lnTo>
                  <a:pt x="2034" y="1284"/>
                </a:lnTo>
                <a:lnTo>
                  <a:pt x="2224" y="1473"/>
                </a:lnTo>
                <a:lnTo>
                  <a:pt x="2414" y="1566"/>
                </a:lnTo>
                <a:lnTo>
                  <a:pt x="2436" y="1447"/>
                </a:lnTo>
                <a:lnTo>
                  <a:pt x="2387" y="1284"/>
                </a:lnTo>
                <a:lnTo>
                  <a:pt x="2273" y="1187"/>
                </a:lnTo>
                <a:lnTo>
                  <a:pt x="2198" y="1046"/>
                </a:lnTo>
                <a:lnTo>
                  <a:pt x="2105" y="927"/>
                </a:lnTo>
                <a:lnTo>
                  <a:pt x="2083" y="807"/>
                </a:lnTo>
                <a:lnTo>
                  <a:pt x="2056" y="687"/>
                </a:lnTo>
                <a:lnTo>
                  <a:pt x="2034" y="568"/>
                </a:lnTo>
                <a:lnTo>
                  <a:pt x="2153" y="524"/>
                </a:lnTo>
                <a:lnTo>
                  <a:pt x="2224" y="639"/>
                </a:lnTo>
                <a:lnTo>
                  <a:pt x="2246" y="758"/>
                </a:lnTo>
                <a:lnTo>
                  <a:pt x="2295" y="878"/>
                </a:lnTo>
                <a:lnTo>
                  <a:pt x="2343" y="997"/>
                </a:lnTo>
                <a:lnTo>
                  <a:pt x="2436" y="1116"/>
                </a:lnTo>
                <a:lnTo>
                  <a:pt x="2506" y="997"/>
                </a:lnTo>
                <a:lnTo>
                  <a:pt x="2458" y="878"/>
                </a:lnTo>
                <a:lnTo>
                  <a:pt x="2387" y="758"/>
                </a:lnTo>
                <a:lnTo>
                  <a:pt x="2365" y="639"/>
                </a:lnTo>
                <a:lnTo>
                  <a:pt x="2343" y="524"/>
                </a:lnTo>
                <a:lnTo>
                  <a:pt x="2273" y="405"/>
                </a:lnTo>
                <a:lnTo>
                  <a:pt x="2246" y="286"/>
                </a:lnTo>
                <a:lnTo>
                  <a:pt x="2127" y="189"/>
                </a:lnTo>
                <a:lnTo>
                  <a:pt x="2012" y="97"/>
                </a:lnTo>
                <a:lnTo>
                  <a:pt x="1893" y="119"/>
                </a:lnTo>
                <a:lnTo>
                  <a:pt x="1773" y="141"/>
                </a:lnTo>
                <a:lnTo>
                  <a:pt x="1654" y="141"/>
                </a:lnTo>
                <a:lnTo>
                  <a:pt x="1535" y="141"/>
                </a:lnTo>
                <a:lnTo>
                  <a:pt x="1416" y="48"/>
                </a:lnTo>
                <a:lnTo>
                  <a:pt x="1301" y="70"/>
                </a:lnTo>
                <a:lnTo>
                  <a:pt x="1204" y="189"/>
                </a:lnTo>
                <a:lnTo>
                  <a:pt x="1085" y="119"/>
                </a:lnTo>
                <a:lnTo>
                  <a:pt x="971" y="167"/>
                </a:lnTo>
                <a:lnTo>
                  <a:pt x="852" y="141"/>
                </a:lnTo>
                <a:lnTo>
                  <a:pt x="755" y="26"/>
                </a:lnTo>
                <a:lnTo>
                  <a:pt x="640" y="26"/>
                </a:lnTo>
                <a:lnTo>
                  <a:pt x="590" y="48"/>
                </a:lnTo>
                <a:lnTo>
                  <a:pt x="68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749160" y="1676520"/>
            <a:ext cx="164772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ic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720960" y="1477800"/>
            <a:ext cx="43275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sitive Crankcase Ventilation (PCV)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porative Emissions Ca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 Gas Recirculation (EGR)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talytic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749160" y="1676520"/>
            <a:ext cx="18972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icienc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ee-wa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taly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244680" y="1177920"/>
            <a:ext cx="5715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749160" y="1676520"/>
            <a:ext cx="1670040" cy="38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olu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3187800" y="895320"/>
            <a:ext cx="5791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749160" y="1676520"/>
            <a:ext cx="241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leston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utomotiv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720960" y="865080"/>
            <a:ext cx="4876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52 - Autos linked to ai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63 - Original CAA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PCV va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68 - HC &amp; CO exhaust contr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0 - CAA amendment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EPA for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1 - Evaporative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2 - First I/M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3 - NOx exhaust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5 - First catalytic conve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81 - New cars meet statutory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89 - Volatility limits on gaso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90 - New CAA Amend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749160" y="1676520"/>
            <a:ext cx="132084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ea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720960" y="560520"/>
            <a:ext cx="4807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gress fou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people now live in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Growth results in ai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endangers living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t decid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evention and control at the source was appropr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ch efforts are the responsibility of states and local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ederal funds and leadership are essential for the development of effective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749160" y="1676520"/>
            <a:ext cx="1501920" cy="26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fic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06840" y="1828800"/>
            <a:ext cx="25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195720" y="1014480"/>
            <a:ext cx="55119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749160" y="1676520"/>
            <a:ext cx="231300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Fue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645000" y="399960"/>
            <a:ext cx="494496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NVFEL is located in Ann Arbor, Michigan.  It is the government's national lab for motor fuels, mobile source emissions and fue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 1000 vehicles tested an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from manufacturers for cer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from local owners for recall or calculations of ai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work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testing of heavy duty eng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testing of nonroad mobil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research on new pollu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evelopment of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writing of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analysis of fuels &amp; fuel addi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749160" y="1676520"/>
            <a:ext cx="20336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ew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ct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out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V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720960" y="349200"/>
            <a:ext cx="453240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ilt for EPA as an emissions laboratory in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ld to EPA in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building covers 3 acres on grounds of 15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bout 500 people are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tility costs are over $1M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jor additions in process but more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dditional office space to be 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749160" y="1676520"/>
            <a:ext cx="175248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720960" y="714240"/>
            <a:ext cx="487692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ert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demonstrates that prototypes can me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lective Enforcement Audi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(SEA): tests production vehicles at the end of the assembl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cal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monitors in-use vehicles to be sure they continue to meet standards during their "useful lif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ssion Facto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tests in-use vehicles for calculations and projections of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spection/Maintenan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performed by state or local authorities to minimize effect of gross poll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49160" y="1676520"/>
            <a:ext cx="156528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en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ys 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3828960" y="865080"/>
            <a:ext cx="4584600" cy="53085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873840" y="6916680"/>
            <a:ext cx="76320" cy="87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749160" y="1676520"/>
            <a:ext cx="1752480" cy="38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3282840" y="1015920"/>
            <a:ext cx="56386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749160" y="1676520"/>
            <a:ext cx="220968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haus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720960" y="485640"/>
            <a:ext cx="460224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formed in the lab on a "chassis dynamometer" which simulates forces encountered on the r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basic test for emissions and city fuel economy is a trip to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way fuel economy is based on suburban and rural dr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 gases are sampled during the tests and analyzed after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ance travelled is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sults are expressed in grams per mile and miles per ga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749160" y="1676520"/>
            <a:ext cx="25416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aporativ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0960" y="787320"/>
            <a:ext cx="473868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formed in the lab using a SHED (Sealed Housing for Evaporative Determin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two part test approximates conditions encountered by a vehicle on a typical summ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Diurnal (daily) part measures vapors which escape from the vehicle as the fuel warm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ot Soak part measures vapors which are given off from a hot engine and fue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749160" y="1676520"/>
            <a:ext cx="177156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Car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ean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797280" y="5638680"/>
            <a:ext cx="50752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cent change compared to new cars of the 1970 Mode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3270240" y="879480"/>
            <a:ext cx="56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749160" y="1676520"/>
            <a:ext cx="183528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206880" y="1371600"/>
            <a:ext cx="5245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749160" y="1676520"/>
            <a:ext cx="183528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3589200" y="1239840"/>
            <a:ext cx="51814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749160" y="1676520"/>
            <a:ext cx="19400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3562200" y="812880"/>
            <a:ext cx="507996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720960" y="811080"/>
            <a:ext cx="46022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749160" y="1676520"/>
            <a:ext cx="216864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720960" y="946080"/>
            <a:ext cx="45338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trolling air pollution is difficult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 are making headway  despite  oppos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tor vehicles are doing reasonabl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re is some spirit of cooperation between EPA, the public, the regulated industry and the aff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spite successes, there is still much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749160" y="1676520"/>
            <a:ext cx="1898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x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AA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1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541680" y="852480"/>
            <a:ext cx="2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720960" y="1125360"/>
            <a:ext cx="48769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hiev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liance with NAAQ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o protect public health for over 74 millio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 Acid Ra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o protect lakes, monuments, visibility and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 Air Toxic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hich cause cancer and major problems for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tect the Ozone Lay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o minimize increases in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749160" y="1676520"/>
            <a:ext cx="177336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le-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720960" y="1123920"/>
            <a:ext cx="4876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4000"/>
              </a:lnSpc>
              <a:spcBef>
                <a:spcPts val="158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3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vironment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omic Growth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rgy Poli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58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rket-bas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approaches will seek innovative strategies to allow the greatest benefit fo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58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sensus-build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requires coordination with all interested parties and will result in joint ventures with state and local governments and consultation and negotiations with industry and environment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749160" y="1676520"/>
            <a:ext cx="21337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por-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720960" y="1062000"/>
            <a:ext cx="501336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tter Control of In-Use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10% of cars cause half of all the hydrocarbon emissions from th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tuned cars are clean and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leaner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advances possible, even with gas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less uncertainty about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"green" products are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749160" y="1676520"/>
            <a:ext cx="236232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sic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vi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720960" y="620640"/>
            <a:ext cx="501336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ngthen Key Components of Earlier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Tighter tailpip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Expansion of I/M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Tampering illegal f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Extended d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Constraints on lead and ad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mplement New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On-boar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Clean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Non-road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Alternative transport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749160" y="1676520"/>
            <a:ext cx="1447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720960" y="917640"/>
            <a:ext cx="48769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lmost no emission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since new controls and clean fuels will virtually eliminate tailpipe pollution while new fuels and various trapping techniques, solvent-free adhesives, water-based paint and replacement of CFCs will minimize evaporativ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 Fuel Economy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due to powertrain mods, aerodynamics and lightweigh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d Air Toxic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hrough new fuels and elimination of parts with asbestos, mercury, cadmium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cyclable or Degradable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hanced Safety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749160" y="1676520"/>
            <a:ext cx="13986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n D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720960" y="689040"/>
            <a:ext cx="525780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 aw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of issues and developments in thi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 supportiv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he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intain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 carefu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hen refu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rive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elp reduce VMT (Vehicle Miles Trave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plan your er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promote car 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use public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walk or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703440" y="1422360"/>
            <a:ext cx="78645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11000"/>
              </a:lnSpc>
              <a:spcBef>
                <a:spcPts val="527"/>
              </a:spcBef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br>
              <a:rPr sz="48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ir Pollution</a:t>
            </a:r>
            <a:br>
              <a:rPr sz="48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tor Vehicle Emi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08320" y="503280"/>
            <a:ext cx="2556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749160" y="1676520"/>
            <a:ext cx="1523880" cy="145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ak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20960" y="1150920"/>
            <a:ext cx="53341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ohn T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sistant to the Director, Engineering Operation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.S. Environmental Protection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tional Vehicle and Fuel Emissions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65 Plymouth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n Arbor, Michigan  48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13) 668-43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X: (313) 668-44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49160" y="1676520"/>
            <a:ext cx="188136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111480" y="2590920"/>
            <a:ext cx="22860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tionary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bustion of fuels for power and he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burning such as incineration or forest fi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dustrial/commercial proc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lvents and aeros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889600" y="2819520"/>
            <a:ext cx="27082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bile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way vehicles: cars, trucks, buses and motorcy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Off-highway vehicles such as aircraft, boats, locomotives, farm equipment, RVs, construction machinery and lawn mow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978280" y="336600"/>
            <a:ext cx="5435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49160" y="1676520"/>
            <a:ext cx="177336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imar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20960" y="1017720"/>
            <a:ext cx="4602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Monoxide (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Volatile Organic Compounds (VO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xides of Nitrogen (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lfur Dioxide (SO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iculate Matter (PM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ead (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749160" y="1676520"/>
            <a:ext cx="210996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rb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oxid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C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97280" y="550800"/>
            <a:ext cx="4532400" cy="59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dorless, colorles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used by incomplete combustion of fuel and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of it comes from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s the transport of oxygen through the blood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ffects mental functions and visual acuity, even at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mprovements are being made but there are still problems in some urban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49160" y="1676520"/>
            <a:ext cx="25923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lati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ound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VO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797280" y="1106640"/>
            <a:ext cx="46022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General term for a wide range of hydrocarbon comp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VOCs result from combustion processes and evaporation of gasoline vapors, solvent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contribute to Global Wa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sunlight, they combine with NOx to form ozone (smo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zone irritates eyes, aggravates respiratory ills, damages c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ozone problem is the one affecting the most people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 EPA/OMS</dc:creator>
  <dc:description/>
  <dc:language>en-US</dc:language>
  <cp:lastModifiedBy>Craig Harvey</cp:lastModifiedBy>
  <cp:revision>0</cp:revision>
  <dc:subject/>
  <dc:title>Fundamentals of Air Pollution and Motor Vehicle Emissions</dc:title>
</cp:coreProperties>
</file>